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42.jpeg" ContentType="image/jpeg"/>
  <Override PartName="/ppt/media/IL%20DIVO%20Unchained%20M%C3%A9lody...wav" ContentType="audio/x-wav"/>
  <Override PartName="/ppt/media/image26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EF2-A233-43DC-A90F-5F8789BB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C32-FABF-421A-9C8A-3E49E22A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DBA-17BB-457D-A679-B999FAD6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ADA-2978-41D6-A5E6-434EB8E6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26E-943E-4DDE-B9E4-D644EF1B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54D-83F9-49DE-9CC9-45C84F5B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69A-3F87-49ED-A0BF-67FCFA38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261-9559-4DC8-AA49-64C97EF5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760-1830-49AC-A0F3-836B4054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222-BCE3-4CE9-8DA9-BB619F28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1C8-4BC7-4FCD-BE7A-B1430A2D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224-950A-4C53-8033-8EA3779D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299F-2057-4A86-BD87-A5545921F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IL%20DIVO%20Unchained%20M&#233;lody...wav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2133720"/>
            <a:ext cx="65530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ASMIRA"/>
              </a:rPr>
              <a:t>L'EA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latin typeface="CASMIRA"/>
              <a:ea typeface="CASMIR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4120" y="5867280"/>
            <a:ext cx="30002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IL%20DIVO%20Unchained%20M%C3%A9lody..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228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086600" y="60958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ICRODOT"/>
              </a:rPr>
              <a:t>FI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ICRODOT"/>
              <a:ea typeface="MICRODOT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80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’EST BIEN AGREABLE DE VOIR TOUTE CETTE EAU…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95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T IL FAIT BEAU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0:34:15Z</dcterms:created>
  <dc:creator>System User</dc:creator>
  <dc:description/>
  <dc:language>en-US</dc:language>
  <cp:lastModifiedBy>Monique </cp:lastModifiedBy>
  <dcterms:modified xsi:type="dcterms:W3CDTF">2008-03-14T14:03:34Z</dcterms:modified>
  <cp:revision>8</cp:revision>
  <dc:subject/>
  <dc:title>Slide 1</dc:title>
</cp:coreProperties>
</file>