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613-1E07-440C-BD3D-77458CF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833-AAA1-4F61-9730-65ECEA2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B42-94BD-4C0B-88F8-6D7FD634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11B-6452-4888-91AC-98BB31CE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36C-D28C-4ECC-883D-5899DD0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115-EF4D-495E-8361-8F7F90D5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3D1-6D3A-4545-A89F-A4A75D3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5F4-3B11-4FF5-BE82-4347A20A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B03-0A2A-4DC6-A5D9-86F6431F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E49-AD85-46F7-82B3-ED0A5E9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CD8-D245-4980-A739-0A1EA512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F06-4709-4FC0-A298-7EFE645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E343-CFE2-4954-8F5B-D1DB9F5B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133720"/>
            <a:ext cx="6553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ASMIRA"/>
              </a:rPr>
              <a:t>L'EA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latin typeface="CASMIRA"/>
              <a:ea typeface="CASMIR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4120" y="5867280"/>
            <a:ext cx="3000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IL%20DIVO%20Unchained%20M%C3%A9lody..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228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086600" y="60958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CRODOT"/>
              </a:rPr>
              <a:t>F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CRODOT"/>
              <a:ea typeface="MICRODOT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’EST BIEN AGREABLE DE VOIR TOUTE CETTE EAU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T IL FAIT BEA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System User</dc:creator>
  <dc:description/>
  <dc:language>en-US</dc:language>
  <cp:lastModifiedBy>Monique </cp:lastModifiedBy>
  <dcterms:modified xsi:type="dcterms:W3CDTF">2008-03-14T14:03:34Z</dcterms:modified>
  <cp:revision>8</cp:revision>
  <dc:subject/>
  <dc:title>Slide 1</dc:title>
</cp:coreProperties>
</file>