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C68-98BD-41FC-AAE7-0249C3FF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E06-F041-4C0B-9A0B-5691962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6C9-10E4-472F-ACBF-62BF12B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F1D-FAC8-4251-BD26-FBFE4A73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F21-7CF6-4804-ACD9-A7D52DAD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ECE-4231-4F7B-AB09-338F93EE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CEC-033F-48E0-8D06-64C23E08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E8D-65BF-43F4-A48E-5F9A689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CF7-9A1F-4D1B-9478-4DD76DE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6C8-9AA7-411B-B4C5-4CCCFA5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43A-0213-42FB-9D2D-D2DBD36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CA3-9343-455A-BA7C-53CF7C3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5B89-3FBD-418D-889B-4AF8018F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Francisco</cp:lastModifiedBy>
  <dcterms:modified xsi:type="dcterms:W3CDTF">2010-02-24T01:24:50Z</dcterms:modified>
  <cp:revision>2</cp:revision>
  <dc:subject/>
  <dc:title/>
</cp:coreProperties>
</file>