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Titanic,%20Andr%C3%A9%20Rieu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B8F-2FEB-4AAF-A283-6678B4F1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74E-B657-4C16-92D2-DC8A14C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B62-0CA4-4D37-B988-634B1019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DC8-51A1-40FE-BDF4-0B9DD334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7EC-1B34-4AD4-9CBC-448A0EA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C8A-7A99-48A1-8081-179D85F9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E82-6E27-4D16-8571-5445B996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089-632E-4389-8B11-DDDD7DD4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28B-0238-40DC-ABDB-2BF07F8E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344A-9D10-4D37-92EA-03B1DB4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36C-4A76-4682-AC97-2AE4472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338-762C-4E99-B577-5B2E309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41BB-10AF-4C06-AF47-7BFCE111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tanic,%20Andr&#233;%20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  <p:sndAc>
      <p:stSnd>
        <p:snd r:embed="rId2" name="Titanic,%20Andr%C3%A9%20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1508" t="0" r="0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531" t="0" r="69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6646" t="0" r="45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256" t="0" r="59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543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4520" y="0"/>
            <a:ext cx="6116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744" t="0" r="5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7484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890" t="0" r="26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3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122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018" r="0" b="10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2546" r="0" b="2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0:17:54Z</dcterms:created>
  <dc:creator/>
  <dc:description/>
  <dc:language>en-US</dc:language>
  <cp:lastModifiedBy>Francisco</cp:lastModifiedBy>
  <dcterms:modified xsi:type="dcterms:W3CDTF">2010-02-24T01:24:50Z</dcterms:modified>
  <cp:revision>2</cp:revision>
  <dc:subject/>
  <dc:title/>
</cp:coreProperties>
</file>