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the_hawaiian_wedding_song_don_ho.wav" ContentType="audio/x-wav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9F0-DD1B-4459-AAA2-60CD9BE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8B0-01F6-47BC-807F-7AEA4D72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FDA-60B4-419D-8EC4-5DF65DB6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A10-0EE5-4600-AFD7-2D5455C7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CEA-B455-429E-A2B1-F0791DB4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D4D-54A2-4983-BED7-85FDD445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D29-67EC-4753-AB69-B15A8DE8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990-2A10-4CB7-80CA-FA480674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F41-ACAE-417E-9E28-EB37D7D9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DD4-1824-4B27-A444-9DE1878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995-3DC5-4BEE-8F68-09594F07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8BB-A8F4-4E95-AD03-9ACF85AA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321E-EEA7-4F9C-AE5B-480AC2A0C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e_hawaiian_wedding_song_don_ho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ricgrohemurals.com/projects/crossroad/crossroad_lg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600200"/>
            <a:ext cx="5029200" cy="10994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6600" spc="-1" strike="noStrike">
                <a:solidFill>
                  <a:srgbClr val="000000"/>
                </a:solidFill>
                <a:latin typeface="Arial"/>
              </a:rPr>
              <a:t>Eric Gro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878360"/>
            <a:ext cx="8534520" cy="916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99cc00"/>
                </a:solidFill>
                <a:latin typeface="Arial"/>
              </a:rPr>
              <a:t>Eric Grohe es un artista de grandes murales de estilo real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99cc00"/>
                </a:solidFill>
                <a:latin typeface="Arial"/>
              </a:rPr>
              <a:t>Convierte paredes en verdaderas obras de 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800" spc="-1" strike="noStrike">
                <a:solidFill>
                  <a:srgbClr val="99cc00"/>
                </a:solidFill>
                <a:latin typeface="Arial"/>
              </a:rPr>
              <a:t>El tamaño de las obras y el cuidado de los detalles son increí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34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77520"/>
            <a:ext cx="822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99cc00"/>
                </a:solidFill>
                <a:latin typeface="Arial"/>
              </a:rPr>
              <a:t>Veamos la forma de mejorar la apariencia de otra  pared de Nueva Y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031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18080" y="59436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3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430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23920" y="5409000"/>
            <a:ext cx="541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na vez terminado me pregu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¿ Cuántas aves chocarán contra esta pared ?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62940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71240" y="575136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MUROS INTERNOS ANTES DE PINT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13160" y="601992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47880"/>
            <a:ext cx="761976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06200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86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609876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Ya terminado el pasado se encuentra con el presente: Ganchos, tableros y delantales son añadidos para contribuir con la ilusión. La pared es toda pl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cc00"/>
                </a:solidFill>
                <a:latin typeface="Arial"/>
              </a:rPr>
              <a:t>Veamos cuatro paredes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cc00"/>
                </a:solidFill>
                <a:latin typeface="Arial"/>
              </a:rPr>
              <a:t>después de ser pintadas por Eric Gro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38880" cy="51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7895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Eric trabaja a una altura de 30 pies de alto. El hace la mayor parte del trabajo solo y comienza desde la nada. Su esposa que es artista es su ayudante de proy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5562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Que tengas un bello d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200400" cy="3124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43800" y="6186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A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89480" y="853920"/>
            <a:ext cx="207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F I 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33480" y="228600"/>
            <a:ext cx="727704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6229080"/>
            <a:ext cx="609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LA PARED ANTES DE COMENZAR SU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80880"/>
            <a:ext cx="13716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867280" cy="438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5667840"/>
            <a:ext cx="649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Empieza a trabajar y la pared comienza a tomar una forma tridimen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23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6095880"/>
            <a:ext cx="45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FINALMENTE QUEDA A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50040" cy="292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4320" y="5060160"/>
            <a:ext cx="4956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42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Cruce de calle americana – Bucyrus, Oh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NT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8920" y="527040"/>
            <a:ext cx="8966160" cy="580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4600" y="6477120"/>
            <a:ext cx="27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3505320" cy="289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1911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63868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00"/>
                </a:solidFill>
                <a:latin typeface="Arial"/>
              </a:rPr>
              <a:t>MANOS A L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749840" cy="624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6244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DESPUES  (Ahora es difícil de creer que estés mirando una pared lis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4:55:19Z</dcterms:created>
  <dc:creator>My Computer</dc:creator>
  <dc:description/>
  <dc:language>en-US</dc:language>
  <cp:lastModifiedBy>Guillermo Gomez</cp:lastModifiedBy>
  <dcterms:modified xsi:type="dcterms:W3CDTF">2007-01-16T11:35:35Z</dcterms:modified>
  <cp:revision>5</cp:revision>
  <dc:subject/>
  <dc:title>Slide 1</dc:title>
</cp:coreProperties>
</file>