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the_hawaiian_wedding_song_don_ho.wav" ContentType="audio/x-wav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102-6355-4D9F-B8F2-5F68BA9B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512-EF8B-4978-A9B7-74793F01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7D6-6108-4354-BF28-5AF46012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C8D-799B-45E2-8BDE-0F0F93BC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6E0-9248-4725-91E9-928992C3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DAB-82D8-4CBD-B2EB-31FB8C59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678-22FE-4FE9-8BC3-FA3887AD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7EA-3DAF-44F0-B964-C16F0B32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A46-D0B6-429E-9925-FC8F96F3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382-866E-44CB-9901-4A9A2957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BEA-DDFF-4443-837A-20934450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466-1C08-483D-944A-D633BDFF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7D33-9039-4FA4-A7B0-218FEC0F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he_hawaiian_wedding_song_don_ho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ricgrohemurals.com/projects/crossroad/crossroad_lg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600200"/>
            <a:ext cx="5029200" cy="109944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6600" spc="-1" strike="noStrike">
                <a:solidFill>
                  <a:srgbClr val="000000"/>
                </a:solidFill>
                <a:latin typeface="Arial"/>
              </a:rPr>
              <a:t>Eric Gro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878360"/>
            <a:ext cx="8534520" cy="916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99cc00"/>
                </a:solidFill>
                <a:latin typeface="Arial"/>
              </a:rPr>
              <a:t>Eric Grohe es un artista de grandes murales de estilo reali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99cc00"/>
                </a:solidFill>
                <a:latin typeface="Arial"/>
              </a:rPr>
              <a:t>Convierte paredes en verdaderas obras de a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99cc00"/>
                </a:solidFill>
                <a:latin typeface="Arial"/>
              </a:rPr>
              <a:t>El tamaño de las obras y el cuidado de los detalles son increí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34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677520"/>
            <a:ext cx="82234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42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99cc00"/>
                </a:solidFill>
                <a:latin typeface="Arial"/>
              </a:rPr>
              <a:t>Veamos la forma de mejorar la apariencia de otra  pared de Nueva Y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031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18080" y="594360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DESP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3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430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23920" y="5409000"/>
            <a:ext cx="541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Una vez terminado me pregu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¿ Cuántas aves chocarán contra esta pared ?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62940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71240" y="575136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MUROS INTERNOS ANTES DE PINT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13160" y="60199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DESP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947880"/>
            <a:ext cx="7619760" cy="49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062000"/>
            <a:ext cx="761976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5867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609876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Ya terminado el pasado se encuentra con el presente: Ganchos, tableros y delantales son añadidos para contribuir con la ilusión. La pared es toda pl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cc00"/>
                </a:solidFill>
                <a:latin typeface="Arial"/>
              </a:rPr>
              <a:t>Veamos cuatro paredes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cc00"/>
                </a:solidFill>
                <a:latin typeface="Arial"/>
              </a:rPr>
              <a:t>después de ser pintadas por Eric Gro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238880" cy="51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57895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Eric trabaja a una altura de 30 pies de alto. El hace la mayor parte del trabajo solo y comienza desde la nada. Su esposa que es artista es su ayudante de proye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5562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Que tengas un bello d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200400" cy="3124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43800" y="6186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A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89480" y="853920"/>
            <a:ext cx="207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Arial"/>
              </a:rPr>
              <a:t>F I 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33480" y="228600"/>
            <a:ext cx="727704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6229080"/>
            <a:ext cx="609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42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LA PARED ANTES DE COMENZAR SU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80880"/>
            <a:ext cx="13716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867280" cy="438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5667840"/>
            <a:ext cx="649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Empieza a trabajar y la pared comienza a tomar una forma tridimen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23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6095880"/>
            <a:ext cx="45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FINALMENTE QUEDA AS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50040" cy="2921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64320" y="5060160"/>
            <a:ext cx="4956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42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Cruce de calle americana – Bucyrus, Oh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NT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8920" y="527040"/>
            <a:ext cx="8966160" cy="580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4600" y="6477120"/>
            <a:ext cx="27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DESP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3505320" cy="2895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41911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5638680"/>
            <a:ext cx="27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MANOS A L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4749840" cy="624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6244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DESPUES  (Ahora es difícil de creer que estés mirando una pared lis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4:55:19Z</dcterms:created>
  <dc:creator>My Computer</dc:creator>
  <dc:description/>
  <dc:language>en-US</dc:language>
  <cp:lastModifiedBy>Guillermo Gomez</cp:lastModifiedBy>
  <dcterms:modified xsi:type="dcterms:W3CDTF">2007-01-16T11:35:35Z</dcterms:modified>
  <cp:revision>5</cp:revision>
  <dc:subject/>
  <dc:title>Slide 1</dc:title>
</cp:coreProperties>
</file>