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media/image24.png" ContentType="image/pn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18.jpeg" ContentType="image/jpeg"/>
  <Override PartName="/ppt/media/UM%20BOM%20MOTIVO.wav" ContentType="audio/x-wav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6F1-6815-4CA7-92E6-AEA8936D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3FD8-5F41-4895-A3D4-FEF3DC06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283B-9EB0-4D3D-A914-36305DF5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064-0219-488D-8AC7-D77759B6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F4E-0BED-48C5-9789-5E9A43C3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1B9B-C420-4921-AA00-7C1B1C62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E4AD-E6C8-4927-8D49-91A7DF92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A88-FA77-478A-B622-DCBE9414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28D1-A02A-4020-A593-C51DB41F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D4F-787F-41FB-93F4-05ED2683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7F30-02B2-47FA-BDE1-98E3339D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62A-6213-4353-9C5B-347DA419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A9F4-BFCB-4213-AFA8-5142C0C976A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M%20BOM%20MOTIV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UM%20BOM%20MOTIVO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UM%20BOM%20MOTIVO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197000"/>
            <a:ext cx="6985080" cy="4824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87640" y="333360"/>
            <a:ext cx="38098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ridos padres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6181560"/>
            <a:ext cx="30099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s queremos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o hacen más planes a largo plazo, ahora se dedican a pequeñas aventuras, como comer a escondidas todo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lo que el médico le prohibio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34204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ienen manchas en la piel.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 repente estan tristes.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e quedan sordos y nosotros nos enfadamos porque entienden al revé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0" b="11404"/>
          <a:stretch/>
        </p:blipFill>
        <p:spPr>
          <a:xfrm>
            <a:off x="2268360" y="1628640"/>
            <a:ext cx="479268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 triste aceptar que nuestros heroes y heroínas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ya no están con el control de la situación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1217520"/>
            <a:ext cx="705816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on frágiles y un poco olvidadizos, tienen este derecho, pero seguimos exigiendoles que sean fuertes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o admitimos sus flaquezas, sus torpezas...y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¡Les gritam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0" b="13618"/>
          <a:stretch/>
        </p:blipFill>
        <p:spPr>
          <a:xfrm>
            <a:off x="2556000" y="1628640"/>
            <a:ext cx="419580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360" y="260280"/>
            <a:ext cx="91440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os irritamos si se equivocan con el móvil u otro electrodoméstico,  y encima no tenemos paciencia para oir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193080" cy="50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n vez de aceptar con serenidad el hecho de que adoptan un ritmo mas lento con el pasar de los años, simplemente nos llenamos de ira y ellos lo saben, lo notan...y lloran a escondidas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omos crueles con los que nos lo dieron ¡TODO!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47640" y="215892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vocamos discusiones inutiles y nos enojamos con nuestra insistencia para que todo siga como siempre fue.                   ¡Que torpez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632720" cy="50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uestra intolerancia sólo les hará que se sientan inútiles.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ólo les hará sufrir mucho.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¿Dónde está nuestro amor y nuestra empatía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54738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 nuestros  enojos, sólo provocamos más tristeza a aquellos que un día sólo procuraron darnos alegrias.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¿Por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761080" cy="510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¿Por que no conseguimos ser un poco de lo que ellos fueron para nosotros? ¿Cuantas veces estos heroes y heroínas estuvieron noches enteras junto a nosotros, medicando, cuidando y pendiente de nuestra fiebre o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90204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721080" y="274320"/>
            <a:ext cx="1033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adres y madres héroes de nuestra vida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uando somos peque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400356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Y nos enojamos cuando ellos se olvidan de tomar sus medicinas, y al pelear con ellos, los dejamos sufriendo, doloridos y pensando que no les queremos como ellos a nosotr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lvidamos tanto amor como nos dieron, que resultamos ser hijos desagradecid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0" b="17131"/>
          <a:stretch/>
        </p:blipFill>
        <p:spPr>
          <a:xfrm>
            <a:off x="2050920" y="1557360"/>
            <a:ext cx="504216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6036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uando ellos fueron nuestros pilares, aquellos para los cuales siempre podíamos volver y sabíamos que estarían con sus brazos abiertos, y que ahora están dando señales de que un día se irán sin nosotr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8487" r="0" b="19295"/>
          <a:stretch/>
        </p:blipFill>
        <p:spPr>
          <a:xfrm>
            <a:off x="2125800" y="1844640"/>
            <a:ext cx="475128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Hagamos por ellos hoy lo mejor, lo máximo que podemos, para que mañana cuando ya no estén ... No nos arrepintámos por lo que no hicim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1716120"/>
            <a:ext cx="7632720" cy="51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... Y podamos recordar sus sonrisas de alegría y no de las lagrimas de tristeza que ellos hayan derramado por causa nues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0506"/>
          <a:stretch/>
        </p:blipFill>
        <p:spPr>
          <a:xfrm>
            <a:off x="2700360" y="1628640"/>
            <a:ext cx="397044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l final, nuestros heroes de ayer..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04000" cy="51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ran nuestros heroes eternamente 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44053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55840" y="0"/>
            <a:ext cx="369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7360" y="-340560"/>
            <a:ext cx="902664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Mis Padres, cuando Yo tenía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4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Mis papás pueden hacer de todo. </a:t>
            </a: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5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Mis papás saben un montón. </a:t>
            </a: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6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Mis papás son más inteligentes que los tuyos. </a:t>
            </a: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8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Mis papás no saben exactamente todo. </a:t>
            </a: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10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En la época en que mis papás crecieron, las cosas eran distintas. </a:t>
            </a: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12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Mis padres no saben nada de eso. </a:t>
            </a: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14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No le hagas caso a mis viejos.  ¡Son tan anticuados! </a:t>
            </a: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21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Están fuera de onda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2680" y="-194400"/>
            <a:ext cx="85820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25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Mis padres  saben un poco de eso.</a:t>
            </a: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30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No voy a hacer nada hasta no hablar con ellos. </a:t>
            </a: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40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Me pregunto cómo habría manejado esto mis padres.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Eran muy inteligentes y tenían un mucha  experiencia. </a:t>
            </a:r>
            <a:br>
              <a:rPr sz="2800"/>
            </a:br>
            <a:r>
              <a:rPr b="1" lang="pt-BR" sz="2800" spc="-1" strike="noStrike">
                <a:solidFill>
                  <a:srgbClr val="ff0000"/>
                </a:solidFill>
                <a:latin typeface="Papyrus"/>
              </a:rPr>
              <a:t>50 años</a:t>
            </a: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 : Daría cualquier cosa por que estuvieran aquí y poder hablar esto con ellos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Lástima que no valoré lo inteligentes que eran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Papyrus"/>
              </a:rPr>
              <a:t>Podría haber aprendido mucho de los 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476360" y="549360"/>
            <a:ext cx="6543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cias papá, gracias mamá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47640" y="1736640"/>
            <a:ext cx="5761080" cy="512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Hasta que un día el padre héroe comienza a pensar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odo el tiempo, protesta bajito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y habla de cosas que no tienen ni pie ni cabez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956360" cy="52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Y la heroína comienza a tener dificultades en terminar las fr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484056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¿Que hicieron papá y mamá para envejecer de un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ía para  otro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21496"/>
          <a:stretch/>
        </p:blipFill>
        <p:spPr>
          <a:xfrm>
            <a:off x="1547640" y="1268280"/>
            <a:ext cx="6264360" cy="55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nvejecieron... 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uestros padres envejecieron.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adie nos había preparado para 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61440" cy="50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Un día ellos pierden la compostura, se vuelven más vulnerables y adquieren unas manías boba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488360" cy="50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tán cansados de cuidar de los otros y de servir de ejemplo: ahora llegó el momento de ser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Arial"/>
              </a:rPr>
              <a:t>cuidados y mimados por nosotr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121440" cy="47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ienen muchos kilometros andados y saben todo, y lo que no saben lo inventa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19447"/>
          <a:stretch/>
        </p:blipFill>
        <p:spPr>
          <a:xfrm>
            <a:off x="2124000" y="1197000"/>
            <a:ext cx="4822920" cy="5661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09:10:04Z</dcterms:created>
  <dc:creator>Miguel Rueda</dc:creator>
  <dc:description>Texto de Autoria de Marha Medeiros, formatado por Paulo Benites, em Piracicaba-SP, em 18 de outubro de 2005, ás 07:42 horas.</dc:description>
  <cp:keywords>JESUS CRISTO</cp:keywords>
  <dc:language>en-US</dc:language>
  <cp:lastModifiedBy>Miguel Rueda</cp:lastModifiedBy>
  <dcterms:modified xsi:type="dcterms:W3CDTF">2008-01-04T09:46:31Z</dcterms:modified>
  <cp:revision>2</cp:revision>
  <dc:subject/>
  <dc:title>Diapositiva 1</dc:title>
</cp:coreProperties>
</file>