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BF7-4817-4C66-9E83-012635FD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F08-C327-487E-9C0D-AB5B5F1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CC8-B83E-4E73-A525-E88E4C99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985-13D1-43D5-864C-F17F911A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82A-685C-4DC4-B4FA-B68668D0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E7E-66E9-4A41-8197-69EFB8E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3F5-44E9-4D9A-A5E6-AA81F6F2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8AD-64E9-4644-8890-409F686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134-C051-4BFC-91D3-AAC0C9D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3BB-E242-4545-B277-00C57CB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AC2-E2B8-46A9-A33C-1CEC18FF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4ED-D7FD-4DA5-B583-2CAC046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D276-75AC-444E-89A8-0515E5F3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303048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5292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9:39:40Z</dcterms:created>
  <dc:creator>Alexandrovich</dc:creator>
  <dc:description/>
  <dc:language>en-US</dc:language>
  <cp:lastModifiedBy>Usuario</cp:lastModifiedBy>
  <dcterms:modified xsi:type="dcterms:W3CDTF">2005-04-12T19:53:44Z</dcterms:modified>
  <cp:revision>2</cp:revision>
  <dc:subject/>
  <dc:title>Diapositiva 1</dc:title>
</cp:coreProperties>
</file>