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4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33A-4418-4114-B1B8-311D7944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595-36A9-4EB1-93F4-E795DDAC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9F2-60B2-4A20-970E-5D1B019A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66D-C467-4C4F-BBFA-4A9FD52C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A3A-A9E4-4D8B-894A-EE165F9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169-77EF-4FE1-ABEA-4562D96D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F94-F6BB-47ED-9E1B-196D0052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731-1DAC-4A6F-8B20-07F2019D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944-F630-4314-8A59-E5D25831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B63-1A45-47A0-A279-1141FB4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08B-CEA9-45D6-A0A1-BA04309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A54-7746-4A0E-B322-D57DC4B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284-792D-4E56-842C-8F0D78C99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303048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5292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9:39:40Z</dcterms:created>
  <dc:creator>Alexandrovich</dc:creator>
  <dc:description/>
  <dc:language>en-US</dc:language>
  <cp:lastModifiedBy>Usuario</cp:lastModifiedBy>
  <dcterms:modified xsi:type="dcterms:W3CDTF">2005-04-12T19:53:44Z</dcterms:modified>
  <cp:revision>2</cp:revision>
  <dc:subject/>
  <dc:title>Diapositiva 1</dc:title>
</cp:coreProperties>
</file>