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564-B925-4B5A-883C-865864D6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EFF-B3CD-4A5E-AB55-554BACDE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C2A-E9D3-48FE-955A-BB20B482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47D-CD1C-46F7-B44B-C99E107A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BC1-7E5B-48FD-A1F2-6113F929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AAB-4DF1-4E4D-A87B-E24DBB4B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0B7-113D-4DFB-A9EB-55D1D8DF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1BF-68BF-4B3C-B4EB-6726A350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D19-3809-4F5B-A172-93BD6703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E93-E42C-420F-A870-307D16BF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660-1194-4797-8F34-6A02627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052-EBDE-4A24-99B0-F348B5BB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CEB6-1CFC-4BE7-9EC5-F6765CF9155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bcampp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us air force band - army, air force, navy, marines medley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3 Marcador de contenido" descr="bcampp2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Marcador de contenido" descr="bcampp2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3 Marcador de contenido" descr="bcampp3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3 Marcador de contenido" descr="bcampp3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3 Marcador de contenido" descr="bcampp3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3 Marcador de contenido" descr="bcampp3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3 Marcador de contenido" descr="bcampp3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3 Marcador de contenido" descr="bcampp3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3 Marcador de contenido" descr="bcampp4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3 Marcador de contenido" descr="bcampp4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Marcador de contenido" descr="bcampp0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bcampp0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bcampp1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bcampp1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bcampp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Marcador de contenido" descr="bcampp2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Marcador de contenido" descr="bcampp2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Marcador de contenido" descr="bcampp2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3:17:24Z</dcterms:created>
  <dc:creator>Hugo</dc:creator>
  <dc:description/>
  <dc:language>en-US</dc:language>
  <cp:lastModifiedBy>Hugo</cp:lastModifiedBy>
  <dcterms:modified xsi:type="dcterms:W3CDTF">2009-09-01T23:34:32Z</dcterms:modified>
  <cp:revision>3</cp:revision>
  <dc:subject/>
  <dc:title>Diapositiva 1</dc:title>
</cp:coreProperties>
</file>