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311-250D-4F3C-A99F-2A82E46B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308-3D4C-4404-BA19-0C9744DA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F46-A3D8-41DB-B0EB-E66235DC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970-639A-4CA2-AA00-A31B26D8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A63-E830-4BA0-9C0F-F291CEEC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E8C-EDB6-47D0-9A85-5AEFEF99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D6E-076B-4303-9410-EB812C35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9EA-FAB9-4187-9475-CAF60841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094-F340-442B-9F61-72752425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F56-F651-47CF-ACEE-0FAC44C0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578-AC0D-4C95-8ABF-35464001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E4F-CEAA-48A9-A5FC-607A1CB9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A900-3469-4BC2-AAB1-87002D9B706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bcampp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us air force band - army, air force, navy, marines medley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3 Marcador de contenido" descr="bcampp2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Marcador de contenido" descr="bcampp2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3 Marcador de contenido" descr="bcampp3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3 Marcador de contenido" descr="bcampp3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3 Marcador de contenido" descr="bcampp3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3 Marcador de contenido" descr="bcampp3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3 Marcador de contenido" descr="bcampp3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3 Marcador de contenido" descr="bcampp3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3 Marcador de contenido" descr="bcampp4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3 Marcador de contenido" descr="bcampp4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bcampp0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bcampp0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bcampp1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bcampp1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bcampp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Marcador de contenido" descr="bcampp2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Marcador de contenido" descr="bcampp2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Marcador de contenido" descr="bcampp2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3:17:24Z</dcterms:created>
  <dc:creator>Hugo</dc:creator>
  <dc:description/>
  <dc:language>en-US</dc:language>
  <cp:lastModifiedBy>Hugo</cp:lastModifiedBy>
  <dcterms:modified xsi:type="dcterms:W3CDTF">2009-09-01T23:34:32Z</dcterms:modified>
  <cp:revision>3</cp:revision>
  <dc:subject/>
  <dc:title>Diapositiva 1</dc:title>
</cp:coreProperties>
</file>