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image4.jpeg" ContentType="image/jpeg"/>
  <Override PartName="/ppt/media/image17.jpeg" ContentType="image/jpeg"/>
  <Override PartName="/ppt/media/Maria%20Matrem08w.wav" ContentType="audio/x-wav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D1D-634E-4237-A6BD-55D6EBD7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902-0D65-4A5D-BFB7-05D1101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C1838-5502-4E1B-B44F-29FDEB70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7EA16-5467-4C99-91B4-552FCEF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0FC77-AC29-498E-A60E-3049F732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227F6-AAFA-4BA0-9635-541A47B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AD5CB-1922-4173-B256-CB6C7AD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D8F51-9B58-4896-B14E-F0FB20A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2C751-87C9-4AAE-B68E-A4179313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01492-382E-43C7-BF41-20B9B203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808EE-5E83-49C9-AB9D-95F97F89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2DE90-DB54-4EFC-93D1-4C05734F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C9F-A791-4A38-BA42-72D4E171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2B09B-A7A0-412D-B89F-44F3B63C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D9640-E485-49CA-985C-FBA1A0D8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4ACEC-FCB1-4AE7-A693-E0072C1C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D7833-523D-4B15-9428-C7696068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2B6FE-F5FC-4543-955F-68FB619E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43CC6-FF28-41E3-9611-19006E46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8A099-2419-425C-B43E-46B5FE7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1AA4D-DFAB-4B00-9503-1365149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B5530-B626-4C11-BB7F-5E2C27A1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4824C-46B0-46C4-BBF5-56B1E674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19E-1AD0-43A7-888C-AD742C82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437A2-3E5B-4E70-9436-C6E1A58A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AAB9F-BC72-4E2F-A727-8C29792A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89530-01BF-48FE-875C-8B2FD286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4122A-8D3F-4732-BD0B-CC2D8A7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BDB66-FCB2-49DC-83A6-AF8A606C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C6494-EEC0-46C4-879A-D055A4F5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0E49F-25F4-4D38-9A88-E96AAC91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2BBB5-A4F1-4112-A509-4AC92E73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CEC4E-1BA2-4492-8CE0-50B7E31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349A2-DDED-4BA4-A22B-52EB056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B271-9876-489B-B310-2209B1BA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7E7BE-6DC3-432E-8782-775D5B2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84984-475B-4B23-85AC-56AF07F8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5D672-7793-4209-A7FD-04B3F75B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D8075-2D41-429A-9F4A-DE7756C8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29BDA-2AC8-4D18-8271-C81E16D6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E6D4A-5AE1-4DC0-8665-6F99E724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AFD90-1AA2-4DA5-B9A3-325F53B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31471-2029-4769-BD53-628DC0C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96864-E9C9-41E7-A7E5-248D6EA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3ED20-A9A8-4C60-8A4D-6631B08C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65A7-F855-4B4D-AFCB-B053313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08ECD-ABB3-44DE-AC87-368FEBB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51C3D-883F-432B-814F-92DF43B1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0535E-FD34-4DD7-BA0B-D3A0007F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6F918-B2E0-47A7-82B6-8684BB1D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7DE2D-4020-46E7-972C-43444D14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4F4-142A-482A-B518-0BC8DFD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8618-95CC-4318-87D3-43C14597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8BD9-B5B1-466B-90DB-3DE00B9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BA1C-6BBE-4276-8EFD-30743F09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D5A8-9F8C-47C8-A724-D6F477E4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BCC-AC8B-4899-B065-69619FD5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59AF-5B52-4EF0-B27D-0024D511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BC4E-9419-4EDC-B132-9E77A15E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54E9-9549-4AAB-864E-446480A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CDFC-4E30-4082-B6B4-E6007D7B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3068-76F7-422A-A1E4-A685FF74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7955-AC6F-4359-B066-A19361D4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578F-7E3D-47CB-8234-EB751C59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FE68-D1F3-4155-93D8-6173202E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2024-9007-41AB-989A-1EF490C5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B68E-DBC2-4179-9FDE-FFBB67A0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57C-E1DB-4DF7-A73C-EAB8274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214F-4E33-4E29-8EEE-F640273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B733-DE14-407E-842C-5BC366C7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EA8B-C014-4406-A0BF-4F607DE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4915-7636-4D8C-BCF2-D770469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7D2B-552F-4A16-BF40-BD3C7BC2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991D-2D41-45D8-A7E5-84417237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0479-20F3-4724-84E5-1D20F2B5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C2F0-B9B1-47D1-B885-64CB39DE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19D3-A508-446B-A606-80FF9C6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0468-E08D-42BA-8CAC-83731F3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8F7-F0FC-481D-8317-CEF39A72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35EF-E24C-416F-8B8E-071FC9A0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3C5F-91A0-4DB6-BD04-568874D6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8298-811C-4F2B-8EC2-E3C82624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0EC7-BC96-4CFD-9E36-616AEF1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9E3D-1816-4418-874E-45A1745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30D8-D8E3-4525-BA89-2B153FD2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1F62-3D07-4FBC-BB9E-7AE2391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912F-5F52-46F7-8602-DB51912A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18CB-76DB-4EF8-A954-2D38F3A4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ACF8-3F40-4346-9668-AD784B26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E98-38B2-46AB-BDBC-0B84ED50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0749-3D46-46A3-9FA0-FB75EBAC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FC2BE-FE1D-4435-BC84-1D58117D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8269-BDC0-4B93-9474-13318BE5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22ED-AC15-4DC0-8D5D-9597B02B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4E6D-25DF-4682-A62D-AC586D1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92B1-807B-4B43-87BD-67E80AB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E2BBB-B633-4578-9925-7F3F880A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4444-A0BD-40BE-A11E-076183D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4462-9945-4C24-8424-93B743E0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3ACA-C4AB-4383-B5DF-EE63BBEF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F41-971F-4FE5-AE7F-BA228F1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91CDE-DD78-4E5A-AE40-6E067813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864B-0257-4208-85B6-D78B3C65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0377-5B32-4A20-8CFA-55DA7DCC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08B2D-2F3B-4183-A230-2B19446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B0F2-D8FB-4505-A467-B2AAECC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1D15-EAE5-4BEB-83E1-BFEED231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A578-4717-408D-BBC7-C33A9A3C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03A8-A3D0-407F-9684-00C3B87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65255-C36F-40A2-8B4B-4A54786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E876B-F631-4E3A-886B-F688FCD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9AA-8876-45B2-AD22-0721D308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ADDA2-5C4E-4186-A9E5-EBB4E690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C3800-0D79-4614-AEB3-5D22D38E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E58A4-5EF0-4953-90AC-5BFAAFE3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7D350-0C99-4619-AB78-FE20F035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7FB65-8251-4394-9815-B6260921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17C8-2965-4887-8828-8C03B207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22F06-EB32-4D94-B565-BED76BE8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4A830-7588-47AA-A5F8-56C6625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AF13-5877-48D4-BD98-12517B9C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AFA0-7085-4B7D-AC3F-77BB530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6E2-103C-4A8F-9DE4-30DD582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CD993-B29C-49A2-A0AF-671F284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9BBF-8BD6-44F6-94D2-5270A62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AF706-A04F-4A19-89A1-D655182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C6CC7-83A2-42E4-9C36-9D6CE0A9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B824F-9434-47B6-81FF-CB5650FB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1D6E-7DB7-4C90-AE6D-509DBC26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2A3B-17C6-4ABB-9429-4AFAD817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E720E-6EE1-4C52-A551-37F49C3F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484F-5BF3-41D5-A922-DE5F3EB5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C1F2-5557-4FF5-B176-F9EFB46B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150-B69F-48B4-B58F-0EC7A054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E5F81-C15F-4063-A4F9-B405A7A6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9E7AD-A932-43A0-B104-42E7AA1C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D0B6F-E560-4F18-AC1A-2511BED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6850-02EC-48D9-AEA7-5B3C7105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18CA-F650-49B8-8B8B-E9859A77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08A0-C740-451B-A2CB-8119DCC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93DC2-9182-46D7-9C40-9DC8603D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F85E5-A905-42FD-B42A-B9B50AF9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B3A5A-9F5C-40E1-A59E-4326618E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7FACE-AC05-49C0-893A-EF4D9F39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FCD-7F6D-4C62-AE91-FDE7DDEB4A7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5066-CE74-4013-B26C-03B10DA0191E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43AB-46B3-49DF-A422-7E1B092620F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3CCE-B9C9-4D65-AF35-E72B4AC8FB9E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96B-CA39-4DF9-B1BB-652ECA27B00A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A478-D9FD-42F6-94FE-92EEFC4E9D92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9E7F-2B8A-4D6A-B9D9-A87DF1A888E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C7E-AC17-4E33-A3D7-0ACA39C8A935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E63C-A513-46CD-903E-6536E1207F41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089B-A90F-4A0B-8629-79382B31D8A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2FD2-EC61-4A36-B4E9-E011D8AB8FE3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283-D74F-4616-AAEE-9FD662A4509C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audio" Target="../media/Maria%20Matrem08w.wav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1" descr="resized_SB boira4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0" y="71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Música: “Maria matrem” Llibre Vermell de Montserrat sXI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18" descr=""/>
          <p:cNvPicPr/>
          <p:nvPr/>
        </p:nvPicPr>
        <p:blipFill>
          <a:blip r:embed="rId3"/>
          <a:stretch/>
        </p:blipFill>
        <p:spPr>
          <a:xfrm>
            <a:off x="3429000" y="6858000"/>
            <a:ext cx="1905120" cy="401004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395280" y="5716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SU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183240" y="229860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5"/>
          <p:cNvSpPr txBox="1"/>
          <p:nvPr/>
        </p:nvSpPr>
        <p:spPr>
          <a:xfrm>
            <a:off x="0" y="287496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0" y="46036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"/>
          <p:cNvSpPr txBox="1"/>
          <p:nvPr/>
        </p:nvSpPr>
        <p:spPr>
          <a:xfrm>
            <a:off x="1258920" y="546732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500" name="WordArt 8"/>
          <p:cNvSpPr txBox="1"/>
          <p:nvPr/>
        </p:nvSpPr>
        <p:spPr>
          <a:xfrm>
            <a:off x="1187280" y="78732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SU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194400" y="23176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11"/>
          <p:cNvSpPr txBox="1"/>
          <p:nvPr/>
        </p:nvSpPr>
        <p:spPr>
          <a:xfrm>
            <a:off x="216000" y="3090960"/>
            <a:ext cx="8243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3" name="WordArt 12"/>
          <p:cNvSpPr txBox="1"/>
          <p:nvPr/>
        </p:nvSpPr>
        <p:spPr>
          <a:xfrm>
            <a:off x="1547640" y="518004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36360" y="46036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99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3"/>
          <p:cNvGrpSpPr/>
          <p:nvPr/>
        </p:nvGrpSpPr>
        <p:grpSpPr>
          <a:xfrm>
            <a:off x="282600" y="6143760"/>
            <a:ext cx="7943040" cy="581400"/>
            <a:chOff x="282600" y="6143760"/>
            <a:chExt cx="7943040" cy="581400"/>
          </a:xfrm>
        </p:grpSpPr>
        <p:sp>
          <p:nvSpPr>
            <p:cNvPr id="506" name="Rectangle 14"/>
            <p:cNvSpPr/>
            <p:nvPr/>
          </p:nvSpPr>
          <p:spPr>
            <a:xfrm>
              <a:off x="888120" y="6143760"/>
              <a:ext cx="733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d1d1f0"/>
                  </a:solidFill>
                  <a:latin typeface="Arial"/>
                </a:rPr>
                <a:t>Monges de Sant Benet de Montserr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15" descr="SBw"/>
            <p:cNvPicPr/>
            <p:nvPr/>
          </p:nvPicPr>
          <p:blipFill>
            <a:blip r:embed="rId4"/>
            <a:stretch/>
          </p:blipFill>
          <p:spPr>
            <a:xfrm>
              <a:off x="282600" y="62024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2"/>
    <p:sndAc>
      <p:stSnd>
        <p:snd r:embed="rId5" name="Maria%20Matrem08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-0.00278 -1.60948 E">
                                      <p:cBhvr>
                                        <p:cTn id="6" dur="18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8" dur="15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10" dur="8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2" dur="1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4" dur="5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6" dur="5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500040" y="357120"/>
            <a:ext cx="8143920" cy="5456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Quién soy yo para que me visite la madre de mi Señor? En cuanto tu saludo llegó a mis oídos, la criatura saltó de alegría en mi vientre. Dichosa tú, que has creído, porque lo que te ha dicho el Señor se cumplirá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8" descr="Imagen29"/>
          <p:cNvPicPr/>
          <p:nvPr/>
        </p:nvPicPr>
        <p:blipFill>
          <a:blip r:embed="rId2"/>
          <a:stretch/>
        </p:blipFill>
        <p:spPr>
          <a:xfrm>
            <a:off x="341280" y="1428840"/>
            <a:ext cx="8802720" cy="52052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214200" y="214200"/>
            <a:ext cx="62866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 la visita de Dios, MARIA deviene l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214200" y="1643040"/>
            <a:ext cx="264348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 la visita de María, nuestra casa deviene inundada por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5"/>
          <p:cNvSpPr/>
          <p:nvPr/>
        </p:nvSpPr>
        <p:spPr>
          <a:xfrm>
            <a:off x="5072040" y="6161040"/>
            <a:ext cx="392904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Interior de la cas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57120" y="158760"/>
            <a:ext cx="8501040" cy="58546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ría dijo: "Proclama mi alma la grandeza del Señor, se alegra mi espíritu en Dios, mi salvador; porque ha mirado la humillación de su esclav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6 Imagen" descr="Sio90t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5429160" y="71280"/>
            <a:ext cx="3643560" cy="2531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la es la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sposa, en la diestra de Dios </a:t>
            </a:r>
            <a:r>
              <a:rPr b="1" lang="es-ES" sz="4000" spc="-1" strike="noStrike">
                <a:solidFill>
                  <a:srgbClr val="ffc000"/>
                </a:solidFill>
                <a:latin typeface="Arial"/>
              </a:rPr>
              <a:t>(Salm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214200" y="5319720"/>
            <a:ext cx="5572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Señor engrandece su pequeñ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5"/>
          <p:cNvSpPr/>
          <p:nvPr/>
        </p:nvSpPr>
        <p:spPr>
          <a:xfrm>
            <a:off x="71280" y="71280"/>
            <a:ext cx="2643480" cy="192132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Basílica de la Dormición, Dedicada el 15 de ago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42960" y="357120"/>
            <a:ext cx="7643880" cy="56714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de ahora me felicitarán todas las generaciones, porque el Poderoso ha hecho obras grandes por mí:</a:t>
            </a: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6 Imagen" descr="dormicio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000160" y="1571760"/>
            <a:ext cx="7000920" cy="52498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4"/>
          <p:cNvSpPr/>
          <p:nvPr/>
        </p:nvSpPr>
        <p:spPr>
          <a:xfrm>
            <a:off x="2714760" y="142920"/>
            <a:ext cx="64292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 generación en generación la felicita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71280" y="142920"/>
            <a:ext cx="26434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muerte es el PASO hacia la bienaven-tur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5"/>
          <p:cNvSpPr/>
          <p:nvPr/>
        </p:nvSpPr>
        <p:spPr>
          <a:xfrm>
            <a:off x="142920" y="5715000"/>
            <a:ext cx="25718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terior de la Dormi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80880" y="304920"/>
            <a:ext cx="8534520" cy="62186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u nombre es santo, y su misericordia llega a sus fieles de generación en generación.</a:t>
            </a: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6 Imagen" descr="Imagen8t.jpg"/>
          <p:cNvPicPr/>
          <p:nvPr/>
        </p:nvPicPr>
        <p:blipFill>
          <a:blip r:embed="rId2"/>
          <a:stretch/>
        </p:blipFill>
        <p:spPr>
          <a:xfrm>
            <a:off x="1163520" y="1571760"/>
            <a:ext cx="7980480" cy="52862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285840" y="214200"/>
            <a:ext cx="62863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Santo AMA a todas las   generaciones huma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14200" y="1714680"/>
            <a:ext cx="28576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 María, Dios ama  a todas las mujeres, a todos los sencill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5"/>
          <p:cNvSpPr/>
          <p:nvPr/>
        </p:nvSpPr>
        <p:spPr>
          <a:xfrm>
            <a:off x="5143680" y="5786280"/>
            <a:ext cx="39290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risto y las mujeres bíblica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baldaqu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28600" y="838080"/>
            <a:ext cx="8686800" cy="48776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hace proezas con su brazo: dispersa a los soberbios de corazón, derriba del trono a los poderosos y enaltece a los humildes, a los hambrientos los colma de bienes y a los ricos los despide vacíos.</a:t>
            </a: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8 Imagen" descr="escales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4"/>
          <p:cNvSpPr/>
          <p:nvPr/>
        </p:nvSpPr>
        <p:spPr>
          <a:xfrm>
            <a:off x="1714680" y="142920"/>
            <a:ext cx="721512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llena de bienes a los derrotados por la muerte, y deja vacíos a los podero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643800" y="2214720"/>
            <a:ext cx="235728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potencia de Dios da la vuelta a los  va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5"/>
          <p:cNvSpPr/>
          <p:nvPr/>
        </p:nvSpPr>
        <p:spPr>
          <a:xfrm>
            <a:off x="214200" y="6143760"/>
            <a:ext cx="621504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trada en la Tumba del Cedr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5 Imagen" descr="Jerusalemtwg.jpg"/>
          <p:cNvPicPr/>
          <p:nvPr/>
        </p:nvPicPr>
        <p:blipFill>
          <a:blip r:embed="rId2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6"/>
          <p:cNvSpPr/>
          <p:nvPr/>
        </p:nvSpPr>
        <p:spPr>
          <a:xfrm>
            <a:off x="4071960" y="71280"/>
            <a:ext cx="5000760" cy="374868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c000"/>
                </a:solidFill>
                <a:latin typeface="Arial"/>
              </a:rPr>
              <a:t>Misterio de la Asu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gún la tradición de Jerusalén, María murió en el monte Sion, y los apóstoles la enterraron en el valle del Cedrón, donde al cabo de 3 días fue ASUNTA al ci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9 Imagen" descr="resized_dormicoliv123tw.jpg"/>
          <p:cNvPicPr/>
          <p:nvPr/>
        </p:nvPicPr>
        <p:blipFill>
          <a:blip r:embed="rId3"/>
          <a:stretch/>
        </p:blipFill>
        <p:spPr>
          <a:xfrm>
            <a:off x="1428840" y="714240"/>
            <a:ext cx="1863720" cy="1714680"/>
          </a:xfrm>
          <a:prstGeom prst="rect">
            <a:avLst/>
          </a:prstGeom>
          <a:ln w="0">
            <a:noFill/>
          </a:ln>
        </p:spPr>
      </p:pic>
      <p:sp>
        <p:nvSpPr>
          <p:cNvPr id="512" name="3 Flecha derecha"/>
          <p:cNvSpPr/>
          <p:nvPr/>
        </p:nvSpPr>
        <p:spPr>
          <a:xfrm rot="19612200">
            <a:off x="-95040" y="2324160"/>
            <a:ext cx="2936880" cy="1573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umba de Marí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l Ced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4 Imagen" descr="resized_sio3t.jpg"/>
          <p:cNvPicPr/>
          <p:nvPr/>
        </p:nvPicPr>
        <p:blipFill>
          <a:blip r:embed="rId4"/>
          <a:stretch/>
        </p:blipFill>
        <p:spPr>
          <a:xfrm>
            <a:off x="7334280" y="5334120"/>
            <a:ext cx="1809720" cy="1523880"/>
          </a:xfrm>
          <a:prstGeom prst="rect">
            <a:avLst/>
          </a:prstGeom>
          <a:ln w="0">
            <a:noFill/>
          </a:ln>
        </p:spPr>
      </p:pic>
      <p:sp>
        <p:nvSpPr>
          <p:cNvPr id="514" name="8 Flecha derecha"/>
          <p:cNvSpPr/>
          <p:nvPr/>
        </p:nvSpPr>
        <p:spPr>
          <a:xfrm>
            <a:off x="3665520" y="5286240"/>
            <a:ext cx="3621240" cy="15717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rmición de M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el monte 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228600" y="380880"/>
            <a:ext cx="868680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xilia a Israel, su siervo, acordándose de la misericordia -como lo había prometido a nuestros padres- en favor de Abrahán y su descendencia para siempre." María se quedó con Isabel unos tres meses y después volvió a su casa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6 Imagen" descr="dormicoliv6tcw.jpg"/>
          <p:cNvPicPr/>
          <p:nvPr/>
        </p:nvPicPr>
        <p:blipFill>
          <a:blip r:embed="rId2"/>
          <a:stretch/>
        </p:blipFill>
        <p:spPr>
          <a:xfrm>
            <a:off x="1217520" y="0"/>
            <a:ext cx="792648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4"/>
          <p:cNvSpPr/>
          <p:nvPr/>
        </p:nvSpPr>
        <p:spPr>
          <a:xfrm>
            <a:off x="214200" y="71280"/>
            <a:ext cx="87868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spués de Cristo, resucitará toda su descendencia </a:t>
            </a:r>
            <a:r>
              <a:rPr b="1" lang="es-ES" sz="4000" spc="-1" strike="noStrike">
                <a:solidFill>
                  <a:srgbClr val="ffc000"/>
                </a:solidFill>
                <a:latin typeface="Arial"/>
              </a:rPr>
              <a:t>(2a lectura</a:t>
            </a:r>
            <a:r>
              <a:rPr b="1" lang="ca-ES" sz="40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42920" y="1500120"/>
            <a:ext cx="30002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onde llegó Ella, llegaremos 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5"/>
          <p:cNvSpPr/>
          <p:nvPr/>
        </p:nvSpPr>
        <p:spPr>
          <a:xfrm>
            <a:off x="142920" y="6232680"/>
            <a:ext cx="707220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conostasis  y tumba vacía de Mar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1357200" y="857160"/>
            <a:ext cx="6381720" cy="50461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tan POBRES como María, para que podamos reencontrarnos con Ella, la primera de los bienaventu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4f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6" descr="resized_Mariacistercw"/>
          <p:cNvPicPr/>
          <p:nvPr/>
        </p:nvPicPr>
        <p:blipFill>
          <a:blip r:embed="rId1"/>
          <a:stretch/>
        </p:blipFill>
        <p:spPr>
          <a:xfrm>
            <a:off x="1143000" y="0"/>
            <a:ext cx="33498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3"/>
          <p:cNvSpPr/>
          <p:nvPr/>
        </p:nvSpPr>
        <p:spPr>
          <a:xfrm>
            <a:off x="5214960" y="2143080"/>
            <a:ext cx="3201840" cy="1312920"/>
          </a:xfrm>
          <a:prstGeom prst="rect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oy todos la loam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9595800" y="714240"/>
            <a:ext cx="406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bienaventur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9651240" y="1095480"/>
            <a:ext cx="769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"/>
              </a:rPr>
              <a:t>bienaventura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9727920" y="3017880"/>
            <a:ext cx="862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ffffff"/>
                </a:solidFill>
                <a:latin typeface="Arial"/>
              </a:rPr>
              <a:t>bienaventur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9775800" y="4786200"/>
            <a:ext cx="862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0" spc="-1" strike="noStrike">
                <a:solidFill>
                  <a:srgbClr val="ffffff"/>
                </a:solidFill>
                <a:latin typeface="Arial"/>
              </a:rPr>
              <a:t>bienaventurad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228600" y="5562720"/>
            <a:ext cx="86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cae00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www.benedictinescat.com/montser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0289E-006 L -1.41025 0.01294 E">
                                      <p:cBhvr>
                                        <p:cTn id="329" dur="10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238E-006 L -1.63733 0.01364 E">
                                      <p:cBhvr>
                                        <p:cTn id="331" dur="10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486 L -1.91753 0.01526 E">
                                      <p:cBhvr>
                                        <p:cTn id="333" dur="10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4971E-006 L -1.76528 0.00971 E">
                                      <p:cBhvr>
                                        <p:cTn id="335" dur="10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99" descr="VisitPanoramw"/>
          <p:cNvPicPr/>
          <p:nvPr/>
        </p:nvPicPr>
        <p:blipFill>
          <a:blip r:embed="rId2"/>
          <a:stretch/>
        </p:blipFill>
        <p:spPr>
          <a:xfrm>
            <a:off x="-10787040" y="0"/>
            <a:ext cx="31683240" cy="6880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5"/>
          <p:cNvSpPr/>
          <p:nvPr/>
        </p:nvSpPr>
        <p:spPr>
          <a:xfrm>
            <a:off x="2143080" y="5643720"/>
            <a:ext cx="66740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estos montes María se encontró con su prima, y con la human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28760" y="260280"/>
            <a:ext cx="781524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ontañas de Judea del evangelio de ho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0729 -0.00231 L 1.45677 0.00809 E">
                                      <p:cBhvr>
                                        <p:cTn id="65" dur="30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65"/>
          <p:cNvSpPr/>
          <p:nvPr/>
        </p:nvSpPr>
        <p:spPr>
          <a:xfrm>
            <a:off x="500040" y="6303960"/>
            <a:ext cx="864396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n estos montes María se encontró con D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5 Flecha derecha"/>
          <p:cNvSpPr/>
          <p:nvPr/>
        </p:nvSpPr>
        <p:spPr>
          <a:xfrm rot="1780800">
            <a:off x="306000" y="3174480"/>
            <a:ext cx="2643120" cy="785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mba del Ced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0"/>
          <p:cNvSpPr/>
          <p:nvPr/>
        </p:nvSpPr>
        <p:spPr>
          <a:xfrm>
            <a:off x="228600" y="214200"/>
            <a:ext cx="8610480" cy="586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,39-56 En aquellos días, María se puso en camino y fue aprisa a la montaña, a un pueblo de Judá; entró en casa de Zacarías y saludo a Isabel.</a:t>
            </a: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6 Imagen" descr="esglvisitatwm.jpg"/>
          <p:cNvPicPr/>
          <p:nvPr/>
        </p:nvPicPr>
        <p:blipFill>
          <a:blip r:embed="rId2"/>
          <a:stretch/>
        </p:blipFill>
        <p:spPr>
          <a:xfrm>
            <a:off x="4000680" y="214200"/>
            <a:ext cx="4767120" cy="65772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214200" y="142920"/>
            <a:ext cx="6643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Arca de la Alianza entra en el Templo </a:t>
            </a:r>
            <a:r>
              <a:rPr b="1" lang="es-ES" sz="4000" spc="-1" strike="noStrike">
                <a:solidFill>
                  <a:srgbClr val="ffc000"/>
                </a:solidFill>
                <a:latin typeface="Arial"/>
              </a:rPr>
              <a:t>(1a lectu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57120" y="1714680"/>
            <a:ext cx="342900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levándolo en su seno, María hace entrar Dios al Santuario de la ti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357120" y="5929200"/>
            <a:ext cx="3643560" cy="55080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Casa de Is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380880" y="380880"/>
            <a:ext cx="830592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uanto Isabel oyó el saludo de María, saltó la criatura en su vientr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1" descr="mariaelisatw"/>
          <p:cNvPicPr/>
          <p:nvPr/>
        </p:nvPicPr>
        <p:blipFill>
          <a:blip r:embed="rId2"/>
          <a:stretch/>
        </p:blipFill>
        <p:spPr>
          <a:xfrm>
            <a:off x="495144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49"/>
          <p:cNvSpPr/>
          <p:nvPr/>
        </p:nvSpPr>
        <p:spPr>
          <a:xfrm>
            <a:off x="714240" y="571680"/>
            <a:ext cx="3714840" cy="3141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 través de dos madres, Dios se hace presente entre 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0"/>
          <p:cNvSpPr/>
          <p:nvPr/>
        </p:nvSpPr>
        <p:spPr>
          <a:xfrm>
            <a:off x="285840" y="3929040"/>
            <a:ext cx="4500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zás en el mundo faltan “madres” que engendren 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04920" y="304920"/>
            <a:ext cx="843732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lenó Isabel del Espíritu Santo y dijo a voz en grito: "¡Bendita tú entre las mujeres, y bendito el fruto de tu vientre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4" descr="fontkaremwp"/>
          <p:cNvPicPr/>
          <p:nvPr/>
        </p:nvPicPr>
        <p:blipFill>
          <a:blip r:embed="rId2"/>
          <a:stretch/>
        </p:blipFill>
        <p:spPr>
          <a:xfrm>
            <a:off x="4356000" y="914400"/>
            <a:ext cx="4459320" cy="59436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500040" y="1857240"/>
            <a:ext cx="3429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Agua de Vida brota sin cesar en  nuestras entrañ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250920" y="246240"/>
            <a:ext cx="732132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 María, Dios es FUENTE inagotable de bend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324000" y="5516640"/>
            <a:ext cx="475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ntigua   fuente de  Ain Karem (“Viña fecunda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59:18Z</dcterms:created>
  <dc:creator>Regina</dc:creator>
  <dc:description/>
  <dc:language>en-US</dc:language>
  <cp:lastModifiedBy>Usuario</cp:lastModifiedBy>
  <dcterms:modified xsi:type="dcterms:W3CDTF">2010-08-11T15:18:39Z</dcterms:modified>
  <cp:revision>20</cp:revision>
  <dc:subject/>
  <dc:title>Magníficat</dc:title>
</cp:coreProperties>
</file>