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15.jpeg" ContentType="image/jpeg"/>
  <Override PartName="/ppt/media/image4.jpeg" ContentType="image/jpeg"/>
  <Override PartName="/ppt/media/image17.jpeg" ContentType="image/jpeg"/>
  <Override PartName="/ppt/media/Maria%20Matrem08w.wav" ContentType="audio/x-wav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603-FC8D-4442-AAA3-C5564244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322-5388-4528-A394-736CA566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6A07C-5003-4DF7-9400-6587E168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7C8A9-E9B8-4374-B7D9-5740FD3D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AADDB-AD84-4945-BB11-AB924E50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C2266-424B-47D8-8DDC-6664C9B1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2D18F-03C2-4665-A7D4-655208A4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221AD-D9AA-4738-9FB6-44C91DFD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4654C-27FD-4D82-8C4F-F71714B8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498CB-A12E-490F-BE88-38A02E0D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5CB73-B76A-45AB-9EB8-8B878CA7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7E352-F752-4998-A43D-0834B499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E79D-BC55-4751-A8B3-AB10FA16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E38E1-3D94-497C-B459-CC71939A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C9313-42D6-4C60-9316-EF12056E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7A196-51E5-4D1B-A6D9-56BC96BB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ED71B-D3E8-461D-9D85-4DB0C3DE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AC86A-D5A8-4D86-AC7C-FE1A172A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B3641-E6AB-4ACD-AF5D-05A3D7AF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E87CD-9ED8-4945-B8B7-9882D155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E5AB2-BF2E-4373-8406-B7A63C77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65EDC-E1DC-4EAD-98E1-748721FE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A0B93-8D3C-4BF4-A516-B59287CF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D0E-1253-4E7A-8719-785CE411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7217D-44FC-49A0-A1A0-C05B8B2E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B56DA-9D3C-4466-9F07-4CEDD308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E97A6-2245-42C0-8BB8-4AD86F7B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4CA37-C0A7-40F9-ADA0-4A7DD8DA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3F14E-1676-4677-9DCB-B6DD6069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3CC20-63F7-4788-917C-011F1390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FA1A2-CA28-4615-BD65-79CBAA9E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C5F87-5085-4C02-B95D-8AA9A580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96074-CEE7-4A76-8F9D-D8CE4FCE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6B972-5290-4BE3-BE96-9A0E7391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9F3A-C730-44A6-882E-19751971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F56F9-2E51-4C47-BDDF-CD6E2103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EF236-3F70-4881-A499-23AF37FE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13D89-1B54-49C2-9697-6F98C894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4757A-AE00-4087-90F0-141A08CA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33CB6-7974-4525-9441-3FA962AC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8151A-AB31-4E64-9A79-C7D3DACA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9CFD7-B7DF-4813-9D2C-BDD58920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8360F-167A-406F-A2F3-F179447D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0D716-2EEF-4C9C-BEA7-1DBDDF72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0E8C7-4FB3-49A1-B476-2C6007A9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33B8-95B7-49AA-9B9C-F9A7FCE5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3F1F7-42FB-4691-A105-92151289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6B8CE-12D3-46D7-AADC-9146647B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1B157-0969-4AE4-84A0-1E957EA0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847B7-2A40-47DE-9C4A-B48058FC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91A55-D201-4632-95B4-92D389E0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0EF3-5CEC-43A2-82B4-E984EE3E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AFFD-F021-4D00-B070-6419AA90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A63C-3780-444B-BED2-81B92AA2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8854-CC7C-4F65-8553-0664CE51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BC23-086B-4981-A8A9-4943818C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E5D-4E19-40D5-9FB8-D0932312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C885-27FE-46BA-87B2-03E319B8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6874-5C41-434D-879C-42752E99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C4A6-541C-4FE7-858B-E4E2F208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252C-64AD-4E19-B3AA-E988CA75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7F97-C2B0-4569-AD45-7FF78581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46F3C-5FBA-4017-9B77-FA7320BD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F2C2A-312E-4CB7-B6AA-DC67A129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3AF6-CA9B-4421-8D06-2CBAE2FF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A53F2-5BEE-41A9-AB5B-0D2BCAC3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52AD-39E3-4263-A1DF-EA15D61F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D43-9CAE-4E28-9C52-D7B26199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37FA6-051A-4BF2-AA66-A40E229F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E3B69-2D8D-4F8F-9C44-C874C586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171E7-FBD9-4F5D-9F1C-1C4E4E08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56E5F-D12F-434B-B230-193E3FFA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D9A96-CD66-44C3-A8BC-08E5FA9B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EFF8E-BE5A-45DE-BADD-652571FB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8B956-B4C9-4E41-9EEC-45077CD7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D4AA9-3C13-44BD-8548-B7A771CC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09D28-3654-427B-8EFC-9C1CA071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1D27A-2584-40D8-A4AF-1FA04913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321-E89D-4C17-83C0-409DA7D0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83370-90AA-4CBD-8EF2-1752C4BD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D2A9B-274E-48EF-8840-AEA34954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BFE08-F106-4936-9B3A-A0BCC2F2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33956-D885-456A-B9AA-7DFBF2D6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82295-4A73-4F6E-AA95-525F6808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85F2E-7B7A-4559-80A0-B169BFF0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95032-2D29-4743-8071-013A3C7B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3E970-442E-4661-991B-C3AD89B5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2C5D8-CBDD-4BE1-A120-1D2B17FB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13058-2DBD-4E08-BDEA-0A82A40C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B7B-6D8A-4265-8356-A5D0EC26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3BEEF-DAD7-4280-B3FD-115ECC07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543CA-2FF7-40CE-841E-9CB5C504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FB286-08EA-4852-AC35-B748D41A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06535-77DA-44D9-ACE2-A040C0BD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D9574-5D30-4689-93AA-7C9231A6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A575E-78B6-4C59-A6B0-EC27ED0C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AEE55-697A-4950-B213-08A9848E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42583-865E-43DB-9105-84A825C0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7BDD7-F8D6-40D0-B01B-49E9EB96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DCF05-B714-42D5-ACC5-E9F4AABB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574-4810-46D1-B4EB-5A01416D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1F3C2-349B-49EF-9BD4-9F1BA98E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DF497-7132-4D08-9001-59B6D9E3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24229-4DED-4758-833D-288B2239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84625-C269-439F-AC38-B88EE84D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65F14-9E35-46BA-AC65-010D9001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9C49B-722C-4A95-8A52-38A13B84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D6581-A9F6-43F3-90A5-8F2B4ACF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6B592-34FF-4902-AD6C-6CCE183E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183D0-90B3-4351-A889-212EB707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4BC66-6BA5-4D55-83B5-9B1059B3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12E-E1BB-46F2-8E42-77EE327D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46194-8B11-4F51-A5F4-C653D390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582C6-7240-4A74-B066-8316857C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5000C-1C67-4D71-BB02-75A65E7A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72F74-FA8A-49B0-98D5-ABAB6C0B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698D2-F194-43E2-A93F-04BBA98A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27B57-8A52-446B-98CF-2ACDFCE1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0DCDC-4216-4187-A377-9386DAB8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F1658-DF84-4F8E-95A7-3AD37A52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BAD95-5B87-4A43-B497-A32BD7AC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F109C-C25B-4802-AF9C-66E0A835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3EF-F3DC-46C6-BDA3-821AFC5B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2EF8A-3A04-492C-A3C3-0507C668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E7977-F1C3-464D-99F1-C0AA35F8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6F713-2499-49D5-9D08-18111B4E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92B33-5CF1-4FA1-A8F7-D79D8A80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B7F95-8071-4748-912A-1C4217A3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2CAAA-78CA-4906-AB39-74D05A72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F0992-818E-4F56-BEBF-9A57334D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2B906-60E1-4679-AA12-4AB3DD79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90E25-E981-4F68-8765-7E10C65E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457FF-E5F4-41FE-B0CE-28C8D58D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08E-FCEC-4853-AB07-05939B3E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A6F9F-43FF-4BBB-8567-49ED4E3C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0E74A-96DE-41D9-A874-D72B03BC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D3BAC-298C-42C8-AE7A-7AB3E4D0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A509F-B281-4C73-96AD-85F39FFE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47719-2B55-4928-9A76-5A379CC7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AE165-2492-4850-B880-EB8EEC54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B8B7D-09DF-488E-B82B-77E0DB15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180CB-C94F-457A-8F35-C4986641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E6B3F-2162-4478-88CD-5D78FF7A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9BDA9-C7F7-423C-B451-1B8A5CBF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78B4-262F-473D-9935-C6626C96B7E7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24E0-05FB-4F34-96E1-794015AC56B8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8D72-5AEB-436E-B2E2-254F88DE4663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8477-5810-4781-8005-E2A2C27E3177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BA06-68C7-4477-96D2-EBEBB2B12E25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967E-27DE-4675-935C-EED29B61BBD4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ECB7-FBCB-4411-9F62-ECF2E2E57DE4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DCC9-ED3F-4537-BAFC-515DABB46E9F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FFF8-A1B0-4E7B-97F6-C5CF952185A0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5458-9CEC-43C2-A1A3-6760C6251A9F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73D9-14BA-4C40-9219-53A7285A795F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CE9D-C3C4-4005-98C4-D59100D2061C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audio" Target="../media/Maria%20Matrem08w.wav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11" descr="resized_SB boira4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9"/>
          <p:cNvSpPr/>
          <p:nvPr/>
        </p:nvSpPr>
        <p:spPr>
          <a:xfrm>
            <a:off x="0" y="712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Música: “Maria matrem” Llibre Vermell de Montserrat sXI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Object 18" descr=""/>
          <p:cNvPicPr/>
          <p:nvPr/>
        </p:nvPicPr>
        <p:blipFill>
          <a:blip r:embed="rId3"/>
          <a:stretch/>
        </p:blipFill>
        <p:spPr>
          <a:xfrm>
            <a:off x="3429000" y="6858000"/>
            <a:ext cx="1905120" cy="4010040"/>
          </a:xfrm>
          <a:prstGeom prst="rect">
            <a:avLst/>
          </a:prstGeom>
          <a:ln w="0">
            <a:noFill/>
          </a:ln>
        </p:spPr>
      </p:pic>
      <p:sp>
        <p:nvSpPr>
          <p:cNvPr id="495" name="WordArt 3"/>
          <p:cNvSpPr txBox="1"/>
          <p:nvPr/>
        </p:nvSpPr>
        <p:spPr>
          <a:xfrm>
            <a:off x="395280" y="57168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ebff"/>
                </a:solidFill>
                <a:latin typeface="Arial Black"/>
              </a:rPr>
              <a:t>ASUN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ebff"/>
              </a:solidFill>
              <a:latin typeface="Arial Black"/>
              <a:ea typeface="Arial Black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183240" y="229860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WordArt 5"/>
          <p:cNvSpPr txBox="1"/>
          <p:nvPr/>
        </p:nvSpPr>
        <p:spPr>
          <a:xfrm>
            <a:off x="0" y="287496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d82b5"/>
                </a:solidFill>
                <a:latin typeface="Arial Black"/>
              </a:rPr>
              <a:t>no tengas miedo pequeño rebañ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d82b5"/>
              </a:solidFill>
              <a:latin typeface="Arial Black"/>
              <a:ea typeface="Arial Black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0" y="460368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7"/>
          <p:cNvSpPr txBox="1"/>
          <p:nvPr/>
        </p:nvSpPr>
        <p:spPr>
          <a:xfrm>
            <a:off x="1258920" y="5467320"/>
            <a:ext cx="7012080" cy="76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b3f67"/>
                </a:solidFill>
                <a:latin typeface="Arial Black"/>
              </a:rPr>
              <a:t>evangelio de Luc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b3f67"/>
              </a:solidFill>
              <a:latin typeface="Arial Black"/>
              <a:ea typeface="Arial Black"/>
            </a:endParaRPr>
          </a:p>
        </p:txBody>
      </p:sp>
      <p:sp>
        <p:nvSpPr>
          <p:cNvPr id="500" name="WordArt 8"/>
          <p:cNvSpPr txBox="1"/>
          <p:nvPr/>
        </p:nvSpPr>
        <p:spPr>
          <a:xfrm>
            <a:off x="1187280" y="78732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dc0d9"/>
                </a:solidFill>
                <a:latin typeface="Arial Black"/>
              </a:rPr>
              <a:t>ASUN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dc0d9"/>
              </a:solidFill>
              <a:latin typeface="Arial Black"/>
              <a:ea typeface="Arial Black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194400" y="231768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WordArt 11"/>
          <p:cNvSpPr txBox="1"/>
          <p:nvPr/>
        </p:nvSpPr>
        <p:spPr>
          <a:xfrm>
            <a:off x="216000" y="3090960"/>
            <a:ext cx="824364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 Black"/>
              </a:rPr>
              <a:t>no tengas miedo pequeño rebañ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 Black"/>
              <a:ea typeface="Arial Black"/>
            </a:endParaRPr>
          </a:p>
        </p:txBody>
      </p:sp>
      <p:sp>
        <p:nvSpPr>
          <p:cNvPr id="503" name="WordArt 12"/>
          <p:cNvSpPr txBox="1"/>
          <p:nvPr/>
        </p:nvSpPr>
        <p:spPr>
          <a:xfrm>
            <a:off x="1547640" y="518004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angelio de Luc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36360" y="460368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333399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13"/>
          <p:cNvGrpSpPr/>
          <p:nvPr/>
        </p:nvGrpSpPr>
        <p:grpSpPr>
          <a:xfrm>
            <a:off x="282600" y="6143760"/>
            <a:ext cx="7943040" cy="581400"/>
            <a:chOff x="282600" y="6143760"/>
            <a:chExt cx="7943040" cy="581400"/>
          </a:xfrm>
        </p:grpSpPr>
        <p:sp>
          <p:nvSpPr>
            <p:cNvPr id="506" name="Rectangle 14"/>
            <p:cNvSpPr/>
            <p:nvPr/>
          </p:nvSpPr>
          <p:spPr>
            <a:xfrm>
              <a:off x="888120" y="6143760"/>
              <a:ext cx="733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d1d1f0"/>
                  </a:solidFill>
                  <a:latin typeface="Arial"/>
                </a:rPr>
                <a:t>Monges de Sant Benet de Montserra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7" name="Picture 15" descr="SBw"/>
            <p:cNvPicPr/>
            <p:nvPr/>
          </p:nvPicPr>
          <p:blipFill>
            <a:blip r:embed="rId4"/>
            <a:stretch/>
          </p:blipFill>
          <p:spPr>
            <a:xfrm>
              <a:off x="282600" y="6202440"/>
              <a:ext cx="6094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 spokes="2"/>
    <p:sndAc>
      <p:stSnd>
        <p:snd r:embed="rId5" name="Maria%20Matrem08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L -0.00278 -1.60948 E">
                                      <p:cBhvr>
                                        <p:cTn id="6" dur="18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8" dur="15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10" dur="8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2" dur="1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4" dur="5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6" dur="5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5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5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5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5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5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500040" y="357120"/>
            <a:ext cx="8143920" cy="545652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¿Quién soy yo para que me visite la madre de mi Señor? En cuanto tu saludo llegó a mis oídos, la criatura saltó de alegría en mi vientre. Dichosa tú, que has creído, porque lo que te ha dicho el Señor se cumplirá.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8" descr="Imagen29"/>
          <p:cNvPicPr/>
          <p:nvPr/>
        </p:nvPicPr>
        <p:blipFill>
          <a:blip r:embed="rId2"/>
          <a:stretch/>
        </p:blipFill>
        <p:spPr>
          <a:xfrm>
            <a:off x="341280" y="1428840"/>
            <a:ext cx="8802720" cy="52052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4"/>
          <p:cNvSpPr/>
          <p:nvPr/>
        </p:nvSpPr>
        <p:spPr>
          <a:xfrm>
            <a:off x="214200" y="214200"/>
            <a:ext cx="62866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n la visita de Dios, MARIA deviene ll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214200" y="1643040"/>
            <a:ext cx="2643480" cy="49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n la visita de María, nuestra casa deviene inundada por D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5"/>
          <p:cNvSpPr/>
          <p:nvPr/>
        </p:nvSpPr>
        <p:spPr>
          <a:xfrm>
            <a:off x="5072040" y="6161040"/>
            <a:ext cx="3929040" cy="55080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Interior de la cas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357120" y="158760"/>
            <a:ext cx="8501040" cy="585468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ría dijo: "Proclama mi alma la grandeza del Señor, se alegra mi espíritu en Dios, mi salvador; porque ha mirado la humillación de su esclava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6 Imagen" descr="Sio90t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4"/>
          <p:cNvSpPr/>
          <p:nvPr/>
        </p:nvSpPr>
        <p:spPr>
          <a:xfrm>
            <a:off x="5429160" y="71280"/>
            <a:ext cx="3643560" cy="253188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la es la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sposa, en la diestra de Dios </a:t>
            </a:r>
            <a:r>
              <a:rPr b="1" lang="es-ES" sz="4000" spc="-1" strike="noStrike">
                <a:solidFill>
                  <a:srgbClr val="ffc000"/>
                </a:solidFill>
                <a:latin typeface="Arial"/>
              </a:rPr>
              <a:t>(Salm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214200" y="5319720"/>
            <a:ext cx="5572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Señor engrandece su pequeñ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5"/>
          <p:cNvSpPr/>
          <p:nvPr/>
        </p:nvSpPr>
        <p:spPr>
          <a:xfrm>
            <a:off x="71280" y="71280"/>
            <a:ext cx="2643480" cy="192132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Basílica de la Dormición, Dedicada el 15 de agos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642960" y="357120"/>
            <a:ext cx="7643880" cy="56714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de ahora me felicitarán todas las generaciones, porque el Poderoso ha hecho obras grandes por mí:</a:t>
            </a:r>
            <a:r>
              <a:rPr b="1" lang="es-E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6 Imagen" descr="dormicio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000160" y="1571760"/>
            <a:ext cx="7000920" cy="52498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4"/>
          <p:cNvSpPr/>
          <p:nvPr/>
        </p:nvSpPr>
        <p:spPr>
          <a:xfrm>
            <a:off x="2714760" y="142920"/>
            <a:ext cx="64292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e generación en generación la felicita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71280" y="142920"/>
            <a:ext cx="264348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 muerte es el PASO hacia la bienaven-tur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5"/>
          <p:cNvSpPr/>
          <p:nvPr/>
        </p:nvSpPr>
        <p:spPr>
          <a:xfrm>
            <a:off x="142920" y="5715000"/>
            <a:ext cx="257184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nterior de la Dormi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380880" y="304920"/>
            <a:ext cx="8534520" cy="62186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u nombre es santo, y su misericordia llega a sus fieles de generación en generación.</a:t>
            </a:r>
            <a:r>
              <a:rPr b="1" lang="es-ES" sz="7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6 Imagen" descr="Imagen8t.jpg"/>
          <p:cNvPicPr/>
          <p:nvPr/>
        </p:nvPicPr>
        <p:blipFill>
          <a:blip r:embed="rId2"/>
          <a:stretch/>
        </p:blipFill>
        <p:spPr>
          <a:xfrm>
            <a:off x="1163520" y="1571760"/>
            <a:ext cx="7980480" cy="528624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4"/>
          <p:cNvSpPr/>
          <p:nvPr/>
        </p:nvSpPr>
        <p:spPr>
          <a:xfrm>
            <a:off x="285840" y="214200"/>
            <a:ext cx="628632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Santo AMA a todas las   generaciones huma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214200" y="1714680"/>
            <a:ext cx="285768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n María, Dios ama  a todas las mujeres, a todos los sencillo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5"/>
          <p:cNvSpPr/>
          <p:nvPr/>
        </p:nvSpPr>
        <p:spPr>
          <a:xfrm>
            <a:off x="5143680" y="5786280"/>
            <a:ext cx="392904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Cristo y las mujeres bíblica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baldaquí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228600" y="838080"/>
            <a:ext cx="8686800" cy="48776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hace proezas con su brazo: dispersa a los soberbios de corazón, derriba del trono a los poderosos y enaltece a los humildes, a los hambrientos los colma de bienes y a los ricos los despide vacíos.</a:t>
            </a: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8 Imagen" descr="escales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4"/>
          <p:cNvSpPr/>
          <p:nvPr/>
        </p:nvSpPr>
        <p:spPr>
          <a:xfrm>
            <a:off x="1714680" y="142920"/>
            <a:ext cx="7215120" cy="1922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llena de bienes a los derrotados por la muerte, y deja vacíos a los podero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6643800" y="2214720"/>
            <a:ext cx="2357280" cy="43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 potencia de Dios da la vuelta a los  val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5"/>
          <p:cNvSpPr/>
          <p:nvPr/>
        </p:nvSpPr>
        <p:spPr>
          <a:xfrm>
            <a:off x="214200" y="6143760"/>
            <a:ext cx="6215040" cy="55080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ntrada en la Tumba del Cedr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3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5 Imagen" descr="Jerusalemtwg.jpg"/>
          <p:cNvPicPr/>
          <p:nvPr/>
        </p:nvPicPr>
        <p:blipFill>
          <a:blip r:embed="rId2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36"/>
          <p:cNvSpPr/>
          <p:nvPr/>
        </p:nvSpPr>
        <p:spPr>
          <a:xfrm>
            <a:off x="4071960" y="71280"/>
            <a:ext cx="5000760" cy="374868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s-ES" sz="3000" spc="-1" strike="noStrike">
                <a:solidFill>
                  <a:srgbClr val="ffc000"/>
                </a:solidFill>
                <a:latin typeface="Arial"/>
              </a:rPr>
              <a:t>Misterio de la Asun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Según la tradición de Jerusalén, María murió en el monte Sion, y los apóstoles la enterraron en el valle del Cedrón, donde al cabo de 3 días fue ASUNTA al ci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9 Imagen" descr="resized_dormicoliv123tw.jpg"/>
          <p:cNvPicPr/>
          <p:nvPr/>
        </p:nvPicPr>
        <p:blipFill>
          <a:blip r:embed="rId3"/>
          <a:stretch/>
        </p:blipFill>
        <p:spPr>
          <a:xfrm>
            <a:off x="1428840" y="714240"/>
            <a:ext cx="1863720" cy="1714680"/>
          </a:xfrm>
          <a:prstGeom prst="rect">
            <a:avLst/>
          </a:prstGeom>
          <a:ln w="0">
            <a:noFill/>
          </a:ln>
        </p:spPr>
      </p:pic>
      <p:sp>
        <p:nvSpPr>
          <p:cNvPr id="512" name="3 Flecha derecha"/>
          <p:cNvSpPr/>
          <p:nvPr/>
        </p:nvSpPr>
        <p:spPr>
          <a:xfrm rot="19612200">
            <a:off x="-95040" y="2324160"/>
            <a:ext cx="2936880" cy="1573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umba de Marí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el Ced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4 Imagen" descr="resized_sio3t.jpg"/>
          <p:cNvPicPr/>
          <p:nvPr/>
        </p:nvPicPr>
        <p:blipFill>
          <a:blip r:embed="rId4"/>
          <a:stretch/>
        </p:blipFill>
        <p:spPr>
          <a:xfrm>
            <a:off x="7334280" y="5334120"/>
            <a:ext cx="1809720" cy="1523880"/>
          </a:xfrm>
          <a:prstGeom prst="rect">
            <a:avLst/>
          </a:prstGeom>
          <a:ln w="0">
            <a:noFill/>
          </a:ln>
        </p:spPr>
      </p:pic>
      <p:sp>
        <p:nvSpPr>
          <p:cNvPr id="514" name="8 Flecha derecha"/>
          <p:cNvSpPr/>
          <p:nvPr/>
        </p:nvSpPr>
        <p:spPr>
          <a:xfrm>
            <a:off x="3665520" y="5286240"/>
            <a:ext cx="3621240" cy="15717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ormición de Ma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el monte 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228600" y="380880"/>
            <a:ext cx="8686800" cy="62661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xilia a Israel, su siervo, acordándose de la misericordia -como lo había prometido a nuestros padres- en favor de Abrahán y su descendencia para siempre." María se quedó con Isabel unos tres meses y después volvió a su casa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6 Imagen" descr="dormicoliv6tcw.jpg"/>
          <p:cNvPicPr/>
          <p:nvPr/>
        </p:nvPicPr>
        <p:blipFill>
          <a:blip r:embed="rId2"/>
          <a:stretch/>
        </p:blipFill>
        <p:spPr>
          <a:xfrm>
            <a:off x="1217520" y="0"/>
            <a:ext cx="792648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4"/>
          <p:cNvSpPr/>
          <p:nvPr/>
        </p:nvSpPr>
        <p:spPr>
          <a:xfrm>
            <a:off x="214200" y="71280"/>
            <a:ext cx="87868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espués de Cristo, resucitará toda su descendencia </a:t>
            </a:r>
            <a:r>
              <a:rPr b="1" lang="es-ES" sz="4000" spc="-1" strike="noStrike">
                <a:solidFill>
                  <a:srgbClr val="ffc000"/>
                </a:solidFill>
                <a:latin typeface="Arial"/>
              </a:rPr>
              <a:t>(2a lectura</a:t>
            </a:r>
            <a:r>
              <a:rPr b="1" lang="ca-ES" sz="4000" spc="-1" strike="noStrike">
                <a:solidFill>
                  <a:srgbClr val="ffc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142920" y="1500120"/>
            <a:ext cx="30002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onde llegó Ella, llegaremos 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5"/>
          <p:cNvSpPr/>
          <p:nvPr/>
        </p:nvSpPr>
        <p:spPr>
          <a:xfrm>
            <a:off x="142920" y="6232680"/>
            <a:ext cx="7072200" cy="55080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conostasis  y tumba vacía de Marí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"/>
          <p:cNvSpPr/>
          <p:nvPr/>
        </p:nvSpPr>
        <p:spPr>
          <a:xfrm>
            <a:off x="1357200" y="857160"/>
            <a:ext cx="6381720" cy="50461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haznos tan POBRES como María, para que podamos reencontrarnos con Ella, la primera de los bienaventur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f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6" descr="resized_Mariacistercw"/>
          <p:cNvPicPr/>
          <p:nvPr/>
        </p:nvPicPr>
        <p:blipFill>
          <a:blip r:embed="rId1"/>
          <a:stretch/>
        </p:blipFill>
        <p:spPr>
          <a:xfrm>
            <a:off x="1143000" y="0"/>
            <a:ext cx="33498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3"/>
          <p:cNvSpPr/>
          <p:nvPr/>
        </p:nvSpPr>
        <p:spPr>
          <a:xfrm>
            <a:off x="5214960" y="2143080"/>
            <a:ext cx="3201840" cy="1312920"/>
          </a:xfrm>
          <a:prstGeom prst="rect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Hoy todos la loam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9595800" y="714240"/>
            <a:ext cx="406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bienaventura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9651240" y="1095480"/>
            <a:ext cx="769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"/>
              </a:rPr>
              <a:t>bienaventurad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9727920" y="3017880"/>
            <a:ext cx="862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0" spc="-1" strike="noStrike">
                <a:solidFill>
                  <a:srgbClr val="ffffff"/>
                </a:solidFill>
                <a:latin typeface="Arial"/>
              </a:rPr>
              <a:t>bienaventurad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9775800" y="4786200"/>
            <a:ext cx="862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0" spc="-1" strike="noStrike">
                <a:solidFill>
                  <a:srgbClr val="ffffff"/>
                </a:solidFill>
                <a:latin typeface="Arial"/>
              </a:rPr>
              <a:t>bienaventurad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228600" y="5562720"/>
            <a:ext cx="86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cae00"/>
                </a:solidFill>
                <a:latin typeface="Arial"/>
              </a:rPr>
              <a:t>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www.benedictinescat.com/montser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0289E-006 L -1.41025 0.01294 E">
                                      <p:cBhvr>
                                        <p:cTn id="329" dur="10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0238E-006 L -1.63733 0.01364 E">
                                      <p:cBhvr>
                                        <p:cTn id="331" dur="10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00486 L -1.91753 0.01526 E">
                                      <p:cBhvr>
                                        <p:cTn id="333" dur="10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4971E-006 L -1.76528 0.00971 E">
                                      <p:cBhvr>
                                        <p:cTn id="335" dur="10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99" descr="VisitPanoramw"/>
          <p:cNvPicPr/>
          <p:nvPr/>
        </p:nvPicPr>
        <p:blipFill>
          <a:blip r:embed="rId2"/>
          <a:stretch/>
        </p:blipFill>
        <p:spPr>
          <a:xfrm>
            <a:off x="-10787040" y="0"/>
            <a:ext cx="31683240" cy="68803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65"/>
          <p:cNvSpPr/>
          <p:nvPr/>
        </p:nvSpPr>
        <p:spPr>
          <a:xfrm>
            <a:off x="2143080" y="5643720"/>
            <a:ext cx="667404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n estos montes María se encontró con su prima, y con la human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6"/>
          <p:cNvSpPr/>
          <p:nvPr/>
        </p:nvSpPr>
        <p:spPr>
          <a:xfrm>
            <a:off x="428760" y="260280"/>
            <a:ext cx="7815240" cy="55080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Montañas de Judea del evangelio de ho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0729 -0.00231 L 1.45677 0.00809 E">
                                      <p:cBhvr>
                                        <p:cTn id="65" dur="30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65"/>
          <p:cNvSpPr/>
          <p:nvPr/>
        </p:nvSpPr>
        <p:spPr>
          <a:xfrm>
            <a:off x="500040" y="6303960"/>
            <a:ext cx="8643960" cy="55080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n estos montes María se encontró con D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5 Flecha derecha"/>
          <p:cNvSpPr/>
          <p:nvPr/>
        </p:nvSpPr>
        <p:spPr>
          <a:xfrm rot="1780800">
            <a:off x="306000" y="3174480"/>
            <a:ext cx="2643120" cy="7858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omba del Cedr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0"/>
          <p:cNvSpPr/>
          <p:nvPr/>
        </p:nvSpPr>
        <p:spPr>
          <a:xfrm>
            <a:off x="228600" y="214200"/>
            <a:ext cx="8610480" cy="58698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1,39-56 En aquellos días, María se puso en camino y fue aprisa a la montaña, a un pueblo de Judá; entró en casa de Zacarías y saludo a Isabel.</a:t>
            </a: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6 Imagen" descr="esglvisitatwm.jpg"/>
          <p:cNvPicPr/>
          <p:nvPr/>
        </p:nvPicPr>
        <p:blipFill>
          <a:blip r:embed="rId2"/>
          <a:stretch/>
        </p:blipFill>
        <p:spPr>
          <a:xfrm>
            <a:off x="4000680" y="214200"/>
            <a:ext cx="4767120" cy="65772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3"/>
          <p:cNvSpPr/>
          <p:nvPr/>
        </p:nvSpPr>
        <p:spPr>
          <a:xfrm>
            <a:off x="214200" y="142920"/>
            <a:ext cx="664380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Arca de la Alianza entra en el Templo </a:t>
            </a:r>
            <a:r>
              <a:rPr b="1" lang="es-ES" sz="4000" spc="-1" strike="noStrike">
                <a:solidFill>
                  <a:srgbClr val="ffc000"/>
                </a:solidFill>
                <a:latin typeface="Arial"/>
              </a:rPr>
              <a:t>(1a lectu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357120" y="1714680"/>
            <a:ext cx="342900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levándolo en su seno, María hace entrar Dios al Santuario de la tier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5"/>
          <p:cNvSpPr/>
          <p:nvPr/>
        </p:nvSpPr>
        <p:spPr>
          <a:xfrm>
            <a:off x="357120" y="5929200"/>
            <a:ext cx="3643560" cy="55080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Casa de Isab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380880" y="380880"/>
            <a:ext cx="830592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cuanto Isabel oyó el saludo de María, saltó la criatura en su vientre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61" descr="mariaelisatw"/>
          <p:cNvPicPr/>
          <p:nvPr/>
        </p:nvPicPr>
        <p:blipFill>
          <a:blip r:embed="rId2"/>
          <a:stretch/>
        </p:blipFill>
        <p:spPr>
          <a:xfrm>
            <a:off x="4951440" y="0"/>
            <a:ext cx="362124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49"/>
          <p:cNvSpPr/>
          <p:nvPr/>
        </p:nvSpPr>
        <p:spPr>
          <a:xfrm>
            <a:off x="714240" y="571680"/>
            <a:ext cx="3714840" cy="314136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 través de dos madres, Dios se hace presente entre n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0"/>
          <p:cNvSpPr/>
          <p:nvPr/>
        </p:nvSpPr>
        <p:spPr>
          <a:xfrm>
            <a:off x="285840" y="3929040"/>
            <a:ext cx="45003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izás en el mundo faltan “madres” que engendren a D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04920" y="304920"/>
            <a:ext cx="843732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 llenó Isabel del Espíritu Santo y dijo a voz en grito: "¡Bendita tú entre las mujeres, y bendito el fruto de tu vientre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4" descr="fontkaremwp"/>
          <p:cNvPicPr/>
          <p:nvPr/>
        </p:nvPicPr>
        <p:blipFill>
          <a:blip r:embed="rId2"/>
          <a:stretch/>
        </p:blipFill>
        <p:spPr>
          <a:xfrm>
            <a:off x="4356000" y="914400"/>
            <a:ext cx="4459320" cy="59436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4"/>
          <p:cNvSpPr/>
          <p:nvPr/>
        </p:nvSpPr>
        <p:spPr>
          <a:xfrm>
            <a:off x="500040" y="1857240"/>
            <a:ext cx="34290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Agua de Vida brota sin cesar en  nuestras entrañ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250920" y="246240"/>
            <a:ext cx="732132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or María, Dios es FUENTE inagotable de bend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5"/>
          <p:cNvSpPr/>
          <p:nvPr/>
        </p:nvSpPr>
        <p:spPr>
          <a:xfrm>
            <a:off x="324000" y="5516640"/>
            <a:ext cx="475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Antigua   fuente de  Ain Karem (“Viña fecunda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7:59:18Z</dcterms:created>
  <dc:creator>Regina</dc:creator>
  <dc:description/>
  <dc:language>en-US</dc:language>
  <cp:lastModifiedBy>Usuario</cp:lastModifiedBy>
  <dcterms:modified xsi:type="dcterms:W3CDTF">2010-08-11T15:18:39Z</dcterms:modified>
  <cp:revision>20</cp:revision>
  <dc:subject/>
  <dc:title>Magníficat</dc:title>
</cp:coreProperties>
</file>