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3.jpeg" ContentType="image/jpeg"/>
  <Override PartName="/ppt/media/Gregoriano1.wav" ContentType="audio/x-wav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209D-7C41-4FB6-8E2D-E1D6D294C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869E-E112-432D-89AB-A52D248D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7448-E858-404B-AA2E-B076AF0E7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D534-6577-414F-8C31-AD4D8F006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971C-32BB-4BAC-A184-ACA92FB2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14E1-9853-4E48-A100-862729E6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B31C-A018-47C9-A463-A613643B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CEB0-D6B3-4184-BD65-97B4FF95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5A4A-5FD6-4E2E-9911-F62B75CD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06CB-5B0D-4412-965D-6333E046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88F6-69AA-4962-9E84-B08609E4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2A9D-431C-486A-B67F-D21BF072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0982-E6B1-4888-99E4-A1B6239551D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regoriano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95640" y="449280"/>
            <a:ext cx="4806720" cy="6408720"/>
          </a:xfrm>
          <a:prstGeom prst="rect">
            <a:avLst/>
          </a:prstGeom>
          <a:ln w="0">
            <a:noFill/>
          </a:ln>
        </p:spPr>
      </p:pic>
      <p:sp>
        <p:nvSpPr>
          <p:cNvPr id="42" name="4 CuadroTexto"/>
          <p:cNvSpPr/>
          <p:nvPr/>
        </p:nvSpPr>
        <p:spPr>
          <a:xfrm>
            <a:off x="0" y="65721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s-ES_tradnl" sz="1200" spc="-1" strike="noStrike">
                <a:solidFill>
                  <a:srgbClr val="ffffff"/>
                </a:solidFill>
                <a:latin typeface="Arial"/>
              </a:rPr>
              <a:t>Música: Gregoriana, Monjes de Santo Domingo de Silos                                                                                         Auto 8” o clic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63640" y="333360"/>
            <a:ext cx="8280360" cy="197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99"/>
                    </a:gs>
                  </a:gsLst>
                  <a:lin ang="5400000"/>
                </a:gradFill>
                <a:latin typeface="Arial Black"/>
              </a:rPr>
              <a:t>NATURALMENTE UNA MARAVILLA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slow" advTm="8000">
    <p:zoom dir="out"/>
    <p:sndAc>
      <p:stSnd>
        <p:snd r:embed="rId2" name="Gregoriano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318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60640" y="6399720"/>
            <a:ext cx="63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9999"/>
                </a:solidFill>
                <a:latin typeface="Georgia"/>
              </a:rPr>
              <a:t>Grabado en el piso de la nave princip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0" y="476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Basí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859280" y="1220400"/>
            <a:ext cx="403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ffcc00"/>
                </a:solidFill>
                <a:latin typeface="Georgia"/>
              </a:rPr>
              <a:t>La Catedral de Sa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ffcc00"/>
                </a:solidFill>
                <a:latin typeface="Georgia"/>
              </a:rPr>
              <a:t> </a:t>
            </a:r>
            <a:r>
              <a:rPr b="1" i="1" lang="es-CO" sz="2400" spc="-1" strike="noStrike">
                <a:solidFill>
                  <a:srgbClr val="ffcc00"/>
                </a:solidFill>
                <a:latin typeface="Georgia"/>
              </a:rPr>
              <a:t>es patrimonio históric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ffcc00"/>
                </a:solidFill>
                <a:latin typeface="Georgia"/>
              </a:rPr>
              <a:t>cultural y religioso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ffcc00"/>
                </a:solidFill>
                <a:latin typeface="Georgia"/>
              </a:rPr>
              <a:t>Colombia, con una profund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ffcc00"/>
                </a:solidFill>
                <a:latin typeface="Georgia"/>
              </a:rPr>
              <a:t>de 160 metros  bajo tier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ffcc00"/>
                </a:solidFill>
                <a:latin typeface="Georgia"/>
              </a:rPr>
              <a:t>y capacidad p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ffcc00"/>
                </a:solidFill>
                <a:latin typeface="Georgia"/>
              </a:rPr>
              <a:t>albergar hasta 3.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ffcc00"/>
                </a:solidFill>
                <a:latin typeface="Georgia"/>
              </a:rPr>
              <a:t>feligreses, hacen que s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ffcc00"/>
                </a:solidFill>
                <a:latin typeface="Georgia"/>
              </a:rPr>
              <a:t>catalogada  como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ffcc00"/>
                </a:solidFill>
                <a:latin typeface="Georgia"/>
              </a:rPr>
              <a:t>octava maravilla del planeta</a:t>
            </a:r>
            <a:r>
              <a:rPr b="1" i="1" lang="es-ES" sz="2400" spc="-1" strike="noStrike">
                <a:solidFill>
                  <a:srgbClr val="ffcc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zoom dir="ou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462840" y="639972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cc00"/>
                </a:solidFill>
                <a:latin typeface="Georgia"/>
              </a:rPr>
              <a:t>Orator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77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042920" y="639972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cecff"/>
                </a:solidFill>
                <a:latin typeface="Georgia"/>
              </a:rPr>
              <a:t>Ultima estación del Viacruc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708360" y="631728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bbe0e3"/>
                </a:solidFill>
                <a:latin typeface="Georgia"/>
              </a:rPr>
              <a:t>Peseb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7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08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9640" y="6317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66ff"/>
                </a:solidFill>
                <a:latin typeface="Georgia"/>
              </a:rPr>
              <a:t>Altar May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497160"/>
            <a:ext cx="835164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3300"/>
                </a:solidFill>
                <a:latin typeface="Georgia"/>
              </a:rPr>
              <a:t>LA CATEDRAL DE SAL DE ZIPAQUIRÁ</a:t>
            </a:r>
            <a:r>
              <a:rPr b="1" i="1" lang="es-ES" sz="28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9900"/>
                </a:solidFill>
                <a:latin typeface="Georgia"/>
              </a:rPr>
              <a:t>Es la misma creación de Dios en una sola obr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9900"/>
                </a:solidFill>
                <a:latin typeface="Georgia"/>
              </a:rPr>
              <a:t>que desafía las grandes estructuras del mu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9900"/>
                </a:solidFill>
                <a:latin typeface="Georgia"/>
              </a:rPr>
              <a:t> </a:t>
            </a:r>
            <a:r>
              <a:rPr b="1" i="1" lang="es-ES" sz="2800" spc="-1" strike="noStrike">
                <a:solidFill>
                  <a:srgbClr val="ff9900"/>
                </a:solidFill>
                <a:latin typeface="Georgia"/>
              </a:rPr>
              <a:t>en imponencia, ingeniería y majestuosida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9900"/>
                </a:solidFill>
                <a:latin typeface="Georgia"/>
              </a:rPr>
              <a:t>personas de todo el mundo centran sus mir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9900"/>
                </a:solidFill>
                <a:latin typeface="Georgia"/>
              </a:rPr>
              <a:t>en ella para exaltar su belleza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543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91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95280" y="6236280"/>
            <a:ext cx="82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cc00"/>
                </a:solidFill>
                <a:latin typeface="Georgia"/>
              </a:rPr>
              <a:t>Monumento  y Oración  de  los  Min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30360" y="0"/>
            <a:ext cx="45673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832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71640" y="616464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cc"/>
                </a:solidFill>
                <a:latin typeface="Georgia"/>
              </a:rPr>
              <a:t>Un  pedacito  del  cielo  con  sabor  a  s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06160" y="2430000"/>
            <a:ext cx="271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cc00"/>
                </a:solidFill>
                <a:latin typeface="Georgia"/>
              </a:rPr>
              <a:t>Monum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cc00"/>
                </a:solidFill>
                <a:latin typeface="Georgia"/>
              </a:rPr>
              <a:t>a los Miner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451640" y="5589720"/>
            <a:ext cx="1424160" cy="1035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435640" y="2060640"/>
            <a:ext cx="331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ffcc00"/>
                </a:solidFill>
                <a:latin typeface="Georgia"/>
              </a:rPr>
              <a:t>Detalle de Monumento al Min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395280" y="4437000"/>
            <a:ext cx="866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IN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0000">
    <p:zoom dir="ou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8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807080" cy="6408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92720" y="2985840"/>
            <a:ext cx="33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cc00"/>
                </a:solidFill>
                <a:latin typeface="Georgia"/>
              </a:rPr>
              <a:t>Viaje al interior de nuestra tier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049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0000" y="623628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bbe0e3"/>
                </a:solidFill>
                <a:latin typeface="Georgia"/>
              </a:rPr>
              <a:t>Aquí comienza  el camino de la 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9280" y="378000"/>
            <a:ext cx="4859280" cy="6480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219640" y="1554840"/>
            <a:ext cx="3745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bbe0e3"/>
                </a:solidFill>
                <a:latin typeface="Georgia"/>
              </a:rPr>
              <a:t>De las profundida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bbe0e3"/>
                </a:solidFill>
                <a:latin typeface="Georgia"/>
              </a:rPr>
              <a:t>se extrajeron 250.0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bbe0e3"/>
                </a:solidFill>
                <a:latin typeface="Georgia"/>
              </a:rPr>
              <a:t>toneladas de sal ro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bbe0e3"/>
                </a:solidFill>
                <a:latin typeface="Georgia"/>
              </a:rPr>
              <a:t>en la apertu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bbe0e3"/>
                </a:solidFill>
                <a:latin typeface="Georgia"/>
              </a:rPr>
              <a:t>de socav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68640" y="186840"/>
            <a:ext cx="65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cc00"/>
                </a:solidFill>
                <a:latin typeface="Georgia"/>
              </a:rPr>
              <a:t>La Cruz Mayor</a:t>
            </a:r>
            <a:r>
              <a:rPr b="1" i="1" lang="es-ES" sz="2400" spc="-1" strike="noStrike">
                <a:solidFill>
                  <a:srgbClr val="ffffff"/>
                </a:solidFill>
                <a:latin typeface="Georgia"/>
              </a:rPr>
              <a:t>  es una talla sobre ro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Georgia"/>
              </a:rPr>
              <a:t>salina, tiene una altura de 16 metr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Georgia"/>
              </a:rPr>
              <a:t>por 10 metros de ancho  y 80 centímetr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Georgia"/>
              </a:rPr>
              <a:t>de profundidad.</a:t>
            </a:r>
            <a:r>
              <a:rPr b="1" i="1" lang="es-E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25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5T19:30:57Z</dcterms:created>
  <dc:creator>J.C. James - josetoniolo@hotmail.com</dc:creator>
  <dc:description/>
  <dc:language>en-US</dc:language>
  <cp:lastModifiedBy>Colossus User</cp:lastModifiedBy>
  <dcterms:modified xsi:type="dcterms:W3CDTF">2011-12-13T22:13:44Z</dcterms:modified>
  <cp:revision>16</cp:revision>
  <dc:subject>apesentação de slides</dc:subject>
  <dc:title>bavaria_ churches_and_monasteries</dc:title>
</cp:coreProperties>
</file>