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nfantil%202%20-%20Jingle%20bell.wav" ContentType="audio/x-wav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297-2A0D-46B1-81A2-7112ED2F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0BF-48DE-4E7E-8058-22EA2E4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DB9-A50F-4B5C-B341-95626B58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381-03D4-47A5-A142-FBD220F7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806-1CF0-4246-8270-57315BE8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7DF-FF49-43BF-BB73-3B88BFB2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3FA-5E85-4D7D-AF7F-5FBE90D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981-2B39-447E-A44E-74A9EF6F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20D-69CB-4B42-B038-DCD131F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97A-32F8-4213-B6F1-1FEAD19A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D1B-8425-4A67-B475-061C9D35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6CB-7225-4180-93B9-12A65DBE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E6DA-E30D-4B78-87CD-47F1492B94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Infantil%202%20-%20Jingle%20bell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526680"/>
            <a:ext cx="81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 </a:t>
            </a:r>
            <a:r>
              <a:rPr b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Deseos                   Pre-Navideño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86200"/>
            <a:ext cx="8028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61DF-3827-413A-A5FA-5D9B58F168CB}" type="datetime2">
              <a:rPr b="0" lang="es-UY" sz="4800" spc="-1" strike="noStrike">
                <a:solidFill>
                  <a:srgbClr val="6666ff"/>
                </a:solidFill>
                <a:latin typeface="BrushScript BT"/>
              </a:rPr>
              <a:t>miércoles, 29 de julio de 20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4" name="Infantil%202%20-%20Jingl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0920" y="457200"/>
            <a:ext cx="43909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En esta bellísima época, todo mundo te des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pa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salu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dich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la justici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si el no se 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Blah…blah…blah…bla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685800"/>
            <a:ext cx="72104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66ff"/>
                </a:solidFill>
                <a:latin typeface="BrushScript BT"/>
              </a:rPr>
              <a:t>¡</a:t>
            </a:r>
            <a:r>
              <a:rPr b="1" lang="es-ES" sz="4400" spc="-1" strike="noStrike">
                <a:solidFill>
                  <a:srgbClr val="6666ff"/>
                </a:solidFill>
                <a:latin typeface="BrushScript BT"/>
              </a:rPr>
              <a:t>Son historias…!!</a:t>
            </a: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Lo que te deseo, con todo mi corazón, es que teng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Relaciones sexuales increíbl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el dinero te caiga del cielo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de una buena vez seas jefe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rabajes la mitad y te paguen el triple..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76212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Mil noches de placer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Parrandas sin fin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e saques la lotería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estrenes una linda casa…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e compres un auto nuevo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Que tengas grandes satisfaccion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BrushScript BT"/>
              </a:rPr>
              <a:t>Pero, sobre todo, te dese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914400"/>
            <a:ext cx="705816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Que sigas siendo tan magnífico (a) amigo(a) como siempre lo has sido, tanto en las buenas como en las malas….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200" spc="-1" strike="noStrike">
                <a:solidFill>
                  <a:srgbClr val="ff0000"/>
                </a:solidFill>
                <a:latin typeface="BrushScript BT"/>
              </a:rPr>
              <a:t>Porque un amigo (a) como tú, nunca sobr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ff"/>
                </a:solidFill>
                <a:latin typeface="BrushScript BT"/>
              </a:rPr>
              <a:t>¡SIEMPRE FALTA…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990720"/>
            <a:ext cx="70581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Si no mandas este Mail a 10 personas antes de acabar el dí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66ff"/>
                </a:solidFill>
                <a:latin typeface="BrushScript BT"/>
              </a:rPr>
              <a:t>NO VA A PASAR </a:t>
            </a:r>
            <a:r>
              <a:rPr b="0" lang="en-US" sz="3600" spc="-1" strike="noStrike">
                <a:solidFill>
                  <a:srgbClr val="6666ff"/>
                </a:solidFill>
                <a:latin typeface="BrushScript BT"/>
              </a:rPr>
              <a:t>NADA</a:t>
            </a:r>
            <a:r>
              <a:rPr b="0" lang="es-ES" sz="3600" spc="-1" strike="noStrike">
                <a:solidFill>
                  <a:srgbClr val="6666ff"/>
                </a:solidFill>
                <a:latin typeface="BrushScript BT"/>
              </a:rPr>
              <a:t>…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Pero si lo mandas a tod</a:t>
            </a:r>
            <a:r>
              <a:rPr b="0" lang="en-US" sz="3600" spc="-1" strike="noStrike">
                <a:solidFill>
                  <a:srgbClr val="ff0000"/>
                </a:solidFill>
                <a:latin typeface="BrushScript BT"/>
              </a:rPr>
              <a:t>os</a:t>
            </a:r>
            <a:r>
              <a:rPr b="0" lang="es-ES" sz="3600" spc="-1" strike="noStrike">
                <a:solidFill>
                  <a:srgbClr val="ff0000"/>
                </a:solidFill>
                <a:latin typeface="BrushScript BT"/>
              </a:rPr>
              <a:t>, ellos sonreirán y sabrán cuanto los valoras y aprecias…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7920" y="152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BrushScript BT"/>
              </a:rPr>
              <a:t>Saludos y cuíd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32000" y="1103400"/>
            <a:ext cx="2916360" cy="563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22860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BrushScript BT"/>
              </a:rPr>
              <a:t>¡¡Fél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000" y="2286000"/>
            <a:ext cx="20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BrushScript BT"/>
              </a:rPr>
              <a:t>día…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27:21Z</dcterms:created>
  <dc:creator>Don Agus</dc:creator>
  <dc:description>Desconheço o autor do texto, recebido em e-mail</dc:description>
  <dc:language>en-US</dc:language>
  <cp:lastModifiedBy>Lopez ConneXion</cp:lastModifiedBy>
  <dcterms:modified xsi:type="dcterms:W3CDTF">2007-11-05T18:54:35Z</dcterms:modified>
  <cp:revision>11</cp:revision>
  <dc:subject/>
  <dc:title>Navidad 2005</dc:title>
</cp:coreProperties>
</file>