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nfantil%202%20-%20Jingle%20bell.wav" ContentType="audio/x-wav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91C-633F-4F92-AB92-17FD141D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FF3-8E59-44C2-80F3-B0F30329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89E-3438-490A-8685-B148F1E0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CC8-7CC3-49CA-9E9A-62790044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E13-A016-4CD5-8C64-6F1DDC0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797-F728-40C7-B102-57B628E5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463-C06F-41B7-AD1F-D17578C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4D2-0215-4D05-A378-5CA674F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AAE-E1E4-4300-B90C-7550906B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44E-F591-4A91-A70C-A8A04F6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F82-2396-4370-BC85-E06EE7F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C19-815A-4A84-A28B-5D43CAC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8B0-DD93-4150-B366-04875F9543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Infantil%202%20-%20Jingle%20be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526680"/>
            <a:ext cx="81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 </a:t>
            </a:r>
            <a:r>
              <a:rPr b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Deseos                   Pre-Navideño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86200"/>
            <a:ext cx="802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4D2-F45C-4E95-AAD0-1196FD5CC2B1}" type="datetime2">
              <a:rPr b="0" lang="es-UY" sz="4800" spc="-1" strike="noStrike">
                <a:solidFill>
                  <a:srgbClr val="6666ff"/>
                </a:solidFill>
                <a:latin typeface="BrushScript BT"/>
              </a:rPr>
              <a:t>viernes, 31 de julio de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4" name="Infantil%202%20-%20Jingl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457200"/>
            <a:ext cx="4390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En esta bellísima época, todo mundo te des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pa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salu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dich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justici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el no se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Blah…blah…blah…bla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85800"/>
            <a:ext cx="72104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¡</a:t>
            </a:r>
            <a:r>
              <a:rPr b="1" lang="es-ES" sz="4400" spc="-1" strike="noStrike">
                <a:solidFill>
                  <a:srgbClr val="6666ff"/>
                </a:solidFill>
                <a:latin typeface="BrushScript BT"/>
              </a:rPr>
              <a:t>Son historias…!!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Lo que te deseo, con todo mi corazón, es que teng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Relaciones sexuales increí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el dinero te caiga del ciel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de una buena vez seas jefe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rabajes la mitad y te paguen el triple.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76212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Mil noches de placer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Parrandas sin fin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 saques la lotería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estrenes una linda cas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 compres un auto nuev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ngas grandes satisfaccion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Pero, sobre todo, te dese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914400"/>
            <a:ext cx="705816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Que sigas siendo tan magnífico (a) amigo(a) como siempre lo has sido, tanto en las buenas como en las malas….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Porque un amigo (a) como tú, nunca sob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ff"/>
                </a:solidFill>
                <a:latin typeface="BrushScript BT"/>
              </a:rPr>
              <a:t>¡SIEMPRE FALTA…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990720"/>
            <a:ext cx="70581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Si no mandas este Mail a 10 personas antes de acabar el dí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NO VA A PASAR </a:t>
            </a:r>
            <a:r>
              <a:rPr b="0" lang="en-US" sz="3600" spc="-1" strike="noStrike">
                <a:solidFill>
                  <a:srgbClr val="6666ff"/>
                </a:solidFill>
                <a:latin typeface="BrushScript BT"/>
              </a:rPr>
              <a:t>NADA</a:t>
            </a: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Pero si lo mandas a tod</a:t>
            </a:r>
            <a:r>
              <a:rPr b="0" lang="en-US" sz="3600" spc="-1" strike="noStrike">
                <a:solidFill>
                  <a:srgbClr val="ff0000"/>
                </a:solidFill>
                <a:latin typeface="BrushScript BT"/>
              </a:rPr>
              <a:t>os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, ellos sonreirán y sabrán cuanto los valoras y aprecias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152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Saludos y cuíd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32000" y="1103400"/>
            <a:ext cx="2916360" cy="563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22860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¡¡Fél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000" y="2286000"/>
            <a:ext cx="20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día…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27:21Z</dcterms:created>
  <dc:creator>Don Agus</dc:creator>
  <dc:description>Desconheço o autor do texto, recebido em e-mail</dc:description>
  <dc:language>en-US</dc:language>
  <cp:lastModifiedBy>Lopez ConneXion</cp:lastModifiedBy>
  <dcterms:modified xsi:type="dcterms:W3CDTF">2007-11-05T18:54:35Z</dcterms:modified>
  <cp:revision>11</cp:revision>
  <dc:subject/>
  <dc:title>Navidad 2005</dc:title>
</cp:coreProperties>
</file>