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la%20boheme%20charles%20asnavour.wav" ContentType="audio/x-wav"/>
  <Override PartName="/ppt/media/image4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DF95-0D0B-4250-8277-54F27A22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60D-596F-4404-90B5-651DD4D7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4628-C3A3-430A-A97A-E3E1F6D2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E7A1-F7E9-4E70-8882-BC26B032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874-DA6D-4A54-AC7C-05D70982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B7E-7A68-4083-9D16-A25C49CD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E64B-FC94-4237-A16C-3BD91856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5A88-067C-4598-B252-C1775298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9A33-0FD5-44EB-8BE5-3A6B8AAC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3890-62E0-45B7-BFBD-625825A2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8A3-6940-4843-A9DA-A73D02CD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614A-D2FD-4816-B676-BBFC2CFA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00"/>
            </a:gs>
            <a:gs pos="100000">
              <a:srgbClr val="99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3428-170C-4EB7-8D9A-5A238B8A1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la%20boheme%20charles%20asnavour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00"/>
            </a:gs>
            <a:gs pos="100000">
              <a:srgbClr val="99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57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be0e3"/>
                </a:solidFill>
                <a:latin typeface="AlgerianD"/>
              </a:rPr>
              <a:t>Conocer las obras de los genios y medit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be0e3"/>
                </a:solidFill>
                <a:latin typeface="AlgerianD"/>
              </a:rPr>
              <a:t>sobre mensajes reflex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0920" y="3860640"/>
            <a:ext cx="83534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RIS  EN EL  PINCEL  DE  JEAN  BÉRAUD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5e2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755640" y="333360"/>
            <a:ext cx="7775640" cy="5256360"/>
          </a:xfrm>
          <a:prstGeom prst="rect">
            <a:avLst/>
          </a:prstGeom>
          <a:ln w="28440">
            <a:solidFill>
              <a:srgbClr val="e2c282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0" y="5597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Conviértete  en una persona mejor y antes de conocer más gente, asegúrate de  saber quién eres y esper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que esa  persona sepa quién es ella mis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411280" y="0"/>
            <a:ext cx="4265640" cy="6858000"/>
          </a:xfrm>
          <a:prstGeom prst="rect">
            <a:avLst/>
          </a:prstGeom>
          <a:ln w="28440">
            <a:solidFill>
              <a:srgbClr val="e2c282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179280" y="1699920"/>
            <a:ext cx="20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Puedes 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sola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una perso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para el mu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pero,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algu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tú eres 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m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04000" y="1814760"/>
            <a:ext cx="234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No pases 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tiempo c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alguien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no es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dispuesto a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pasar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conti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00"/>
            </a:gs>
            <a:gs pos="100000">
              <a:srgbClr val="99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755640" y="189000"/>
            <a:ext cx="7416720" cy="4956120"/>
          </a:xfrm>
          <a:prstGeom prst="rect">
            <a:avLst/>
          </a:prstGeom>
          <a:ln w="28440">
            <a:solidFill>
              <a:srgbClr val="e2c282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0" y="53478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nvía este mensaje a las personas que por alguna raz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on tus amigas,  aunque no las veas seguido, aunque no hables seguido con ellas, porque recuer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00"/>
            </a:gs>
            <a:gs pos="100000">
              <a:srgbClr val="99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900000" y="333360"/>
            <a:ext cx="7417080" cy="5427720"/>
          </a:xfrm>
          <a:prstGeom prst="rect">
            <a:avLst/>
          </a:prstGeom>
          <a:ln w="28440">
            <a:solidFill>
              <a:srgbClr val="e2c282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79280" y="579276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ODO LO QUE ACONTECE, SUCEDE POR ALGUMA RAZON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100000">
              <a:srgbClr val="96969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00720" y="1125360"/>
            <a:ext cx="464328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Jean Baraud nació en San Petersburgo, Rusia, en 1849 y falleció en 1935, en Parí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Bèraud fue famoso por retratar las escenas de la vida cotidiana parisiense de la Belle Époqu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olamente conoció el éxito en 1875, cuando inauguró su fase impresionista con el cuadro La Bola de Vid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99960" y="836640"/>
            <a:ext cx="3998880" cy="4608360"/>
          </a:xfrm>
          <a:prstGeom prst="rect">
            <a:avLst/>
          </a:prstGeom>
          <a:ln w="28440">
            <a:solidFill>
              <a:srgbClr val="e2c282"/>
            </a:solidFill>
            <a:miter/>
          </a:ln>
        </p:spPr>
      </p:pic>
      <p:sp>
        <p:nvSpPr>
          <p:cNvPr id="45" name=""/>
          <p:cNvSpPr txBox="1"/>
          <p:nvPr/>
        </p:nvSpPr>
        <p:spPr>
          <a:xfrm>
            <a:off x="1187280" y="5734080"/>
            <a:ext cx="25927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1849 - 193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00"/>
            </a:gs>
            <a:gs pos="100000">
              <a:srgbClr val="99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589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lick para cambiar slides. Click nuevamente para presentación de los tex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9810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cc"/>
                </a:solidFill>
                <a:latin typeface="Arial"/>
              </a:rPr>
              <a:t>Admira la belleza de las telas y la perfeicción de los detalles. Con certeza hay algo de divino en las obras de los geni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22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Mensaje de  GABRIEL GARCIA MAR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00"/>
            </a:gs>
            <a:gs pos="100000">
              <a:srgbClr val="99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770440" y="2051280"/>
            <a:ext cx="2946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Te amo no p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qui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tu eres, sino p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qui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soy cuando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stoy conti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-87480" y="0"/>
            <a:ext cx="5477040" cy="6858000"/>
          </a:xfrm>
          <a:prstGeom prst="rect">
            <a:avLst/>
          </a:prstGeom>
          <a:ln w="28440">
            <a:solidFill>
              <a:srgbClr val="e2c2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00"/>
            </a:gs>
            <a:gs pos="50000">
              <a:srgbClr val="990000"/>
            </a:gs>
            <a:gs pos="100000">
              <a:srgbClr val="46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538520" y="0"/>
            <a:ext cx="4605480" cy="6858000"/>
          </a:xfrm>
          <a:prstGeom prst="rect">
            <a:avLst/>
          </a:prstGeom>
          <a:ln w="28440">
            <a:solidFill>
              <a:srgbClr val="e2c282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803520" y="2105640"/>
            <a:ext cx="3499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Un verdad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amigo es qui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te toma de la ma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y te to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l cora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00"/>
            </a:gs>
            <a:gs pos="100000">
              <a:srgbClr val="cc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5427720" cy="6858000"/>
          </a:xfrm>
          <a:prstGeom prst="rect">
            <a:avLst/>
          </a:prstGeom>
          <a:ln w="28440">
            <a:solidFill>
              <a:srgbClr val="e2c282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5742000" y="1629720"/>
            <a:ext cx="3163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La peor forma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sentir la falta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alguien 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star senta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a su lado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saber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nunca l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podrás te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00"/>
            </a:gs>
            <a:gs pos="100000">
              <a:srgbClr val="99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755640" y="260280"/>
            <a:ext cx="7740720" cy="5284800"/>
          </a:xfrm>
          <a:prstGeom prst="rect">
            <a:avLst/>
          </a:prstGeom>
          <a:ln w="28440">
            <a:solidFill>
              <a:srgbClr val="e2c282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0" y="5505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Nunca dejes de sonreir, ni siquiera cuando est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triste, porque nunca sabes quien podr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namorarse de tu sonri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5e1700"/>
            </a:gs>
            <a:gs pos="100000">
              <a:srgbClr val="cc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755640" y="333360"/>
            <a:ext cx="7632720" cy="5330880"/>
          </a:xfrm>
          <a:prstGeom prst="rect">
            <a:avLst/>
          </a:prstGeom>
          <a:ln w="28440">
            <a:solidFill>
              <a:srgbClr val="e2c282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0" y="5803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o te esfuerces tanto, las mejores cosas suce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cuando menos esperas.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00"/>
            </a:gs>
            <a:gs pos="50000">
              <a:srgbClr val="cc6600"/>
            </a:gs>
            <a:gs pos="100000">
              <a:srgbClr val="5e2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84360" y="620640"/>
            <a:ext cx="7777080" cy="5085000"/>
          </a:xfrm>
          <a:prstGeom prst="rect">
            <a:avLst/>
          </a:prstGeom>
          <a:ln w="28440">
            <a:solidFill>
              <a:srgbClr val="e2c282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0" y="606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No llores porque ya se terminó, sonríe porque sucedi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4:34:40Z</dcterms:created>
  <dc:creator>Jose Meirelles</dc:creator>
  <dc:description/>
  <dc:language>en-US</dc:language>
  <cp:lastModifiedBy>Carme</cp:lastModifiedBy>
  <dcterms:modified xsi:type="dcterms:W3CDTF">2008-10-17T21:01:07Z</dcterms:modified>
  <cp:revision>22</cp:revision>
  <dc:subject/>
  <dc:title>Slide 1</dc:title>
</cp:coreProperties>
</file>