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la%20boheme%20charles%20asnavour.wav" ContentType="audio/x-wav"/>
  <Override PartName="/ppt/media/image4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076-85E8-4CFE-90A3-29C58B82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02E-8190-4B96-B748-4634EB8D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3DB-013A-492C-A117-0B407402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283-9D5B-4508-A4E0-7A1ADAD8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A52-8625-4D3E-A57F-3AD8AE26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D31-F91C-4E96-858E-5453364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F25-F9D4-4895-B855-04BDCE10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FF8-E1E8-45D9-B642-C658933C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F3B-4D4B-4C20-825B-34336707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E43-0FF3-4532-88B1-F3FC359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799-B3EE-4115-97F9-0AEE9FB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C7E-B3AE-4409-8068-04EDC6EA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1AC-1297-4CF3-8028-524CA78C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la%20boheme%20charles%20asnavou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57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be0e3"/>
                </a:solidFill>
                <a:latin typeface="AlgerianD"/>
              </a:rPr>
              <a:t>Conocer las obras de los genios y medit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be0e3"/>
                </a:solidFill>
                <a:latin typeface="AlgerianD"/>
              </a:rPr>
              <a:t>sobre mensajes reflex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3860640"/>
            <a:ext cx="8353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IS  EN EL  PINCEL  DE  JEAN  BÉRAUD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5e2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333360"/>
            <a:ext cx="7775640" cy="525636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5597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onviértete  en una persona mejor y antes de conocer más gente, asegúrate de  saber quién eres y esper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que esa  persona sepa quién es ella mi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411280" y="0"/>
            <a:ext cx="426564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79280" y="1699920"/>
            <a:ext cx="20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uedes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sol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una pers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ara el mu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ero,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lgu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ú eres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814760"/>
            <a:ext cx="234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No pases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tiempo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alguien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no es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dispuesto a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asa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onti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189000"/>
            <a:ext cx="7416720" cy="495612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5347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nvía este mensaje a las personas que por alguna 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on tus amigas,  aunque no las veas seguido, aunque no hables seguido con ellas, porque recu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00000" y="333360"/>
            <a:ext cx="7417080" cy="542772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79280" y="57927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ODO LO QUE ACONTECE, SUCEDE POR ALGUMA RAZ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45"/>
            </a:gs>
            <a:gs pos="100000">
              <a:srgbClr val="96969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00720" y="1125360"/>
            <a:ext cx="4643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ean Baraud nació en San Petersburgo, Rusia, en 1849 y falleció en 1935, en Par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èraud fue famoso por retratar las escenas de la vida cotidiana parisiense de la Belle Époqu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lamente conoció el éxito en 1875, cuando inauguró su fase impresionista con el cuadro La Bola de Vid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9960" y="836640"/>
            <a:ext cx="3998880" cy="460836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1187280" y="5734080"/>
            <a:ext cx="2592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849 - 19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589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lick para cambiar slides. Click nuevamente para presentación de los tex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81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Admira la belleza de las telas y la perfeicción de los detalles. Con certeza hay algo de divino en las obras de los gen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Mensaje de  GABRIEL GARCIA MAR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70440" y="2051280"/>
            <a:ext cx="294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e amo no p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u eres, sino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oy cuando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stoy conti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87480" y="0"/>
            <a:ext cx="547704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50000">
              <a:srgbClr val="990000"/>
            </a:gs>
            <a:gs pos="100000">
              <a:srgbClr val="4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803520" y="2105640"/>
            <a:ext cx="3499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n verdad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migo es 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e toma de la m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y te to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l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00"/>
            </a:gs>
            <a:gs pos="100000">
              <a:srgbClr val="cc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427720" cy="6858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742000" y="1629720"/>
            <a:ext cx="3163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a peor form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entir la fal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lguien 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star sent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 su lad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aber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nunca 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odrás te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260280"/>
            <a:ext cx="7740720" cy="52848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5505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Nunca dejes de sonreir, ni siquiera cuando es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riste, porque nunca sabes quien podr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namorarse de tu sonr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5e1700"/>
            </a:gs>
            <a:gs pos="100000">
              <a:srgbClr val="cc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333360"/>
            <a:ext cx="7632720" cy="533088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580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o te esfuerces tanto, las mejores cosas suc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uando menos esperas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00"/>
            </a:gs>
            <a:gs pos="50000">
              <a:srgbClr val="cc6600"/>
            </a:gs>
            <a:gs pos="100000">
              <a:srgbClr val="5e2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4360" y="620640"/>
            <a:ext cx="7777080" cy="5085000"/>
          </a:xfrm>
          <a:prstGeom prst="rect">
            <a:avLst/>
          </a:prstGeom>
          <a:ln w="28440">
            <a:solidFill>
              <a:srgbClr val="e2c28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606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No llores porque ya se terminó, sonríe porque suced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4:34:40Z</dcterms:created>
  <dc:creator>Jose Meirelles</dc:creator>
  <dc:description/>
  <dc:language>en-US</dc:language>
  <cp:lastModifiedBy>Carme</cp:lastModifiedBy>
  <dcterms:modified xsi:type="dcterms:W3CDTF">2008-10-17T21:01:07Z</dcterms:modified>
  <cp:revision>22</cp:revision>
  <dc:subject/>
  <dc:title>Slide 1</dc:title>
</cp:coreProperties>
</file>