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M'ha%20estimatw.wav" ContentType="audio/x-wav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CEC5-0204-4BC1-A017-48FC95CF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F78-02CF-405C-8C60-5F9D076A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4EED-0CE0-40B6-913A-9FA3F443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A620-416C-4293-B0BA-590787E7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33DE-03B9-45DD-B8DB-67213900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E8C-3515-4BA3-820B-F0804E7C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2AEF-AC39-419F-9C97-6AFBDCA4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1EF-D353-486B-A6D4-F744C9E6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E79-9846-4242-BEEE-B946F5ED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633-4953-46EA-AA65-6D4458F2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42E-2645-4287-A63E-E56B8BCA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6828-060C-4618-A555-DE55ED12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20A0-66B5-4844-8F8B-92A826BFC8F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&apos;ha%20estimat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imeo.com/27452049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stbenet@benedictinescat.com" TargetMode="External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777960" y="4192560"/>
            <a:ext cx="4327560" cy="22269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cuchando “Me ha amado” de T. L. de Victoria, pidamos a Jesús que nos llene de su am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710280" y="2781360"/>
            <a:ext cx="43167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000" spc="-1" strike="noStrike">
                <a:solidFill>
                  <a:srgbClr val="460000"/>
                </a:solidFill>
                <a:latin typeface="Arial Unicode MS"/>
              </a:rPr>
              <a:t>30 AÑO c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7 Imagen" descr="Emaustttcc.jpg"/>
          <p:cNvPicPr/>
          <p:nvPr/>
        </p:nvPicPr>
        <p:blipFill>
          <a:blip r:embed="rId1"/>
          <a:stretch/>
        </p:blipFill>
        <p:spPr>
          <a:xfrm>
            <a:off x="6108840" y="1052640"/>
            <a:ext cx="2439720" cy="5110200"/>
          </a:xfrm>
          <a:prstGeom prst="rect">
            <a:avLst/>
          </a:prstGeom>
          <a:ln w="0">
            <a:noFill/>
          </a:ln>
        </p:spPr>
      </p:pic>
      <p:grpSp>
        <p:nvGrpSpPr>
          <p:cNvPr id="45" name="8 Grupo"/>
          <p:cNvGrpSpPr/>
          <p:nvPr/>
        </p:nvGrpSpPr>
        <p:grpSpPr>
          <a:xfrm>
            <a:off x="395280" y="357120"/>
            <a:ext cx="5032440" cy="1940040"/>
            <a:chOff x="395280" y="357120"/>
            <a:chExt cx="5032440" cy="1940040"/>
          </a:xfrm>
        </p:grpSpPr>
        <p:sp>
          <p:nvSpPr>
            <p:cNvPr id="46" name="7 Rectángulo"/>
            <p:cNvSpPr/>
            <p:nvPr/>
          </p:nvSpPr>
          <p:spPr>
            <a:xfrm>
              <a:off x="426960" y="357120"/>
              <a:ext cx="5000760" cy="1857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WordArt 87"/>
            <p:cNvSpPr txBox="1"/>
            <p:nvPr/>
          </p:nvSpPr>
          <p:spPr>
            <a:xfrm>
              <a:off x="395280" y="428400"/>
              <a:ext cx="5003640" cy="186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0">
                    <a:noFill/>
                  </a:ln>
                  <a:gradFill rotWithShape="0">
                    <a:gsLst>
                      <a:gs pos="0">
                        <a:srgbClr val="ef2a03"/>
                      </a:gs>
                      <a:gs pos="100000">
                        <a:srgbClr val="580604"/>
                      </a:gs>
                    </a:gsLst>
                    <a:lin ang="5400000"/>
                  </a:gradFill>
                  <a:effectLst>
                    <a:outerShdw dist="38183" dir="2700000" blurRad="0" rotWithShape="0">
                      <a:srgbClr val="c00000">
                        <a:alpha val="43000"/>
                      </a:srgbClr>
                    </a:outerShdw>
                  </a:effectLst>
                  <a:latin typeface="Arial Black"/>
                </a:rPr>
                <a:t>DOMINGO</a:t>
              </a:r>
              <a:endPara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ef2a03"/>
                    </a:gs>
                    <a:gs pos="100000">
                      <a:srgbClr val="580604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c00000">
                      <a:alpha val="43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8" name="14 CuadroTexto"/>
          <p:cNvSpPr/>
          <p:nvPr/>
        </p:nvSpPr>
        <p:spPr>
          <a:xfrm>
            <a:off x="7534440" y="6162840"/>
            <a:ext cx="1214280" cy="10076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Mistral"/>
              </a:rPr>
              <a:t>Reg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M'ha%20estimat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"/>
          <p:cNvSpPr/>
          <p:nvPr/>
        </p:nvSpPr>
        <p:spPr>
          <a:xfrm>
            <a:off x="885960" y="692280"/>
            <a:ext cx="7200720" cy="51213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 segundo es semejante a él: "Amarás a tu prójimo como a ti mismo."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2 Rectángulo"/>
          <p:cNvSpPr/>
          <p:nvPr/>
        </p:nvSpPr>
        <p:spPr>
          <a:xfrm>
            <a:off x="7769160" y="1628640"/>
            <a:ext cx="1260720" cy="82548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Beduí d’Isra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79280" y="162000"/>
            <a:ext cx="885060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ólo sabremos amar a los demás, si nos amamos a nosotros mis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1 CuadroTexto"/>
          <p:cNvSpPr/>
          <p:nvPr/>
        </p:nvSpPr>
        <p:spPr>
          <a:xfrm>
            <a:off x="4211640" y="5843520"/>
            <a:ext cx="48974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Un olvidado de los olvidados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1" lang="ca-ES" sz="3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vimeo.com/2745204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2 Imagen" descr=""/>
          <p:cNvPicPr/>
          <p:nvPr/>
        </p:nvPicPr>
        <p:blipFill>
          <a:blip r:embed="rId2"/>
          <a:stretch/>
        </p:blipFill>
        <p:spPr>
          <a:xfrm>
            <a:off x="1486080" y="1593720"/>
            <a:ext cx="7553160" cy="4249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73080" y="1482840"/>
            <a:ext cx="4138560" cy="52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Todos tenemos la misma dignidad, </a:t>
            </a:r>
            <a:br>
              <a:rPr sz="3400"/>
            </a:b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y todos participamos del oficio sacerdotal. ¿Qué más sacerdotal que amar a los demás desde el Altar del corazón?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(S. Leó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"/>
          <p:cNvSpPr/>
          <p:nvPr/>
        </p:nvSpPr>
        <p:spPr>
          <a:xfrm>
            <a:off x="1547640" y="820800"/>
            <a:ext cx="5832720" cy="5045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os dos mandamientos contienen toda la Ley y los Profetas."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98520" y="476280"/>
            <a:ext cx="3887640" cy="25318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uando no se actúa por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MOR, la vida se rom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09600" y="3321000"/>
            <a:ext cx="4032360" cy="320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Si no vais a lo esencial, en lugar de unir, separáis”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(“El Pare Sant Benet” Regina Goberna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1 Imagen" descr=""/>
          <p:cNvPicPr/>
          <p:nvPr/>
        </p:nvPicPr>
        <p:blipFill>
          <a:blip r:embed="rId1"/>
          <a:stretch/>
        </p:blipFill>
        <p:spPr>
          <a:xfrm>
            <a:off x="4643280" y="115920"/>
            <a:ext cx="4241880" cy="6632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684360" y="476280"/>
            <a:ext cx="7991280" cy="5545080"/>
          </a:xfrm>
          <a:prstGeom prst="rect">
            <a:avLst/>
          </a:prstGeom>
          <a:gradFill rotWithShape="0">
            <a:gsLst>
              <a:gs pos="0">
                <a:srgbClr val="460000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1511280" y="1355760"/>
            <a:ext cx="6337440" cy="37497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Jesús, ayúdanos </a:t>
            </a:r>
            <a:br>
              <a:rPr sz="48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a AMAR: a Dios, </a:t>
            </a:r>
            <a:br>
              <a:rPr sz="48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al prójimo, y a nosotros mismos, con todo el corazón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4 Grupo"/>
          <p:cNvGrpSpPr/>
          <p:nvPr/>
        </p:nvGrpSpPr>
        <p:grpSpPr>
          <a:xfrm>
            <a:off x="281160" y="115920"/>
            <a:ext cx="8286480" cy="1800360"/>
            <a:chOff x="281160" y="115920"/>
            <a:chExt cx="8286480" cy="1800360"/>
          </a:xfrm>
        </p:grpSpPr>
        <p:sp>
          <p:nvSpPr>
            <p:cNvPr id="89" name="Rectangle 5"/>
            <p:cNvSpPr/>
            <p:nvPr/>
          </p:nvSpPr>
          <p:spPr>
            <a:xfrm>
              <a:off x="281160" y="115920"/>
              <a:ext cx="8286480" cy="180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2"/>
            <p:cNvSpPr/>
            <p:nvPr/>
          </p:nvSpPr>
          <p:spPr>
            <a:xfrm>
              <a:off x="495360" y="358560"/>
              <a:ext cx="7782120" cy="1404000"/>
            </a:xfrm>
            <a:prstGeom prst="rect">
              <a:avLst/>
            </a:prstGeom>
            <a:gradFill rotWithShape="0">
              <a:gsLst>
                <a:gs pos="0">
                  <a:srgbClr val="5a3e16"/>
                </a:gs>
                <a:gs pos="100000">
                  <a:srgbClr val="c99f5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s-ES_tradnl" sz="3000" spc="-1" strike="noStrike">
                  <a:solidFill>
                    <a:srgbClr val="ffffff"/>
                  </a:solidFill>
                  <a:latin typeface="Arial"/>
                </a:rPr>
                <a:t>onjas  de  St. Benet de Montserrat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_tradnl" sz="2800" spc="-1" strike="noStrike" u="sng">
                  <a:solidFill>
                    <a:srgbClr val="ccccff"/>
                  </a:solidFill>
                  <a:uFillTx/>
                  <a:latin typeface="Arial"/>
                  <a:hlinkClick r:id="rId1"/>
                </a:rPr>
                <a:t>stbenet@benedictinescat.com</a:t>
              </a: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0" lang="es-ES" sz="2800" spc="-1" strike="noStrike" u="sng">
                  <a:solidFill>
                    <a:srgbClr val="ccccff"/>
                  </a:solidFill>
                  <a:uFillTx/>
                  <a:latin typeface="Arial"/>
                  <a:hlinkClick r:id="rId2"/>
                </a:rPr>
                <a:t>www.benedictinescat.com/montserr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Picture 7" descr="C:\Documents and Settings\st benet\Mis documentos\Fotos\SBw.jpg"/>
            <p:cNvPicPr/>
            <p:nvPr/>
          </p:nvPicPr>
          <p:blipFill>
            <a:blip r:embed="rId3"/>
            <a:stretch/>
          </p:blipFill>
          <p:spPr>
            <a:xfrm>
              <a:off x="622800" y="907920"/>
              <a:ext cx="827280" cy="550080"/>
            </a:xfrm>
            <a:prstGeom prst="rect">
              <a:avLst/>
            </a:prstGeom>
            <a:ln w="38160">
              <a:solidFill>
                <a:srgbClr val="76521c"/>
              </a:solidFill>
              <a:miter/>
            </a:ln>
          </p:spPr>
        </p:pic>
      </p:grpSp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34920" y="5856120"/>
            <a:ext cx="9036000" cy="1236600"/>
          </a:xfrm>
          <a:prstGeom prst="rect">
            <a:avLst/>
          </a:prstGeom>
          <a:solidFill>
            <a:srgbClr val="1c1c1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ef642d"/>
                </a:solidFill>
                <a:latin typeface="Arial Unicode MS"/>
              </a:rPr>
              <a:t>A la derecha: cúpulas del Sto. Sepulcro, donde Jesús murió por amor. A la izquierda: cúpula de Omar, donde lo predicó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146160" y="189000"/>
            <a:ext cx="8928000" cy="2228040"/>
          </a:xfrm>
          <a:prstGeom prst="rect">
            <a:avLst/>
          </a:prstGeom>
          <a:solidFill>
            <a:srgbClr val="33333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5º Parte del evangelio de Mateo (c21-25):</a:t>
            </a:r>
            <a:br>
              <a:rPr sz="3500"/>
            </a:br>
            <a:r>
              <a:rPr b="1" lang="es-ES" sz="3500" spc="-1" strike="noStrike">
                <a:solidFill>
                  <a:srgbClr val="ffcc66"/>
                </a:solidFill>
                <a:latin typeface="Arial Unicode MS"/>
              </a:rPr>
              <a:t>“Tu Rey entra humildemente en Jerusalén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46160" y="1557360"/>
            <a:ext cx="8746920" cy="5150880"/>
          </a:xfrm>
          <a:prstGeom prst="rect">
            <a:avLst/>
          </a:prstGeom>
          <a:solidFill>
            <a:srgbClr val="0000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ef642d"/>
                </a:solidFill>
                <a:latin typeface="Arial Unicode MS"/>
              </a:rPr>
              <a:t>Discusiones en Jerusalén:</a:t>
            </a:r>
            <a:br>
              <a:rPr sz="3500"/>
            </a:br>
            <a:r>
              <a:rPr b="1" lang="es-ES" sz="3300" spc="-1" strike="noStrike">
                <a:solidFill>
                  <a:srgbClr val="ffffff"/>
                </a:solidFill>
                <a:latin typeface="Arial Unicode MS"/>
              </a:rPr>
              <a:t>-Discusión sobre la autoridad de Jesús</a:t>
            </a:r>
            <a:br>
              <a:rPr sz="3300"/>
            </a:br>
            <a:r>
              <a:rPr b="1" lang="es-ES" sz="3300" spc="-1" strike="noStrike">
                <a:solidFill>
                  <a:srgbClr val="ffffff"/>
                </a:solidFill>
                <a:latin typeface="Arial Unicode MS"/>
              </a:rPr>
              <a:t> · Parábola de los 2 hijos </a:t>
            </a: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(dom26)</a:t>
            </a:r>
            <a:br>
              <a:rPr sz="3000"/>
            </a:br>
            <a:r>
              <a:rPr b="1" lang="es-ES" sz="3300" spc="-1" strike="noStrike">
                <a:solidFill>
                  <a:srgbClr val="ffffff"/>
                </a:solidFill>
                <a:latin typeface="Arial Unicode MS"/>
              </a:rPr>
              <a:t> · Parábola de los siervos homicidas </a:t>
            </a: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(dom27)</a:t>
            </a:r>
            <a:br>
              <a:rPr sz="3000"/>
            </a:br>
            <a:r>
              <a:rPr b="1" lang="es-ES" sz="3300" spc="-1" strike="noStrike">
                <a:solidFill>
                  <a:srgbClr val="ffffff"/>
                </a:solidFill>
                <a:latin typeface="Arial Unicode MS"/>
              </a:rPr>
              <a:t> · Parábola de los invitados a la boda (dom28)</a:t>
            </a:r>
            <a:br>
              <a:rPr sz="3300"/>
            </a:br>
            <a:r>
              <a:rPr b="1" lang="es-ES" sz="3300" spc="-1" strike="noStrike">
                <a:solidFill>
                  <a:srgbClr val="ffffff"/>
                </a:solidFill>
                <a:latin typeface="Arial Unicode MS"/>
              </a:rPr>
              <a:t>-Discusión sobre el César y Dios </a:t>
            </a:r>
            <a:r>
              <a:rPr b="1" lang="es-ES" sz="3600" spc="-1" strike="noStrike">
                <a:solidFill>
                  <a:srgbClr val="ffffff"/>
                </a:solidFill>
                <a:latin typeface="Arial Unicode MS"/>
              </a:rPr>
              <a:t>(dom29)</a:t>
            </a:r>
            <a:br>
              <a:rPr sz="3600"/>
            </a:br>
            <a:r>
              <a:rPr b="1" lang="es-ES" sz="3300" spc="-1" strike="noStrike">
                <a:solidFill>
                  <a:srgbClr val="ffffff"/>
                </a:solidFill>
                <a:latin typeface="Arial Unicode MS"/>
              </a:rPr>
              <a:t>-Discusión sobre el 1er mandamiento </a:t>
            </a:r>
            <a:r>
              <a:rPr b="1" lang="es-ES" sz="3300" spc="-1" strike="noStrike">
                <a:solidFill>
                  <a:srgbClr val="ff0000"/>
                </a:solidFill>
                <a:latin typeface="Arial Unicode MS"/>
              </a:rPr>
              <a:t>(dom30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4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1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0 Rectángulo"/>
          <p:cNvSpPr/>
          <p:nvPr/>
        </p:nvSpPr>
        <p:spPr>
          <a:xfrm>
            <a:off x="648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5" descr="murolga10t"/>
          <p:cNvPicPr/>
          <p:nvPr/>
        </p:nvPicPr>
        <p:blipFill>
          <a:blip r:embed="rId1"/>
          <a:stretch/>
        </p:blipFill>
        <p:spPr>
          <a:xfrm>
            <a:off x="-1044720" y="-4680"/>
            <a:ext cx="11233440" cy="68212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325600" y="6021360"/>
            <a:ext cx="6696000" cy="116100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El gran mandamiento es AMAR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2124000" y="115920"/>
            <a:ext cx="6551640" cy="106884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Estudiosos de las 613 leyes jud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47 -0.00695 L -0.44878 0.00347 E">
                                      <p:cBhvr>
                                        <p:cTn id="41" dur="6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95280" y="189000"/>
            <a:ext cx="8497800" cy="61880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22,34-40 En aquel tiempo, los fariseos, al oír que Jesús había hecho callar a los saduceos, formaron grupo, y uno de ellos, que era experto en la Ley, le preguntó para ponerlo a prueba: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6480" y="-1440"/>
            <a:ext cx="9156960" cy="6870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3" descr="resized_murolga11t"/>
          <p:cNvPicPr/>
          <p:nvPr/>
        </p:nvPicPr>
        <p:blipFill>
          <a:blip r:embed="rId2"/>
          <a:stretch/>
        </p:blipFill>
        <p:spPr>
          <a:xfrm>
            <a:off x="179280" y="852480"/>
            <a:ext cx="6480360" cy="58165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2700360" y="101520"/>
            <a:ext cx="597708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es leyes que no salen de la vida, ahog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659640" y="1557360"/>
            <a:ext cx="2266920" cy="49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Quere-mos ser el que sabe más,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o el que ama má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747720" y="765000"/>
            <a:ext cx="7896240" cy="6188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"Maestro, ¿cuál es el principal mandamiento de la Ley?"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3" descr=""/>
          <p:cNvPicPr/>
          <p:nvPr/>
        </p:nvPicPr>
        <p:blipFill>
          <a:blip r:embed="rId1"/>
          <a:stretch/>
        </p:blipFill>
        <p:spPr>
          <a:xfrm>
            <a:off x="-6480" y="-1440"/>
            <a:ext cx="9156960" cy="687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resized_nentora"/>
          <p:cNvPicPr/>
          <p:nvPr/>
        </p:nvPicPr>
        <p:blipFill>
          <a:blip r:embed="rId2"/>
          <a:stretch/>
        </p:blipFill>
        <p:spPr>
          <a:xfrm>
            <a:off x="0" y="836640"/>
            <a:ext cx="8028000" cy="6021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3492360" y="162000"/>
            <a:ext cx="543564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principal lo llevamos den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732720" y="1523880"/>
            <a:ext cx="2266920" cy="41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Dios ha escrito su Ley en nuestro corazón</a:t>
            </a:r>
            <a:br>
              <a:rPr sz="4000"/>
            </a:b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(Jer 31,3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03040" y="138240"/>
            <a:ext cx="3000600" cy="155628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Joven judío con la Ley en las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0"/>
          <p:cNvSpPr/>
          <p:nvPr/>
        </p:nvSpPr>
        <p:spPr>
          <a:xfrm>
            <a:off x="639720" y="765000"/>
            <a:ext cx="8129520" cy="466452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l le dijo: ""Amarás al Señor, tu Dios, con todo tu corazón, con toda tu alma, con todo tu ser." Este mandamiento es el principal y primer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3" descr=""/>
          <p:cNvPicPr/>
          <p:nvPr/>
        </p:nvPicPr>
        <p:blipFill>
          <a:blip r:embed="rId1"/>
          <a:stretch/>
        </p:blipFill>
        <p:spPr>
          <a:xfrm>
            <a:off x="-6480" y="-1440"/>
            <a:ext cx="9156960" cy="6870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185760" y="692280"/>
            <a:ext cx="3879720" cy="43603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amor es un beneficio más útil para quien lo da, que para quien lo recibe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J. Crisóstom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71280" y="4915080"/>
            <a:ext cx="7093080" cy="164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Amar a Dios es el primero en el pensamiento, amar a los demás el primero en las obras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(S. Agustí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3" descr="xticonarublevtcw"/>
          <p:cNvPicPr/>
          <p:nvPr/>
        </p:nvPicPr>
        <p:blipFill>
          <a:blip r:embed="rId2"/>
          <a:stretch/>
        </p:blipFill>
        <p:spPr>
          <a:xfrm>
            <a:off x="4067280" y="588960"/>
            <a:ext cx="4002120" cy="4352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REGINA</cp:lastModifiedBy>
  <dcterms:modified xsi:type="dcterms:W3CDTF">2011-10-16T19:42:22Z</dcterms:modified>
  <cp:revision>672</cp:revision>
  <dc:subject/>
  <dc:title>evangeli</dc:title>
</cp:coreProperties>
</file>