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M'ha%20estimatw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9E3-D629-47ED-AFE5-632228A3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B8B-617F-4B08-92EA-59369EA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2EA-94BE-403E-8E2E-3C1D0CED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C5A-BA6D-4697-8B2E-51F0C3F8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6E0-1B77-470F-BCDF-4D4B54D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01F-8039-49D1-A7B9-0747488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AFB-3579-4920-984A-B5BBF14B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D6C-F46B-4E56-B44E-313856E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A36-01EB-46FF-866C-0398C07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4A3-A179-4C4D-BBE9-9C3FCE9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821-27BA-4E01-A990-4A24350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C29-B6FF-48F9-8062-94F1D65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83D2-2F9A-40B9-8741-70F814F183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&apos;ha%20estima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meo.com/2745204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77960" y="4192560"/>
            <a:ext cx="432756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“Me ha amado” de T. L. de Victoria, pidamos a Jesús que nos llene de su a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1028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30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7534440" y="616284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'ha%20estima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85960" y="692280"/>
            <a:ext cx="7200720" cy="5121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segundo es semejante a él: "Amarás a tu prójimo como a ti mismo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Rectángulo"/>
          <p:cNvSpPr/>
          <p:nvPr/>
        </p:nvSpPr>
        <p:spPr>
          <a:xfrm>
            <a:off x="7769160" y="1628640"/>
            <a:ext cx="1260720" cy="82548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Beduí d’Isra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79280" y="162000"/>
            <a:ext cx="88506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sabremos amar a los demás, si nos amamos a nosotros mis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1 CuadroTexto"/>
          <p:cNvSpPr/>
          <p:nvPr/>
        </p:nvSpPr>
        <p:spPr>
          <a:xfrm>
            <a:off x="4211640" y="5843520"/>
            <a:ext cx="4897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Un olvidado de los olvidado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1" lang="ca-ES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vimeo.com/2745204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 Imagen" descr=""/>
          <p:cNvPicPr/>
          <p:nvPr/>
        </p:nvPicPr>
        <p:blipFill>
          <a:blip r:embed="rId2"/>
          <a:stretch/>
        </p:blipFill>
        <p:spPr>
          <a:xfrm>
            <a:off x="1486080" y="1593720"/>
            <a:ext cx="7553160" cy="4249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73080" y="1482840"/>
            <a:ext cx="4138560" cy="52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Todos tenemos la misma dignidad, </a:t>
            </a:r>
            <a:br>
              <a:rPr sz="3400"/>
            </a:b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y todos participamos del oficio sacerdotal. ¿Qué más sacerdotal que amar a los demás desde el Altar del corazón?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S. Leó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"/>
          <p:cNvSpPr/>
          <p:nvPr/>
        </p:nvSpPr>
        <p:spPr>
          <a:xfrm>
            <a:off x="1547640" y="820800"/>
            <a:ext cx="5832720" cy="5045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os dos mandamientos contienen toda la Ley y los Profetas."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98520" y="476280"/>
            <a:ext cx="38876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uando no se actúa por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MOR, la vida se rom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9600" y="3321000"/>
            <a:ext cx="4032360" cy="32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i no vais a lo esencial, en lugar de unir, separáis”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“El Pare Sant Benet” Regina Goberna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 Imagen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241880" cy="6632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684360" y="476280"/>
            <a:ext cx="7991280" cy="55450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1511280" y="1355760"/>
            <a:ext cx="6337440" cy="3749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Jesús, ayúdanos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 AMAR: a Dios,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l prójimo, y a nosotros mismos, con todo el corazó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4 Grupo"/>
          <p:cNvGrpSpPr/>
          <p:nvPr/>
        </p:nvGrpSpPr>
        <p:grpSpPr>
          <a:xfrm>
            <a:off x="281160" y="115920"/>
            <a:ext cx="8286480" cy="1800360"/>
            <a:chOff x="281160" y="115920"/>
            <a:chExt cx="8286480" cy="1800360"/>
          </a:xfrm>
        </p:grpSpPr>
        <p:sp>
          <p:nvSpPr>
            <p:cNvPr id="89" name="Rectangle 5"/>
            <p:cNvSpPr/>
            <p:nvPr/>
          </p:nvSpPr>
          <p:spPr>
            <a:xfrm>
              <a:off x="281160" y="115920"/>
              <a:ext cx="8286480" cy="180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"/>
            <p:cNvSpPr/>
            <p:nvPr/>
          </p:nvSpPr>
          <p:spPr>
            <a:xfrm>
              <a:off x="495360" y="358560"/>
              <a:ext cx="778212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22800" y="907920"/>
              <a:ext cx="827280" cy="5500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4920" y="5856120"/>
            <a:ext cx="9036000" cy="123660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ef642d"/>
                </a:solidFill>
                <a:latin typeface="Arial Unicode MS"/>
              </a:rPr>
              <a:t>A la derecha: cúpulas del Sto. Sepulcro, donde Jesús murió por amor. A la izquierda: cúpula de Omar, donde lo predicó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46160" y="189000"/>
            <a:ext cx="8928000" cy="22280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5º Parte del evangelio de Mateo (c21-25):</a:t>
            </a:r>
            <a:br>
              <a:rPr sz="3500"/>
            </a:br>
            <a:r>
              <a:rPr b="1" lang="es-ES" sz="3500" spc="-1" strike="noStrike">
                <a:solidFill>
                  <a:srgbClr val="ffcc66"/>
                </a:solidFill>
                <a:latin typeface="Arial Unicode MS"/>
              </a:rPr>
              <a:t>“Tu Rey entra humildemente en Jerusalén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46160" y="1557360"/>
            <a:ext cx="8746920" cy="5150880"/>
          </a:xfrm>
          <a:prstGeom prst="rect">
            <a:avLst/>
          </a:prstGeom>
          <a:solidFill>
            <a:srgbClr val="0000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ef642d"/>
                </a:solidFill>
                <a:latin typeface="Arial Unicode MS"/>
              </a:rPr>
              <a:t>Discusiones en Jerusalén:</a:t>
            </a:r>
            <a:br>
              <a:rPr sz="35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la autoridad de Jesús</a:t>
            </a:r>
            <a:br>
              <a:rPr sz="33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2 hijos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dom26)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siervos homicidas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dom27)</a:t>
            </a:r>
            <a:br>
              <a:rPr sz="30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 · Parábola de los invitados a la boda (dom28)</a:t>
            </a:r>
            <a:br>
              <a:rPr sz="33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el César y Dios </a:t>
            </a:r>
            <a:r>
              <a:rPr b="1" lang="es-ES" sz="3600" spc="-1" strike="noStrike">
                <a:solidFill>
                  <a:srgbClr val="ffffff"/>
                </a:solidFill>
                <a:latin typeface="Arial Unicode MS"/>
              </a:rPr>
              <a:t>(dom29)</a:t>
            </a:r>
            <a:br>
              <a:rPr sz="3600"/>
            </a:b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-Discusión sobre el 1er mandamiento </a:t>
            </a:r>
            <a:r>
              <a:rPr b="1" lang="es-ES" sz="3300" spc="-1" strike="noStrike">
                <a:solidFill>
                  <a:srgbClr val="ff0000"/>
                </a:solidFill>
                <a:latin typeface="Arial Unicode MS"/>
              </a:rPr>
              <a:t>(dom30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4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648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murolga10t"/>
          <p:cNvPicPr/>
          <p:nvPr/>
        </p:nvPicPr>
        <p:blipFill>
          <a:blip r:embed="rId1"/>
          <a:stretch/>
        </p:blipFill>
        <p:spPr>
          <a:xfrm>
            <a:off x="-1044720" y="-4680"/>
            <a:ext cx="11233440" cy="6821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325600" y="6021360"/>
            <a:ext cx="6696000" cy="11610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El gran mandamiento es AMAR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124000" y="115920"/>
            <a:ext cx="6551640" cy="106884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studiosos de las 613 leyes ju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7 -0.00695 L -0.44878 0.00347 E">
                                      <p:cBhvr>
                                        <p:cTn id="41" dur="6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95280" y="189000"/>
            <a:ext cx="84978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2,34-40 En aquel tiempo, los fariseos, al oír que Jesús había hecho callar a los saduceos, formaron grupo, y uno de ellos, que era experto en la Ley, le preguntó para ponerlo a prueba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resized_murolga11t"/>
          <p:cNvPicPr/>
          <p:nvPr/>
        </p:nvPicPr>
        <p:blipFill>
          <a:blip r:embed="rId2"/>
          <a:stretch/>
        </p:blipFill>
        <p:spPr>
          <a:xfrm>
            <a:off x="179280" y="852480"/>
            <a:ext cx="6480360" cy="5816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2700360" y="101520"/>
            <a:ext cx="5977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es leyes que no salen de la vida, ahog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659640" y="1557360"/>
            <a:ext cx="226692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Quere-mos ser el que sabe más,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el que ama 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747720" y="765000"/>
            <a:ext cx="789624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Maestro, ¿cuál es el principal mandamiento de la Ley?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resized_nentora"/>
          <p:cNvPicPr/>
          <p:nvPr/>
        </p:nvPicPr>
        <p:blipFill>
          <a:blip r:embed="rId2"/>
          <a:stretch/>
        </p:blipFill>
        <p:spPr>
          <a:xfrm>
            <a:off x="0" y="836640"/>
            <a:ext cx="802800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492360" y="162000"/>
            <a:ext cx="5435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al lo llevamos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732720" y="1523880"/>
            <a:ext cx="2266920" cy="41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ha escrito su Ley en nuestro corazón</a:t>
            </a:r>
            <a:br>
              <a:rPr sz="4000"/>
            </a:b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(Jer 31,3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03040" y="138240"/>
            <a:ext cx="3000600" cy="15562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Joven judío con la Ley en las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39720" y="765000"/>
            <a:ext cx="8129520" cy="46645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dijo: ""Amarás al Señor, tu Dios, con todo tu corazón, con toda tu alma, con todo tu ser." Este mandamiento es el principal y primer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85760" y="692280"/>
            <a:ext cx="387972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mor es un beneficio más útil para quien lo da, que para quien lo recibe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. Crisósto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1280" y="4915080"/>
            <a:ext cx="709308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Amar a Dios es el primero en el pensamiento, amar a los demás el primero en las obr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(S. Agustí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3" descr="xticonarublevtcw"/>
          <p:cNvPicPr/>
          <p:nvPr/>
        </p:nvPicPr>
        <p:blipFill>
          <a:blip r:embed="rId2"/>
          <a:stretch/>
        </p:blipFill>
        <p:spPr>
          <a:xfrm>
            <a:off x="4067280" y="588960"/>
            <a:ext cx="4002120" cy="435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10-16T19:42:22Z</dcterms:modified>
  <cp:revision>672</cp:revision>
  <dc:subject/>
  <dc:title>evangeli</dc:title>
</cp:coreProperties>
</file>