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FD0-EDA9-4935-8757-32C6CC4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247-DA66-427E-9E5D-AD37B8F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D6E-DCA1-44BC-8132-384A7132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889-72E2-475B-992C-F9E92D71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118-E007-4113-A37E-FEBE2333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901-3B35-4FEF-8D54-FF2618C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AF7-33D6-4B73-81C2-8BB4344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42B-66BE-4B51-A54B-970472C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A20-F0F2-4397-A5E5-0A9BC2E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072-D911-437F-907D-090D38F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1BF-2BCC-43E4-9614-5D87534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445-66B5-4AA0-A8E9-D69FD76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C199-93D4-4D2E-9052-7AEA278ECDE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n bello 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Imagen" descr="35604a.JPG"/>
          <p:cNvPicPr/>
          <p:nvPr/>
        </p:nvPicPr>
        <p:blipFill>
          <a:blip r:embed="rId1"/>
          <a:stretch/>
        </p:blipFill>
        <p:spPr>
          <a:xfrm>
            <a:off x="3214800" y="4071960"/>
            <a:ext cx="2232000" cy="2220840"/>
          </a:xfrm>
          <a:prstGeom prst="rect">
            <a:avLst/>
          </a:prstGeom>
          <a:ln w="0">
            <a:noFill/>
          </a:ln>
        </p:spPr>
      </p:pic>
      <p:pic>
        <p:nvPicPr>
          <p:cNvPr id="43" name="4 Imagen" descr="sacerdote.gif"/>
          <p:cNvPicPr/>
          <p:nvPr/>
        </p:nvPicPr>
        <p:blipFill>
          <a:blip r:embed="rId2"/>
          <a:stretch/>
        </p:blipFill>
        <p:spPr>
          <a:xfrm>
            <a:off x="3429000" y="214200"/>
            <a:ext cx="1805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(UNA HISTORIA DE LA VIDA RE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E INTERÉS HUMANO).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TODOS DEBERÍAMOS VIV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OMO ESTA BUENA SEÑ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4 Imagen" descr="35604a.JPG"/>
          <p:cNvPicPr/>
          <p:nvPr/>
        </p:nvPicPr>
        <p:blipFill>
          <a:blip r:embed="rId1"/>
          <a:stretch/>
        </p:blipFill>
        <p:spPr>
          <a:xfrm>
            <a:off x="571680" y="257184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ASI AL FINAL DEL SERVICIO DOMINICAL EL SACERDOTE PREGUNTÓ: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-¿CUÁNTOS DE USTE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HAN PERDONADO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US ENEMIGOS?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EL 80% LEVANTÓ LA MANO. 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Imagen" descr="sacerdote.gif"/>
          <p:cNvPicPr/>
          <p:nvPr/>
        </p:nvPicPr>
        <p:blipFill>
          <a:blip r:embed="rId1"/>
          <a:stretch/>
        </p:blipFill>
        <p:spPr>
          <a:xfrm>
            <a:off x="857160" y="2357280"/>
            <a:ext cx="18050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EL SACERDOTE INSISTIÓ CON LA PREGUNTA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TODOS RESPONDIERON 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VEZ, EXCEP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UNA PEQUEÑA VIEJITA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¿NO ESTÁ USTED DISPUE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PERDO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SUS ENEMIG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Imagen" descr="sacerdote.gif"/>
          <p:cNvPicPr/>
          <p:nvPr/>
        </p:nvPicPr>
        <p:blipFill>
          <a:blip r:embed="rId1"/>
          <a:stretch/>
        </p:blipFill>
        <p:spPr>
          <a:xfrm>
            <a:off x="642960" y="2143080"/>
            <a:ext cx="1805040" cy="2454480"/>
          </a:xfrm>
          <a:prstGeom prst="rect">
            <a:avLst/>
          </a:prstGeom>
          <a:ln w="0">
            <a:noFill/>
          </a:ln>
        </p:spPr>
      </p:pic>
      <p:pic>
        <p:nvPicPr>
          <p:cNvPr id="50" name="4 Imagen" descr="35604a.JPG"/>
          <p:cNvPicPr/>
          <p:nvPr/>
        </p:nvPicPr>
        <p:blipFill>
          <a:blip r:embed="rId2"/>
          <a:stretch/>
        </p:blipFill>
        <p:spPr>
          <a:xfrm>
            <a:off x="6357960" y="44290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O NO TENGO ENEMIGO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RESPONDIÓ DULCEMENTE.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ESO ES MUY RAR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¿CUÁNTOS AÑ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TIENE USTED?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101 RESPONDIÓ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LA CONGREG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E LEVANT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LA APLAUDIÓ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Imagen" descr="sacerdote.gif"/>
          <p:cNvPicPr/>
          <p:nvPr/>
        </p:nvPicPr>
        <p:blipFill>
          <a:blip r:embed="rId1"/>
          <a:stretch/>
        </p:blipFill>
        <p:spPr>
          <a:xfrm>
            <a:off x="428760" y="1714680"/>
            <a:ext cx="1947600" cy="264924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35604a.JPG"/>
          <p:cNvPicPr/>
          <p:nvPr/>
        </p:nvPicPr>
        <p:blipFill>
          <a:blip r:embed="rId2"/>
          <a:stretch/>
        </p:blipFill>
        <p:spPr>
          <a:xfrm>
            <a:off x="6357960" y="44290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¿PUEDE PASAR AL FRE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ECIRNOS CÓMO SE LLE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LOS 101 AÑOS SIN TENER ENEMIGOS?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LA DULCE SEÑORA PASÓ AL FREN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E DIRIGIÓ A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ONGRE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IJ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Imagen" descr="35604a.JPG"/>
          <p:cNvPicPr/>
          <p:nvPr/>
        </p:nvPicPr>
        <p:blipFill>
          <a:blip r:embed="rId1"/>
          <a:stretch/>
        </p:blipFill>
        <p:spPr>
          <a:xfrm>
            <a:off x="6572160" y="4429080"/>
            <a:ext cx="2232000" cy="2220840"/>
          </a:xfrm>
          <a:prstGeom prst="rect">
            <a:avLst/>
          </a:prstGeom>
          <a:ln w="0">
            <a:noFill/>
          </a:ln>
        </p:spPr>
      </p:pic>
      <p:pic>
        <p:nvPicPr>
          <p:cNvPr id="56" name="4 Imagen" descr="sacerdote.gif"/>
          <p:cNvPicPr/>
          <p:nvPr/>
        </p:nvPicPr>
        <p:blipFill>
          <a:blip r:embed="rId2"/>
          <a:stretch/>
        </p:blipFill>
        <p:spPr>
          <a:xfrm>
            <a:off x="214200" y="0"/>
            <a:ext cx="1571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-PORQUE YA SE MUR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TODOS ESOS HIJOS DE P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35604a.JPG"/>
          <p:cNvPicPr/>
          <p:nvPr/>
        </p:nvPicPr>
        <p:blipFill>
          <a:blip r:embed="rId1"/>
          <a:stretch/>
        </p:blipFill>
        <p:spPr>
          <a:xfrm>
            <a:off x="3500280" y="4286160"/>
            <a:ext cx="22323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0:35:03Z</dcterms:created>
  <dc:creator>Silvana</dc:creator>
  <dc:description/>
  <dc:language>en-US</dc:language>
  <cp:lastModifiedBy>Silvana</cp:lastModifiedBy>
  <dcterms:modified xsi:type="dcterms:W3CDTF">2010-03-23T00:47:29Z</dcterms:modified>
  <cp:revision>2</cp:revision>
  <dc:subject/>
  <dc:title>Un bello ejemplo</dc:title>
</cp:coreProperties>
</file>