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375-7640-4192-9200-C77E648C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9BF-9E8A-475C-8CFD-60BDCA98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45F-5429-4DEB-A553-31FD6913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9CD-50EC-4FF8-A3D8-D8FE33D9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8D9-9B6C-4BD4-8FA9-4E62535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D69-F195-4677-A6DB-2E69EF29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FDD-877D-4194-93A7-6A8F5A4D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F70-4A1C-4B54-B16F-9D7CB12E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626-C475-4643-91A8-90CB8F22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4BE-4D72-4687-8EAA-AFC51CF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257-DE77-4A50-86A6-4F08090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0D1-14AE-4F41-84E4-3E96A4C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DF42-553C-4831-8AD6-EF90AC68C85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Un bello 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Imagen" descr="35604a.JPG"/>
          <p:cNvPicPr/>
          <p:nvPr/>
        </p:nvPicPr>
        <p:blipFill>
          <a:blip r:embed="rId1"/>
          <a:stretch/>
        </p:blipFill>
        <p:spPr>
          <a:xfrm>
            <a:off x="3214800" y="4071960"/>
            <a:ext cx="2232000" cy="2220840"/>
          </a:xfrm>
          <a:prstGeom prst="rect">
            <a:avLst/>
          </a:prstGeom>
          <a:ln w="0">
            <a:noFill/>
          </a:ln>
        </p:spPr>
      </p:pic>
      <p:pic>
        <p:nvPicPr>
          <p:cNvPr id="43" name="4 Imagen" descr="sacerdote.gif"/>
          <p:cNvPicPr/>
          <p:nvPr/>
        </p:nvPicPr>
        <p:blipFill>
          <a:blip r:embed="rId2"/>
          <a:stretch/>
        </p:blipFill>
        <p:spPr>
          <a:xfrm>
            <a:off x="3429000" y="214200"/>
            <a:ext cx="1805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(UNA HISTORIA DE LA VIDA RE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DE INTERÉS HUMANO).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TODOS DEBERÍAMOS VIV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COMO ESTA BUENA SEÑ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4 Imagen" descr="35604a.JPG"/>
          <p:cNvPicPr/>
          <p:nvPr/>
        </p:nvPicPr>
        <p:blipFill>
          <a:blip r:embed="rId1"/>
          <a:stretch/>
        </p:blipFill>
        <p:spPr>
          <a:xfrm>
            <a:off x="571680" y="257184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CASI AL FINAL DEL SERVICIO DOMINICAL EL SACERDOTE PREGUNTÓ: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-¿CUÁNTOS DE USTE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HAN PERDONADO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SUS ENEMIGOS?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EL 80% LEVANTÓ LA MANO. 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Imagen" descr="sacerdote.gif"/>
          <p:cNvPicPr/>
          <p:nvPr/>
        </p:nvPicPr>
        <p:blipFill>
          <a:blip r:embed="rId1"/>
          <a:stretch/>
        </p:blipFill>
        <p:spPr>
          <a:xfrm>
            <a:off x="857160" y="2357280"/>
            <a:ext cx="18050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EL SACERDOTE INSISTIÓ CON LA PREGUNTA.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TODOS RESPONDIERON 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VEZ, EXCEP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UNA PEQUEÑA VIEJITA.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¿NO ESTÁ USTED DISPUE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A PERDO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A SUS ENEMIG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Imagen" descr="sacerdote.gif"/>
          <p:cNvPicPr/>
          <p:nvPr/>
        </p:nvPicPr>
        <p:blipFill>
          <a:blip r:embed="rId1"/>
          <a:stretch/>
        </p:blipFill>
        <p:spPr>
          <a:xfrm>
            <a:off x="642960" y="2143080"/>
            <a:ext cx="1805040" cy="2454480"/>
          </a:xfrm>
          <a:prstGeom prst="rect">
            <a:avLst/>
          </a:prstGeom>
          <a:ln w="0">
            <a:noFill/>
          </a:ln>
        </p:spPr>
      </p:pic>
      <p:pic>
        <p:nvPicPr>
          <p:cNvPr id="50" name="4 Imagen" descr="35604a.JPG"/>
          <p:cNvPicPr/>
          <p:nvPr/>
        </p:nvPicPr>
        <p:blipFill>
          <a:blip r:embed="rId2"/>
          <a:stretch/>
        </p:blipFill>
        <p:spPr>
          <a:xfrm>
            <a:off x="6357960" y="44290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O NO TENGO ENEMIGO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RESPONDIÓ DULCEMENTE. 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ESO ES MUY RAR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¿CUÁNTOS AÑ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TIENE USTED?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101 RESPONDIÓ.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   LA CONGREG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SE LEVANT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LA APLAUDIÓ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Imagen" descr="sacerdote.gif"/>
          <p:cNvPicPr/>
          <p:nvPr/>
        </p:nvPicPr>
        <p:blipFill>
          <a:blip r:embed="rId1"/>
          <a:stretch/>
        </p:blipFill>
        <p:spPr>
          <a:xfrm>
            <a:off x="428760" y="1714680"/>
            <a:ext cx="1947600" cy="2649240"/>
          </a:xfrm>
          <a:prstGeom prst="rect">
            <a:avLst/>
          </a:prstGeom>
          <a:ln w="0">
            <a:noFill/>
          </a:ln>
        </p:spPr>
      </p:pic>
      <p:pic>
        <p:nvPicPr>
          <p:cNvPr id="53" name="4 Imagen" descr="35604a.JPG"/>
          <p:cNvPicPr/>
          <p:nvPr/>
        </p:nvPicPr>
        <p:blipFill>
          <a:blip r:embed="rId2"/>
          <a:stretch/>
        </p:blipFill>
        <p:spPr>
          <a:xfrm>
            <a:off x="6357960" y="44290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¿PUEDE PASAR AL FREN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DECIRNOS CÓMO SE LLE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A LOS 101 AÑOS SIN TENER ENEMIGOS?</a:t>
            </a:r>
            <a:br>
              <a:rPr sz="3200"/>
            </a:b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         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 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LA DULCE SEÑORA PASÓ AL FRENT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SE DIRIGIÓ A 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CONGRE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Y DIJ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Imagen" descr="35604a.JPG"/>
          <p:cNvPicPr/>
          <p:nvPr/>
        </p:nvPicPr>
        <p:blipFill>
          <a:blip r:embed="rId1"/>
          <a:stretch/>
        </p:blipFill>
        <p:spPr>
          <a:xfrm>
            <a:off x="6572160" y="4429080"/>
            <a:ext cx="2232000" cy="2220840"/>
          </a:xfrm>
          <a:prstGeom prst="rect">
            <a:avLst/>
          </a:prstGeom>
          <a:ln w="0">
            <a:noFill/>
          </a:ln>
        </p:spPr>
      </p:pic>
      <p:pic>
        <p:nvPicPr>
          <p:cNvPr id="56" name="4 Imagen" descr="sacerdote.gif"/>
          <p:cNvPicPr/>
          <p:nvPr/>
        </p:nvPicPr>
        <p:blipFill>
          <a:blip r:embed="rId2"/>
          <a:stretch/>
        </p:blipFill>
        <p:spPr>
          <a:xfrm>
            <a:off x="214200" y="0"/>
            <a:ext cx="1571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-PORQUE YA SE MUR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 </a:t>
            </a:r>
            <a:r>
              <a:rPr b="0" lang="es-ES" sz="3200" spc="-1" strike="noStrike">
                <a:solidFill>
                  <a:srgbClr val="04617b"/>
                </a:solidFill>
                <a:latin typeface="comic"/>
              </a:rPr>
              <a:t>TODOS ESOS HIJOS DE PU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Imagen" descr="35604a.JPG"/>
          <p:cNvPicPr/>
          <p:nvPr/>
        </p:nvPicPr>
        <p:blipFill>
          <a:blip r:embed="rId1"/>
          <a:stretch/>
        </p:blipFill>
        <p:spPr>
          <a:xfrm>
            <a:off x="3500280" y="4286160"/>
            <a:ext cx="22323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0:35:03Z</dcterms:created>
  <dc:creator>Silvana</dc:creator>
  <dc:description/>
  <dc:language>en-US</dc:language>
  <cp:lastModifiedBy>Silvana</cp:lastModifiedBy>
  <dcterms:modified xsi:type="dcterms:W3CDTF">2010-03-23T00:47:29Z</dcterms:modified>
  <cp:revision>2</cp:revision>
  <dc:subject/>
  <dc:title>Un bello ejemplo</dc:title>
</cp:coreProperties>
</file>