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sound001.wav" ContentType="audio/x-wav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D598-E7C9-4552-B067-558298A86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6DA7-35B4-4048-80E7-1C575133A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D071-42F9-439B-8A4D-F8880C4CE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D0D4-AAF6-43D4-BAAE-AAF5A1238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5640-B6DA-4805-9F9D-812D475BB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6A29-0FBE-4473-8C94-852A5C99D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05CE-2970-4E50-A8DF-1AD39AF29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1E24-161C-4034-B1D8-C8EB173E4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E70E-E904-4416-8352-001C17264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71A8-5088-4271-8FE9-19057138B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985E-89B8-4889-A3F1-FB985AD67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CA94-8098-40CE-B3AF-E8F87CDBB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24D54D-297E-4D89-8380-483F1E48306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2340000" y="26607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Female soldiers of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17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80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381400" y="0"/>
            <a:ext cx="456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703440" y="-27000"/>
            <a:ext cx="768492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8436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862280" y="0"/>
            <a:ext cx="5419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2290680" y="-27000"/>
            <a:ext cx="45849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97964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25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124000" y="0"/>
            <a:ext cx="504036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536840" y="0"/>
            <a:ext cx="607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02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210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440" y="0"/>
            <a:ext cx="555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0034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4067280" y="620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2f2f2"/>
                </a:solidFill>
                <a:latin typeface="Arial"/>
              </a:rPr>
              <a:t>I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3348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2f2f2"/>
                </a:solidFill>
                <a:latin typeface="Arial"/>
              </a:rPr>
              <a:t>No Commen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100240" y="0"/>
            <a:ext cx="499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049480" y="-27000"/>
            <a:ext cx="511488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-44280" y="0"/>
            <a:ext cx="9232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6948360" y="551664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2f2f2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050920" y="0"/>
            <a:ext cx="510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12400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9:57:28Z</dcterms:created>
  <dc:creator>Denis</dc:creator>
  <dc:description/>
  <dc:language>en-US</dc:language>
  <cp:lastModifiedBy>Randy</cp:lastModifiedBy>
  <dcterms:modified xsi:type="dcterms:W3CDTF">2010-11-12T14:13:30Z</dcterms:modified>
  <cp:revision>19</cp:revision>
  <dc:subject/>
  <dc:title>Femmes sold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22000000000001024140</vt:lpwstr>
  </property>
</Properties>
</file>