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sound001.wav" ContentType="audio/x-wav"/>
  <Override PartName="/ppt/media/image1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1E08-BF39-49C0-BE8C-8DEBA7674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967A1-6ABA-4090-AB72-9A3B2EC11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B2759-5C3E-40D9-BB1C-98C1D9BD7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78C7-4A79-4018-8239-0C6CDCEAC4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C462-6F36-4541-9DBC-40EEAF3366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4A827-48AD-4F8E-B265-89A40A7AB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FA7D-19E5-41E1-AB84-BA402796E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5528F-6D2E-435C-8984-302EFA9CC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1E54-0B37-41C9-A07B-859C09E7A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C7E8-CE00-496D-AF68-BBA89265C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6CBBA-741B-46C9-B8DF-547E68731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5D63E-B0BC-4B60-8BC6-99CDC4B05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E1C0B0-0200-4762-B638-03FA679BE6C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1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2340000" y="26607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Female soldiers of the wor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171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80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2381400" y="0"/>
            <a:ext cx="4566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703440" y="-27000"/>
            <a:ext cx="768492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238480" y="0"/>
            <a:ext cx="466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68436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862280" y="0"/>
            <a:ext cx="5419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2290680" y="-27000"/>
            <a:ext cx="458496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979640" y="0"/>
            <a:ext cx="5168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419040" y="0"/>
            <a:ext cx="8256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124000" y="0"/>
            <a:ext cx="5040360" cy="68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536840" y="0"/>
            <a:ext cx="607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02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393840"/>
            <a:ext cx="9144000" cy="60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20210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792440" y="0"/>
            <a:ext cx="5559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2003400" y="0"/>
            <a:ext cx="5137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504720"/>
            <a:ext cx="9144000" cy="5803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4067280" y="620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f2f2f2"/>
                </a:solidFill>
                <a:latin typeface="Arial"/>
              </a:rPr>
              <a:t>I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504720"/>
            <a:ext cx="9144000" cy="5803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"/>
          <p:cNvSpPr/>
          <p:nvPr/>
        </p:nvSpPr>
        <p:spPr>
          <a:xfrm>
            <a:off x="3348000" y="620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f2f2f2"/>
                </a:solidFill>
                <a:latin typeface="Arial"/>
              </a:rPr>
              <a:t>No Comment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100240" y="0"/>
            <a:ext cx="4992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2049480" y="-27000"/>
            <a:ext cx="511488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-44280" y="0"/>
            <a:ext cx="92325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6948360" y="5516640"/>
            <a:ext cx="19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f2f2f2"/>
                </a:solidFill>
                <a:latin typeface="Arial"/>
              </a:rPr>
              <a:t>Braz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2050920" y="0"/>
            <a:ext cx="5102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12400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9:57:28Z</dcterms:created>
  <dc:creator>Denis</dc:creator>
  <dc:description/>
  <dc:language>en-US</dc:language>
  <cp:lastModifiedBy>Randy</cp:lastModifiedBy>
  <dcterms:modified xsi:type="dcterms:W3CDTF">2010-11-12T14:13:30Z</dcterms:modified>
  <cp:revision>19</cp:revision>
  <dc:subject/>
  <dc:title>Femmes solda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22000000000001024140</vt:lpwstr>
  </property>
</Properties>
</file>