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Mahler%20Adagietto%20Symphonie%205%C2%AA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BC8-B813-42C5-B3A2-AAB11FB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620-CDFC-45B6-AEF6-84E08E06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183-58DB-40B2-BDAE-822FF6B9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0A4-D86D-4BF7-A15C-024D7325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77A-D07A-4A9D-B2FA-13915AA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D18-4849-42BD-AEE7-4B8C2F7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90C-D8D9-49A1-A09F-CB1C683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668-894C-482F-A784-C8085B8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A39-AA69-4927-9789-F4553163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BE0-EFD5-43D9-8FD3-C3739044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EBF-D76D-4847-9395-F71E70E9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0DE-2853-4D7E-B740-91195F2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6B71-519A-4842-B2BA-92297F4C348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Mahler%20Adagietto%20Symphonie%205&#170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Lucas 21, 25-28.34-36 - I domingo de Adviento –C- 29-11-2009. Comienzo del año litúrgico. </a:t>
            </a:r>
            <a:br>
              <a:rPr sz="1600"/>
            </a:b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Autora: Asun Gutiérrez.</a:t>
            </a:r>
            <a:br>
              <a:rPr sz="1600"/>
            </a:br>
            <a:r>
              <a:rPr b="0" lang="es-ES" sz="1600" spc="-1" strike="noStrike">
                <a:solidFill>
                  <a:srgbClr val="990099"/>
                </a:solidFill>
                <a:latin typeface="Comic Sans MS"/>
              </a:rPr>
              <a:t>Música: Adagietto Symphonie nº 5 (Mah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472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Y la esperanza es una virgen encinta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de un mundo diverso.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ólo las mujeres, las madres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conocen la espera,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porque está inscrita físicamente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en sus cuer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e espera, no por una carencia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ino por una plenitud,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no por ausencia que colmar,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ino por una sobreabundancia de vida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que ya presi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Se espera para engendrar: </a:t>
            </a:r>
            <a:br>
              <a:rPr sz="2000"/>
            </a:br>
            <a:r>
              <a:rPr b="0" lang="es-ES" sz="2000" spc="-1" strike="noStrike">
                <a:solidFill>
                  <a:srgbClr val="cc66ff"/>
                </a:solidFill>
                <a:latin typeface="Comic Sans MS"/>
              </a:rPr>
              <a:t>el viento del Espíritu llena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ff"/>
                </a:solidFill>
                <a:latin typeface="Monotype Corsiva"/>
              </a:rPr>
              <a:t>(Ermes Roch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ebe_madre2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3807000" cy="5715000"/>
          </a:xfrm>
          <a:prstGeom prst="rect">
            <a:avLst/>
          </a:prstGeom>
          <a:ln w="9360">
            <a:solidFill>
              <a:srgbClr val="cc66ff"/>
            </a:solidFill>
            <a:miter/>
          </a:ln>
        </p:spPr>
      </p:pic>
    </p:spTree>
  </p:cSld>
  <p:transition spd="slow">
    <p:random/>
    <p:sndAc>
      <p:stSnd>
        <p:snd r:embed="rId3" name="Mahler%20Adagietto%20Symphonie%205%C2%A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UCAS%20EVANGEL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426600">
            <a:off x="4729320" y="907560"/>
            <a:ext cx="3873240" cy="5174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cas es el evangelista del nuev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clo litúrgico (C)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l más universalist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evangelio del Espírit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misericordia 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 parábol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pias, como la del hijo pródigo 15,11-3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salv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os pobres, de la alegrí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mujer: presenta un númer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protagonistas femeninas muy superior a todos los restantes libros del Nuevo Testament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ida cristiana, para Luca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l seguimiento de Jesú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rasgos típic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o el camin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igilancia, la oració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446400">
            <a:off x="685440" y="1219320"/>
            <a:ext cx="373392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os comienzo a un nuev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clo del año litúrg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se trata de volver nuevamente al punto de partida después de un recorrido cir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ás bien seguir la direcció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tilínea de una flecha q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unta hacia del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UN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Habrá señales en el sol, en la luna y en las estrellas; y en la tierra la angustia se apoderará de los pueblos, asustados por el estruendo del mar y de sus o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6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os hombres se morirán de miedo, al ver esa conmoción del universo; pues las potencias del cielo quedarán violentamente sacudi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s “señales” que menciona afectan a la totalidad de la creación (cielo, sol, luna, estrellas, tierra, mar). Lo que sucede en el cielo tiene reflejo en la tier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En la tradición apocalíptica, la catástrofe cósmica era el símbolo de la caída de un orden social injusto, y de la inauguración de un mundo nuevo: del triunfo del Mesías y del inicio del reinado universal de Dios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ucas presenta este acontecimiento como Buena Noticia. El objetivo no es provocar miedo sino animar a la alegría y a la esperanza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uestra fe no se basa en descripción de acontecimientos, sino en la venida de Jesús, que supone nuestra definitiva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U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28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ntonces verán al Hijo del hombre venir en una nube con gran poder y gloria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Cuando empiecen a suceder estas cosas, cobrad ánimo y levantad la cabeza, porque se acerca vuestra liber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67080"/>
            <a:ext cx="9144000" cy="31114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vangelista pone en boca de Jesús estas palabras de ánimo y paz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ene Jesús ¡qué alivio! La humanidad puede pasar por sufrimientos, mi vida personal puede tener problemas y contratiempos. Nada de eso tiene la última palabr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decisivo para cada un@ de nosotr@s es el tiempo que nos toca vivi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s la preparación inmediata al encuentro personal con Jesú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s invita a levantar la cabeza, a no mirar a otro lado ante las necesidades de las personas que nos rodean, a comprometernos a hacer posible y feliz la vida de tod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r la venida liberadora de Cristo nos compromete a vivir el presente liberándonos y libe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RAZÓN%20ORILLAfelicid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228600"/>
            <a:ext cx="891540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Procurad que vuestros corazones no se emboten por el exceso de comida, 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a embriaguez y las preocupaciones de la vida, porque entonces ese día caerá de improviso sobre vosotros.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5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Ese día será como una trampa en la que caerán atrapados todos los habitantes de la ti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343400"/>
            <a:ext cx="9144000" cy="2562840"/>
          </a:xfrm>
          <a:prstGeom prst="rect">
            <a:avLst/>
          </a:prstGeom>
          <a:solidFill>
            <a:srgbClr val="cc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ejemplos que pone Jesús siguen siendo actual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da persona sabe qué le embota la mente y el corazón y le impide tener desplegada la antena hacia los valores del Espíritu, hacia la auténtica felicida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La pereza? ¿la rutina?, ¿la incoherencia?, ¿el pesimismo?, ¿el infantilismo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la ambición?, ¿el consumismo?, ¿la insolidaridad?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te conformes con lo que no llena ni enciende tu corazó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tiempo de dar las mejores noticias. A tu alrededor necesitan una palabra amable, un gesto de amistad, un ideal que entusiasme, una mano tendid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 gracia que renueve, un amor desbordant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pia%20de%20estela%20azu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8915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Velad, pues, y orad en todo tiempo, para que os libréis de todo lo que ha de venir y podáis presentaros sin temor ante el Hijo del ho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3400"/>
            <a:ext cx="9018720" cy="2837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perar a Jesús no significa hacer elucubraciones sobre el fin del mundo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o vivir el presente con lucidez, confianza y respons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 alarmismo ni confor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 nuestro es creer en un futuro de plenitud, sin evadirnos del present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mantener viva la esperan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s el tiempo de quien vigila, confía, de quien se compromete, de quien ora y esp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 la Buena Noticia en el corazón y en la mano, continuamos con ilusión un viaj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avilloso que Dios nos ofrece gratuitamen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 el anuncio y la promesa de la feliz llegada a Pu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aro%20peq%20O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609480"/>
            <a:ext cx="769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 de Nazaret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que no predicó leyes ni sistemas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ino el Reino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su luz y con su fuerza, podemos vivir, obr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ufrir y morir en este mu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 forma verdaderamente huma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ostenidos por Di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mpeñados hasta el fin en la lucha por el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reemos en Jesús,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speramos el Reino que anun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y nos comprometemos en trabajar sin desca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ara llevar a todos los hombres a este Re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New York"/>
              </a:rPr>
              <a:t>Hans Kü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8:03:37Z</dcterms:created>
  <dc:creator> Asun Gutiérrez</dc:creator>
  <dc:description/>
  <dc:language>en-US</dc:language>
  <cp:lastModifiedBy>Usuario</cp:lastModifiedBy>
  <dcterms:modified xsi:type="dcterms:W3CDTF">2009-11-25T11:47:21Z</dcterms:modified>
  <cp:revision>17</cp:revision>
  <dc:subject>jeasam@gmail.com</dc:subject>
  <dc:title>Adviento 1 C</dc:title>
</cp:coreProperties>
</file>