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png" ContentType="image/png"/>
  <Override PartName="/ppt/media/image4.jpeg" ContentType="image/jpeg"/>
  <Override PartName="/ppt/media/M%C3%9ASICA%20DEL%20A%C3%91O%201800.wav" ContentType="audio/x-wav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6E04-711C-405D-A9C8-767EF142215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BC98-DA97-4621-8C0B-E92DF4A035F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D08-FACF-48A2-9B2B-89472CA9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DAA-4D0B-45CD-AFD8-6C4DFF0B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F0D61-E55F-4537-9664-D41181BF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808ED-85B0-44D2-9740-37490C11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D4C50-C397-48AE-AA4B-FD4647CB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F0268-B9DB-48A7-8F26-ADA97BC5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9EAB8-E575-436E-9FAE-E2C226C8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F85A9-6DF2-4E81-B576-B2E1D67B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0025B-D8E1-49F5-9955-F6D03A20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8890D-143C-4695-96E6-CB0BB3AE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9E1F9-4F56-411A-8476-6368268D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A0BA0-89CF-4773-A117-56530390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D010-32AA-425A-B81D-51D273F9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273BB-EA65-41DA-9CB0-E5A4E3E3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7B925-62F1-4444-B058-24414276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EEA7D-6531-4C96-887C-D36D0544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6C772-7A12-479E-9F46-897D709E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4749D-5F75-40DC-B75C-31AF5B99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3599A-9009-455E-95DA-8FAA7D81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FFB24-E00A-43F5-92B8-677E031E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8C802-2476-437F-9CB4-98B01CD2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AA866-DD8A-4E7B-89E7-81490ABD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A3DC3-7656-497D-8B65-247B149E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B49-0E70-4319-B8B9-32DBD9D5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2426B-64FD-4287-BDE8-9C3BE700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BB122-BA3F-4682-BE58-6746CBC6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1F5E7-51F6-4C96-9E27-332C916B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33F9F-770C-4F94-87B2-5A54CE2D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3B150-A1C8-462E-B099-113A5257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77382-CED3-4CCE-8259-8C9A6D66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AADD3-05C8-40E5-9AE4-1A8FDAA8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BE514-1043-48F3-8CA6-AA5006A5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E36E0-9D4B-473B-8BCA-D2FA9DD1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99A9D-DDD8-4DE4-B376-ED65384A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3108-2986-4D05-B5DC-D1B1EEEC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82090-285E-44C8-8496-3D4C5479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52A1E-ECE3-495C-A805-6AF1F675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0C981-27CD-4685-8016-5CACF9F4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45F6D-E3D9-4EDE-B3D1-1682B68F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E34AE-5185-4081-8E10-AE8C928C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1C9CE-75EF-4F2B-B897-22822029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E45F3-9C47-47F2-9D2D-B2A4F752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AEDEA-4A75-4B61-8C35-ADB4FCE9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25D49-03EA-4836-A00A-8F5F60B6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D6E68-28E3-49A7-BFDF-7CF7C4E5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E6E9-601B-4777-8858-8108574A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0E4CB-6AE4-4272-BEC7-794B9F81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C4C1A-0952-4339-8830-2327FAD9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34A39-5718-4B9A-AE12-17002E43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067A9-187B-4BF0-A0ED-7E32023F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1CCD6-C00F-48E6-A704-6DC0C7D5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A75E-3D78-4D40-8073-075A5390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8FD1-A5B4-4D5F-ADBD-3194E9F1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0D2E-BE99-4349-BB92-23F742C6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E5E2-C70D-4A84-A05C-400BE1E4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EEF9-5F51-4325-B637-4DE24B8D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7A6-748D-43A9-BC0B-53193D7A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A259-9085-4FCC-A779-BD08FF42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CD5F-B5A9-4358-86BE-08BFFE68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70A4-3B52-4C62-8E11-48959E4B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06AC-212D-49F6-B45D-71038E78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5B4F-2498-45EC-ADA0-81DE6DDF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335E8-9A8A-42A7-A68E-AFB660DB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E301C-CE9B-4126-9266-C7CD880F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0005E-48CE-4E9D-A9F9-3F8732AF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FB8AC-1915-4173-A20C-E9EC5E07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962CE-969D-4A20-8C01-85655E01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21C5-664C-4E11-B4AA-FDB558D7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CE5F4-2CD0-4565-BB8F-D585A8D2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B7388-2AD4-4D24-88DD-83033F43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C1FE2-C7EA-46EF-9F95-B9FAFEC6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A032A-7A4A-4276-B6C8-C2B6275C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DE80F-E30A-4D57-8DF4-98796644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362F7-C420-4AE0-AF44-0BDC3EA9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8B042-3C5B-478E-8755-174973BA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3DBEE-8F75-4951-943C-CF541A10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00203-1307-4101-85BD-C8E7AADB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64440-27DD-49F7-8ED1-631C8010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6F3E-696E-4FE9-9214-434B1151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F0336-9EBB-4BFF-9E19-658BF12D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CD60B-F9F9-401E-A654-B39AD71A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19CAB-24FD-4D78-936A-1263CBD2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BF50D-2661-4679-8FB5-81E0F534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12402-CD23-40B3-925F-54F52F6B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999D0-ED2B-4B70-8DE7-CE5F2E36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98EFB-317F-40C5-9096-EBD78812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217D8-CF58-4E96-AACD-7F0B0F49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B44C5-5033-4601-BF57-DEA27C39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B4930-C980-4A1F-AB6E-5E5DD690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780-227A-4884-88BD-EB3FB870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1DE7C-077F-4384-B504-C6A3DD51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EE4A5-20FD-4267-938A-8B72BE17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9A132-A604-4D8A-8E73-1F855C2B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91A7A-EF4C-46DE-A0ED-1EA8795B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26BBD-7553-4D84-80E4-B0C8F8CC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F2CC9-4AA1-4C3C-8718-12DCDE52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2182D-782A-4EA6-93ED-41FE3DEC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20DAF-196A-4B78-8F53-40AE2787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55532-5CA0-44E2-84E3-156D2CA9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08DBA-1F77-428C-B064-4159D969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782F-A04A-4F09-9FE9-5074FB18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A2143-8FAE-4F43-ADFF-63CA08B8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7BB38-B422-49C3-91FB-CEB1F775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A55D2-AE17-4122-943F-5E9FEFF1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DD6E9-459C-42B5-8D52-07A3050D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4325E-BF1C-41A4-B754-BC3B05D4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1BABE-FD89-48B4-8141-C4D25043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46F2D-CF81-4886-9FF2-A13C6E47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4061D-FE62-4CF0-B5A0-8E511AFF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D8D45-D55D-4A94-8BED-1722C78B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D1C9D-7329-4EFE-A2E3-E54C1285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323-4174-4088-9314-2F95471C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B3DA8-8886-444D-811E-1369AA57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00BC3-3A92-4513-B920-CE5FBE55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BDE75-2B61-4A70-A38D-F36CDE63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68932-FD81-4E56-B0EB-0DD5E962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F6A3C-E382-46AD-9E02-4E6174C7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5A907-387A-452A-946D-4E7F561B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08A03-8AED-43BA-B589-962441BE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18A75-F799-48E7-8A2B-BF873869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7C961-BE5F-46AE-88BE-3330D153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F9A4F-5E30-4039-81AD-9529CEDB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7E33-530B-438D-90F7-FC409701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3CFC5-A182-463B-BE21-5D142C0A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174FC-F299-4721-96A7-FE9424CF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1260D-ECE0-4F1C-8FBB-D042CD0F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14DE5-ECF7-491C-BE26-A4123936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E1A71-1E21-4C9A-B0C0-EF84AD3C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B7D13-A134-4962-87D3-1411387B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97F14-52D5-42CF-B06C-23293024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C5065-9B5C-4668-84C9-8E9A1930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413AC-6820-448A-BD22-F59B948E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7BCE1-6D5E-4A01-A4AC-3329924D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6D7-75F4-4FEC-9A7B-23E00A4F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5A3AC-BAB0-40BB-8E60-B83CC3B8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070E3-EE81-4CC7-8C1A-BAAF1CB2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02CB7-EB02-4E14-9959-F9511C24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21C35-F520-4988-B7DA-86C10E7A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81263-8099-47F6-8ED1-B71F8727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7DAB0-DA28-4EE6-BF05-728AD555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3B718-56D5-42C7-B455-F32ECB5D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76878-DB9D-457D-B295-62883F66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E9963-5690-494C-8FE1-6C1DC730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BEC27-711F-4369-B6D6-94B2E2B5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7DC7-BBC8-4FE4-AC28-2ECDE44E126B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22D7-BCD9-43E6-8DE4-8FE3F49B2FFA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DDBE-1879-4DAE-AAAB-E86F150F721D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60CA-5EC5-4E4D-A586-5F02A0A60E10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FC6B-9FDB-455D-AE0B-B8E386FB33FB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4E90-1177-4E62-8BC6-4D13DE45382D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7ECA-4B5A-4A3B-AD81-1398B27F17E7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8A55-E370-4A94-B136-0A4839442033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80FD-D25E-4FF1-AACC-CF7DF0CFEFEA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0B29-6E4B-4F52-BE65-3BA446A39143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D3D0-8913-464B-8276-6D9EE31112C8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0000-7158-4710-9CDA-CDFE96336978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&#218;SICA%20DEL%20A&#209;O%201800.wav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1 Rectángulo"/>
          <p:cNvSpPr/>
          <p:nvPr/>
        </p:nvSpPr>
        <p:spPr>
          <a:xfrm>
            <a:off x="468360" y="-27000"/>
            <a:ext cx="831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c000"/>
                </a:solidFill>
                <a:latin typeface="Calibri"/>
              </a:rPr>
              <a:t>El auto mas viejo de la histor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</a:rPr>
              <a:t>(1884 De Dion Bouton Et Trapardoux Dos-A-Dos Runabout de vap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3 Imagen" descr="1.jpg"/>
          <p:cNvPicPr/>
          <p:nvPr/>
        </p:nvPicPr>
        <p:blipFill>
          <a:blip r:embed="rId1"/>
          <a:stretch/>
        </p:blipFill>
        <p:spPr>
          <a:xfrm>
            <a:off x="230040" y="866880"/>
            <a:ext cx="8734680" cy="60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1 Imagen" descr="17.jpg"/>
          <p:cNvPicPr/>
          <p:nvPr/>
        </p:nvPicPr>
        <p:blipFill>
          <a:blip r:embed="rId1"/>
          <a:stretch/>
        </p:blipFill>
        <p:spPr>
          <a:xfrm>
            <a:off x="-973080" y="-171360"/>
            <a:ext cx="1100448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1 Imagen" descr="19.jpg"/>
          <p:cNvPicPr/>
          <p:nvPr/>
        </p:nvPicPr>
        <p:blipFill>
          <a:blip r:embed="rId1"/>
          <a:stretch/>
        </p:blipFill>
        <p:spPr>
          <a:xfrm>
            <a:off x="936720" y="0"/>
            <a:ext cx="71643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1 Imagen" descr="20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1 Imagen" descr="21.jpg"/>
          <p:cNvPicPr/>
          <p:nvPr/>
        </p:nvPicPr>
        <p:blipFill>
          <a:blip r:embed="rId1"/>
          <a:stretch/>
        </p:blipFill>
        <p:spPr>
          <a:xfrm>
            <a:off x="-468360" y="0"/>
            <a:ext cx="96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1 Imagen" descr="22.jpg"/>
          <p:cNvPicPr/>
          <p:nvPr/>
        </p:nvPicPr>
        <p:blipFill>
          <a:blip r:embed="rId1"/>
          <a:stretch/>
        </p:blipFill>
        <p:spPr>
          <a:xfrm>
            <a:off x="2232000" y="-4680"/>
            <a:ext cx="4572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1 Rectángulo"/>
          <p:cNvSpPr/>
          <p:nvPr/>
        </p:nvSpPr>
        <p:spPr>
          <a:xfrm>
            <a:off x="2303640" y="1285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Calibri"/>
              </a:rPr>
              <a:t>En 1887, con De Dion en el timón, </a:t>
            </a:r>
            <a:r>
              <a:rPr b="1" lang="es-MX" sz="1800" spc="-1" strike="noStrike">
                <a:solidFill>
                  <a:srgbClr val="ffc000"/>
                </a:solidFill>
                <a:latin typeface="Calibri"/>
              </a:rPr>
              <a:t>ganó la primera carrera de motor</a:t>
            </a:r>
            <a:r>
              <a:rPr b="0" lang="es-MX" sz="1800" spc="-1" strike="noStrike">
                <a:solidFill>
                  <a:srgbClr val="ffc000"/>
                </a:solidFill>
                <a:latin typeface="Calibri"/>
              </a:rPr>
              <a:t> (fue el único participante en llegar a la meta!), en una carrera que cubre 32 km desde el puente Pont de Neuilly en París a Versalles y de regreso en una hora y 14 minutos a un promedio de </a:t>
            </a:r>
            <a:r>
              <a:rPr b="1" lang="es-MX" sz="1800" spc="-1" strike="noStrike">
                <a:solidFill>
                  <a:srgbClr val="ffc000"/>
                </a:solidFill>
                <a:latin typeface="Calibri"/>
              </a:rPr>
              <a:t>25.9 kmh</a:t>
            </a:r>
            <a:r>
              <a:rPr b="0" lang="es-MX" sz="1800" spc="-1" strike="noStrike">
                <a:solidFill>
                  <a:srgbClr val="ffc000"/>
                </a:solidFill>
                <a:latin typeface="Calibri"/>
              </a:rPr>
              <a:t>, según 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informes de la época, llegand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181240" cy="20667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"/>
          <p:cNvPicPr/>
          <p:nvPr/>
        </p:nvPicPr>
        <p:blipFill>
          <a:blip r:embed="rId2"/>
          <a:stretch/>
        </p:blipFill>
        <p:spPr>
          <a:xfrm>
            <a:off x="7029360" y="0"/>
            <a:ext cx="2114640" cy="2019240"/>
          </a:xfrm>
          <a:prstGeom prst="rect">
            <a:avLst/>
          </a:prstGeom>
          <a:ln w="0">
            <a:noFill/>
          </a:ln>
        </p:spPr>
      </p:pic>
      <p:sp>
        <p:nvSpPr>
          <p:cNvPr id="527" name="5 Rectángulo"/>
          <p:cNvSpPr/>
          <p:nvPr/>
        </p:nvSpPr>
        <p:spPr>
          <a:xfrm>
            <a:off x="108000" y="2060640"/>
            <a:ext cx="88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61 kilómetros por hora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 en las rectas!. Desde entonces, ha participado en cuatro carreras de Londres a Brighton y ganó en Pebble Beach en 19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7 Rectángulo"/>
          <p:cNvSpPr/>
          <p:nvPr/>
        </p:nvSpPr>
        <p:spPr>
          <a:xfrm>
            <a:off x="6156360" y="2658960"/>
            <a:ext cx="298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000"/>
                </a:solidFill>
                <a:latin typeface="Calibri"/>
              </a:rPr>
              <a:t>La marquesa sólo ha tenido </a:t>
            </a:r>
            <a:r>
              <a:rPr b="1" lang="es-MX" sz="2400" spc="-1" strike="noStrike">
                <a:solidFill>
                  <a:srgbClr val="ffc000"/>
                </a:solidFill>
                <a:latin typeface="Calibri"/>
              </a:rPr>
              <a:t>cuatro propietarios, permaneciendo con una familia 81 años </a:t>
            </a:r>
            <a:r>
              <a:rPr b="0" lang="es-MX" sz="2400" spc="-1" strike="noStrike">
                <a:solidFill>
                  <a:srgbClr val="ffc000"/>
                </a:solidFill>
                <a:latin typeface="Calibri"/>
              </a:rPr>
              <a:t>y ha sido </a:t>
            </a:r>
            <a:r>
              <a:rPr b="1" lang="es-MX" sz="2400" spc="-1" strike="noStrike">
                <a:solidFill>
                  <a:srgbClr val="ffc000"/>
                </a:solidFill>
                <a:latin typeface="Calibri"/>
              </a:rPr>
              <a:t>restaurado dos veces</a:t>
            </a:r>
            <a:r>
              <a:rPr b="0" lang="es-MX" sz="2400" spc="-1" strike="noStrike">
                <a:solidFill>
                  <a:srgbClr val="ffc000"/>
                </a:solidFill>
                <a:latin typeface="Calibri"/>
              </a:rPr>
              <a:t>, una por la familia Doriol y otra por un coleccionista británico, en la década de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6" descr=""/>
          <p:cNvPicPr/>
          <p:nvPr/>
        </p:nvPicPr>
        <p:blipFill>
          <a:blip r:embed="rId3"/>
          <a:stretch/>
        </p:blipFill>
        <p:spPr>
          <a:xfrm>
            <a:off x="179280" y="2706840"/>
            <a:ext cx="592164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1 CuadroTexto"/>
          <p:cNvSpPr/>
          <p:nvPr/>
        </p:nvSpPr>
        <p:spPr>
          <a:xfrm>
            <a:off x="3235680" y="2370240"/>
            <a:ext cx="2297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1 CuadroTexto"/>
          <p:cNvSpPr/>
          <p:nvPr/>
        </p:nvSpPr>
        <p:spPr>
          <a:xfrm>
            <a:off x="3235680" y="2370240"/>
            <a:ext cx="2297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1 Rectángulo"/>
          <p:cNvSpPr/>
          <p:nvPr/>
        </p:nvSpPr>
        <p:spPr>
          <a:xfrm>
            <a:off x="0" y="-27000"/>
            <a:ext cx="914400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000"/>
                </a:solidFill>
                <a:latin typeface="Calibri"/>
              </a:rPr>
              <a:t>El coche tarda 45 minutos en generar suficiente vapor para conduci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000"/>
                </a:solidFill>
                <a:latin typeface="Calibri"/>
              </a:rPr>
              <a:t>se alimenta de trozos de papel, madera y carb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000"/>
                </a:solidFill>
                <a:latin typeface="Calibri"/>
              </a:rPr>
              <a:t>Fue construido dos años antes que Karl Benz y Gottlieb Daimler patentaran el motor de combustión interna y recientemente fue vendido en una subasta por la suma de </a:t>
            </a:r>
            <a:r>
              <a:rPr b="1" lang="es-MX" sz="1600" spc="-1" strike="noStrike">
                <a:solidFill>
                  <a:srgbClr val="ffc000"/>
                </a:solidFill>
                <a:latin typeface="Calibri"/>
              </a:rPr>
              <a:t>4.62 millones de dólares</a:t>
            </a:r>
            <a:r>
              <a:rPr b="0" lang="es-MX" sz="1600" spc="-1" strike="noStrike">
                <a:solidFill>
                  <a:srgbClr val="ffc000"/>
                </a:solidFill>
                <a:latin typeface="Calibri"/>
              </a:rPr>
              <a:t>, en el mes de Marzo del 2012, más del doble de lo estimado pre-ven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Dos postores anónimos incrementaron los precios en una guerra de ofertas de tres min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2 Imagen" descr="1.jpg"/>
          <p:cNvPicPr/>
          <p:nvPr/>
        </p:nvPicPr>
        <p:blipFill>
          <a:blip r:embed="rId1"/>
          <a:stretch/>
        </p:blipFill>
        <p:spPr>
          <a:xfrm>
            <a:off x="0" y="1716120"/>
            <a:ext cx="91440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2 Imagen" descr="1.jpg"/>
          <p:cNvPicPr/>
          <p:nvPr/>
        </p:nvPicPr>
        <p:blipFill>
          <a:blip r:embed="rId1"/>
          <a:stretch/>
        </p:blipFill>
        <p:spPr>
          <a:xfrm>
            <a:off x="0" y="77796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504" name="1 Rectángulo"/>
          <p:cNvSpPr/>
          <p:nvPr/>
        </p:nvSpPr>
        <p:spPr>
          <a:xfrm>
            <a:off x="0" y="0"/>
            <a:ext cx="87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000"/>
                </a:solidFill>
                <a:latin typeface="Calibri"/>
              </a:rPr>
              <a:t>E</a:t>
            </a:r>
            <a:r>
              <a:rPr b="0" lang="es-MX" sz="2000" spc="-1" strike="noStrike">
                <a:solidFill>
                  <a:srgbClr val="ffc000"/>
                </a:solidFill>
                <a:latin typeface="Calibri"/>
              </a:rPr>
              <a:t>n un evento en Hershey, Pennsylvania, se subastó 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s-MX" sz="2000" spc="-1" strike="noStrike">
                <a:solidFill>
                  <a:srgbClr val="ffc000"/>
                </a:solidFill>
                <a:latin typeface="Calibri"/>
              </a:rPr>
              <a:t>auto más antiguo del m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1 Rectángulo"/>
          <p:cNvSpPr/>
          <p:nvPr/>
        </p:nvSpPr>
        <p:spPr>
          <a:xfrm>
            <a:off x="0" y="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000"/>
                </a:solidFill>
                <a:latin typeface="Calibri"/>
              </a:rPr>
              <a:t>El coche más antiguo del mundo en funcionamiento, un 1884 De Dion Bouton Et Trapardoux Dos-A-Dos Runabout de vapor, hizo historia al lograr $ 4,62 millones en Hershey RM Auctions 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'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ste auto de 127 años de edad, eclipsó rápidamente a su oferta de 500.000 dólares de parti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n el momento en que comenzaban las ofertas, el martillo bajó en US $ 4,2 mill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l precio final incluye una prima del comprador del diez por ciento del valor total del vehícul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a multitud comenzó a aplaudir tan pronto como el coche se deslizó hacia el escenario y el entusiasmo no decayó hasta bien después de la v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2 Imagen" descr="11.jpg"/>
          <p:cNvPicPr/>
          <p:nvPr/>
        </p:nvPicPr>
        <p:blipFill>
          <a:blip r:embed="rId1"/>
          <a:stretch/>
        </p:blipFill>
        <p:spPr>
          <a:xfrm>
            <a:off x="0" y="765000"/>
            <a:ext cx="9163080" cy="6093000"/>
          </a:xfrm>
          <a:prstGeom prst="rect">
            <a:avLst/>
          </a:prstGeom>
          <a:ln w="0">
            <a:noFill/>
          </a:ln>
        </p:spPr>
      </p:pic>
      <p:sp>
        <p:nvSpPr>
          <p:cNvPr id="507" name="3 Rectángulo"/>
          <p:cNvSpPr/>
          <p:nvPr/>
        </p:nvSpPr>
        <p:spPr>
          <a:xfrm>
            <a:off x="9877320" y="-534960"/>
            <a:ext cx="2286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ste auto de 127 años de edad, eclipsó rápidamente a su oferta de 500.000 dólares de parti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n el momento en que comenzaban las ofertas, el martillo bajó en US $ 4,2 mill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l precio final incluye una prima del comprador del diez por ciento del valor total del vehícul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a multitud comenzó a aplaudir tan pronto como el coche se deslizó hacia el escenario y el entusiasmo no decayó hasta bien después de la v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4 Rectángulo"/>
          <p:cNvSpPr/>
          <p:nvPr/>
        </p:nvSpPr>
        <p:spPr>
          <a:xfrm>
            <a:off x="7596360" y="3213000"/>
            <a:ext cx="154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1 Imagen" descr="12.jpg"/>
          <p:cNvPicPr/>
          <p:nvPr/>
        </p:nvPicPr>
        <p:blipFill>
          <a:blip r:embed="rId1"/>
          <a:stretch/>
        </p:blipFill>
        <p:spPr>
          <a:xfrm>
            <a:off x="0" y="87804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510" name="2 Rectángulo"/>
          <p:cNvSpPr/>
          <p:nvPr/>
        </p:nvSpPr>
        <p:spPr>
          <a:xfrm>
            <a:off x="250920" y="-27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000"/>
                </a:solidFill>
                <a:latin typeface="Calibri"/>
              </a:rPr>
              <a:t>Este auto de 127 años de edad, eclipsó rápidamente a su oferta de 500.000 dólares de parti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3 Imagen" descr="13.jpg"/>
          <p:cNvPicPr/>
          <p:nvPr/>
        </p:nvPicPr>
        <p:blipFill>
          <a:blip r:embed="rId1"/>
          <a:stretch/>
        </p:blipFill>
        <p:spPr>
          <a:xfrm>
            <a:off x="-36360" y="77940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512" name="1 Rectángulo"/>
          <p:cNvSpPr/>
          <p:nvPr/>
        </p:nvSpPr>
        <p:spPr>
          <a:xfrm>
            <a:off x="-36360" y="1191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</a:rPr>
              <a:t>En el momento en que comenzaban las ofertas, el martillo bajó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4 Rectángulo"/>
          <p:cNvSpPr/>
          <p:nvPr/>
        </p:nvSpPr>
        <p:spPr>
          <a:xfrm>
            <a:off x="3839400" y="0"/>
            <a:ext cx="512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c000"/>
                </a:solidFill>
                <a:latin typeface="Calibri"/>
              </a:rPr>
              <a:t>US $ 4,62 millone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2 Imagen" descr="14.jpg"/>
          <p:cNvPicPr/>
          <p:nvPr/>
        </p:nvPicPr>
        <p:blipFill>
          <a:blip r:embed="rId1"/>
          <a:stretch/>
        </p:blipFill>
        <p:spPr>
          <a:xfrm>
            <a:off x="0" y="77796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515" name="1 Rectángulo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000"/>
                </a:solidFill>
                <a:latin typeface="Calibri"/>
              </a:rPr>
              <a:t>El precio final incluye una prima del comprador del di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000"/>
                </a:solidFill>
                <a:latin typeface="Calibri"/>
              </a:rPr>
              <a:t>por ciento del valor total del vehí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3 Imagen" descr="15.jpg"/>
          <p:cNvPicPr/>
          <p:nvPr/>
        </p:nvPicPr>
        <p:blipFill>
          <a:blip r:embed="rId1"/>
          <a:stretch/>
        </p:blipFill>
        <p:spPr>
          <a:xfrm>
            <a:off x="0" y="77796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517" name="1 Rectángulo"/>
          <p:cNvSpPr/>
          <p:nvPr/>
        </p:nvSpPr>
        <p:spPr>
          <a:xfrm>
            <a:off x="0" y="128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000"/>
                </a:solidFill>
                <a:latin typeface="Calibri"/>
              </a:rPr>
              <a:t>La multitud comenzó a aplaudir tan pronto como el coche se deslizó hacia el escenario y el entusiasmo no decayó hasta después de la ve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1 Imagen" descr="16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3:04:00Z</dcterms:created>
  <dc:creator>Cesareo</dc:creator>
  <dc:description/>
  <dc:language>en-US</dc:language>
  <cp:lastModifiedBy>Cesareo</cp:lastModifiedBy>
  <dcterms:modified xsi:type="dcterms:W3CDTF">2012-12-13T05:04:15Z</dcterms:modified>
  <cp:revision>2</cp:revision>
  <dc:subject/>
  <dc:title>Presentación de PowerPoint</dc:title>
</cp:coreProperties>
</file>