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M%C3%9ASICA%20DEL%20A%C3%91O%201800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F9A9-CDE9-4832-B735-DCD8C18F1F8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8F41-D999-4053-A3C9-0DCBF29247E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0DB-A8A6-408A-A5A4-C9B16226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BF5-65B8-4A6A-8A2A-C8E9825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5ED5C-3C25-477C-8E25-629B1BD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71F00-48B8-4AD1-802B-7CFA89F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24AE4-C289-41F6-A0BA-2FB8DB6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4F77-6FF2-4DB6-AFDA-8442747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E3AB5-D4B3-4771-9F69-CD14597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11ABC-30AE-430F-943E-0C03626E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61CA8-EA0F-4D40-A27C-E6C70EF8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14B51-D13D-460F-8991-5CA4AB45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A6CE1-20B2-437B-A242-797B9DC2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FFEE1-2528-417C-98AE-A89C66FF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B85-0917-41B2-9900-B4AEE019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68577-3CA3-4CA9-8A5A-43A99A8E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3EDF4-7D28-4953-BDD6-F465F30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BFECF-E3BB-4DC6-A3A6-AD351331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D98A2-B833-43DC-9955-57A9DB60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C1CF-C77A-4473-BBC7-E23457E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45C3D-0B1A-4788-B0AD-6CDC5B6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EB3DD-834D-453E-B639-D3BF219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B6618-72C5-41EB-AE82-13D7898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5F3AA-566A-4436-9D53-61B9B7CA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B910E-E5D3-4E4A-AECE-E85AB7F7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05E-82E7-4DC3-BBF9-ABC61F8F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2D94A-B886-4E26-8BCF-A667C433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1E763-0EE8-468C-B3A7-48215163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D6F80-513F-4BDF-9BE5-97F54CD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674C-A5E4-4920-8DBC-D2BAF81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836D9-5685-4580-B58F-371292DC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FEDE7-7EF4-444B-93BB-C7E9307F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FA1F0-3B42-4756-B95E-17C197C0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DDD99-FB8B-47D5-94C9-0786EBD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633B9-0739-4CB1-A6BC-766581B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3C80F-F8FF-4E0F-B64E-C8F3BCE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840A-A6BB-4BAE-AD11-2245A18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8BC46-71C9-45E5-8849-9160389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EC0FB-E70F-48D9-8DF0-830BE888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5F307-FD73-4F03-B1B3-CA94735F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6285-FC0D-41F2-A87C-45277928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27886-96FA-4FCA-983E-4AEEDA1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47C97-28D6-488E-AB3C-D4B635B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66966-4773-4339-8DDE-96D5FC8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8B606-8AED-431E-A502-7F19B3B3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47334-5D94-43E6-910E-89C0CE1C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4F4E6-D97A-42D6-99C1-10A460B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241-C31E-40F6-9FB8-273B1C53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4B893-EEEE-420B-A49F-B2D8B5E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E6BFD-8A5B-44A4-B3B0-891B3F0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9F0D5-7F5D-4933-9627-DF5C9A6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B3B61-9352-4CD7-B150-AA4AADBA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4D9D5-A1DD-4B49-9632-8E9E609E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58E8-15F5-462D-87AE-381039A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EC2-D90D-4993-914B-91206889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EA63-9BB1-4DBD-B2EB-825B2B0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A1B-048F-4D5A-8A87-C7E67AF2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363E-6346-411F-8BE4-63EAD02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B5D-AB21-4627-8BC9-890353C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1865-7856-40ED-8DAF-595E9CC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D7E4-8E6D-42D2-976C-AAB4A03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AA45-46FD-45DC-9CBE-FC33177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F2A4-A4B7-45DD-BB17-D3F4FF83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0FB-4255-437D-B0E0-5AC02342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DDD6-BD2F-419E-83A1-4D7C7F8D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AB07-97E0-4293-909E-07F5FFD2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D6AD-659F-45FE-94F5-FC73B9E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3ACA-53A3-48B1-ABD4-66FAA16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9696-2C0E-443E-804E-4F0DC36A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098-8162-4E62-A731-376586CC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1688-447D-4943-8AAB-3D14203B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0953-F99C-42FE-BB21-90496E8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05C7-3B9F-4BA1-81EB-84365EC8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129B-9CF1-4AF9-BFFE-06FDEB7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1959-3284-46FF-BB9D-A851D466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D108-5A3B-45BD-A4D6-61C44AD7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427F-482C-4194-AFD5-3C3DD2A8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396F-2F93-47CF-8005-F81357DE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9959-C95B-49AB-A0B5-9DA3B4A8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5F127-829B-445C-B078-AFB851E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D88-2CB2-4A51-BC90-82139DA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9A9E-87E9-4572-82FC-943EAD6E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F0AF-34DD-495C-869E-4F82DA0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4452-D839-4760-A92F-64F4359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5B9D-8A79-46E7-AA90-0D3D279F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DC1E-AA74-4C42-B787-6EBD85E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96C8-8D37-46AA-8ED1-F230E40D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59B9-6397-4CBF-B769-443156B0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41C6-C90B-40BD-AAA6-9030CC84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A7DA-CB42-4F2D-B565-8AE0AC3D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43A44-E238-4615-B1B0-6011476C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BC1-4BA2-4D1A-805C-494CDC2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6DBBD-5DC8-47F4-9007-C74BF2B2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559E-B72A-4A7F-98FB-D0A90C0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3DAA-5BAC-441B-9956-DBCD74FC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CAA7-A4F2-4447-A985-65CC77D3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5DE8-0C27-4DD1-BC7F-7423F268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B82C-F830-4A84-8BB0-9B30B92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B069-BB4E-432A-AAF7-25D7826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6286-D36B-450F-A268-EA7CDFD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0FB2-D308-4CD6-8253-819BCED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7B6C2-8833-403E-953E-A35C2717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03F-21CB-4006-9689-6064CFD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7852-F1FE-46EF-9F6B-72C09012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3945-A97E-45A6-91A3-ACEF30EB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DD16F-8A35-4E73-AE38-85C60F1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C723-A292-465E-8470-7774EF43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863E-0C4A-407A-9801-0315FF35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A1DC-F6F2-40A4-8F15-B18E0E73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E1CDF-3C1E-421C-BBEE-8EB624B8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D34E-2952-485A-9215-699CA3E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3E1B-F308-4C42-9B67-77788C7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55F7-50B0-405C-A207-2B589EE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B34-D8C1-4BD0-8EEA-FA537C28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0A76-2035-4890-930B-B4FAED6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8680-B7F9-468D-AE34-381D9E51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E2968-1DC6-4DB2-9982-826E58E6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31DFE-7AAA-4A03-BCA6-703088E1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4D80-00FD-4C25-A3E3-4D4F26F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4DAA-FCCD-4B2B-91F0-33E4A33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64307-EAA1-4257-8F66-5A34637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0BE6-E937-4954-A708-0161C96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35E62-919B-4D4C-82E3-5E7084D6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04C6A-9207-44E6-8D4A-4C11AB38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2EB-85C8-4485-9661-8F9AEF2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644A1-3799-472C-AEFB-4662CEC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B5397-E1A4-49C7-B703-212B4AB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A7D3-EAD9-4087-AB22-5F06A46C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C82F1-59D9-4274-B9C4-CE4BE648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D75A-E480-4BDA-B08D-ABDE7F79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6792F-31AF-48CD-9F0E-6E9E9A12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4C83-F3DE-4432-AA2F-9CB9DBF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1FF0E-49E6-4C0B-8E2F-2D61DB5D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945C-D813-4B36-A8C0-9E324CCC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657B9-0418-41D0-B4FF-9F15052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EDD-30CA-4151-94E2-C846180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E0B19-7664-4A83-BE9C-9482D14D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6D6D-357A-43AB-8E57-184CAA2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9082-047C-492A-938E-B8F01E9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F2B47-19B5-4539-8B2D-4422378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93A19-045B-426E-BA9F-97D428BC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61EC-BC31-4680-8134-AE9C0948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8F2A4-EED8-4806-A048-D161FE4D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6CF82-B2C7-4FC8-9AB9-0495F877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FC59A-2FE0-43E7-8DA7-73522B46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D7ECB-2230-40B8-98C4-69CA9361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9EC-A660-4EEE-947D-170F4417474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7A7-229C-4548-8CCF-3AA22EDEDA8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54C-8311-4839-BBA7-DE83EF337C7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9B40-5928-4392-A139-D82113F48E8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6FB-D447-4BB5-B335-E69052539F1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028B-0BC1-47E0-9C48-A4FBB611C11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AA1-B875-4700-9CFB-1DAFDD8D74A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54F0-57AE-436E-9BD0-B8DCD58087B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3E2-0695-44C1-AB0C-ED940AFD12D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CDA5-761C-46C0-A20F-0C0A65096CA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9552-01CD-4569-AB42-74B361D56D7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5FB-D802-45F8-8D8D-E3E0825E8A3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&#218;SICA%20DEL%20A&#209;O%201800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1 Rectángulo"/>
          <p:cNvSpPr/>
          <p:nvPr/>
        </p:nvSpPr>
        <p:spPr>
          <a:xfrm>
            <a:off x="468360" y="-27000"/>
            <a:ext cx="83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000"/>
                </a:solidFill>
                <a:latin typeface="Calibri"/>
              </a:rPr>
              <a:t>El auto mas viejo de la histo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(1884 De Dion Bouton Et Trapardoux Dos-A-Dos Runabout de vap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1.jpg"/>
          <p:cNvPicPr/>
          <p:nvPr/>
        </p:nvPicPr>
        <p:blipFill>
          <a:blip r:embed="rId1"/>
          <a:stretch/>
        </p:blipFill>
        <p:spPr>
          <a:xfrm>
            <a:off x="230040" y="866880"/>
            <a:ext cx="873468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Imagen" descr="17.jpg"/>
          <p:cNvPicPr/>
          <p:nvPr/>
        </p:nvPicPr>
        <p:blipFill>
          <a:blip r:embed="rId1"/>
          <a:stretch/>
        </p:blipFill>
        <p:spPr>
          <a:xfrm>
            <a:off x="-973080" y="-171360"/>
            <a:ext cx="1100448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Imagen" descr="19.jpg"/>
          <p:cNvPicPr/>
          <p:nvPr/>
        </p:nvPicPr>
        <p:blipFill>
          <a:blip r:embed="rId1"/>
          <a:stretch/>
        </p:blipFill>
        <p:spPr>
          <a:xfrm>
            <a:off x="936720" y="0"/>
            <a:ext cx="7164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Imagen" descr="20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Imagen" descr="21.jpg"/>
          <p:cNvPicPr/>
          <p:nvPr/>
        </p:nvPicPr>
        <p:blipFill>
          <a:blip r:embed="rId1"/>
          <a:stretch/>
        </p:blipFill>
        <p:spPr>
          <a:xfrm>
            <a:off x="-468360" y="0"/>
            <a:ext cx="96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Imagen" descr="22.jpg"/>
          <p:cNvPicPr/>
          <p:nvPr/>
        </p:nvPicPr>
        <p:blipFill>
          <a:blip r:embed="rId1"/>
          <a:stretch/>
        </p:blipFill>
        <p:spPr>
          <a:xfrm>
            <a:off x="2232000" y="-4680"/>
            <a:ext cx="4572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1 Rectángulo"/>
          <p:cNvSpPr/>
          <p:nvPr/>
        </p:nvSpPr>
        <p:spPr>
          <a:xfrm>
            <a:off x="2303640" y="128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En 1887, con De Dion en el timón, 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ganó la primera carrera de motor</a:t>
            </a: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 (fue el único participante en llegar a la meta!), en una carrera que cubre 32 km desde el puente Pont de Neuilly en París a Versalles y de regreso en una hora y 14 minutos a un promedio de 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25.9 kmh</a:t>
            </a: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, según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formes de la época, llegan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2066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7029360" y="0"/>
            <a:ext cx="2114640" cy="2019240"/>
          </a:xfrm>
          <a:prstGeom prst="rect">
            <a:avLst/>
          </a:prstGeom>
          <a:ln w="0">
            <a:noFill/>
          </a:ln>
        </p:spPr>
      </p:pic>
      <p:sp>
        <p:nvSpPr>
          <p:cNvPr id="527" name="5 Rectángulo"/>
          <p:cNvSpPr/>
          <p:nvPr/>
        </p:nvSpPr>
        <p:spPr>
          <a:xfrm>
            <a:off x="108000" y="2060640"/>
            <a:ext cx="88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61 kilómetros por hora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en las rectas!. Desde entonces, ha participado en cuatro carreras de Londres a Brighton y ganó en Pebble Beach en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7 Rectángulo"/>
          <p:cNvSpPr/>
          <p:nvPr/>
        </p:nvSpPr>
        <p:spPr>
          <a:xfrm>
            <a:off x="6156360" y="2658960"/>
            <a:ext cx="29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La marquesa sólo ha tenido </a:t>
            </a: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cuatro propietarios, permaneciendo con una familia 81 años </a:t>
            </a: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y ha sido </a:t>
            </a: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restaurado dos veces</a:t>
            </a: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, una por la familia Doriol y otra por un coleccionista británico, en la década de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3"/>
          <a:stretch/>
        </p:blipFill>
        <p:spPr>
          <a:xfrm>
            <a:off x="179280" y="2706840"/>
            <a:ext cx="59216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1 CuadroTexto"/>
          <p:cNvSpPr/>
          <p:nvPr/>
        </p:nvSpPr>
        <p:spPr>
          <a:xfrm>
            <a:off x="3235680" y="2370240"/>
            <a:ext cx="229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1 CuadroTexto"/>
          <p:cNvSpPr/>
          <p:nvPr/>
        </p:nvSpPr>
        <p:spPr>
          <a:xfrm>
            <a:off x="3235680" y="2370240"/>
            <a:ext cx="229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1 Rectángulo"/>
          <p:cNvSpPr/>
          <p:nvPr/>
        </p:nvSpPr>
        <p:spPr>
          <a:xfrm>
            <a:off x="0" y="-27000"/>
            <a:ext cx="91440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El coche tarda 45 minutos en generar suficiente vapor para conduc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se alimenta de trozos de papel, madera y carb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000"/>
                </a:solidFill>
                <a:latin typeface="Calibri"/>
              </a:rPr>
              <a:t>Fue construido dos años antes que Karl Benz y Gottlieb Daimler patentaran el motor de combustión interna y recientemente fue vendido en una subasta por la suma de </a:t>
            </a:r>
            <a:r>
              <a:rPr b="1" lang="es-MX" sz="1600" spc="-1" strike="noStrike">
                <a:solidFill>
                  <a:srgbClr val="ffc000"/>
                </a:solidFill>
                <a:latin typeface="Calibri"/>
              </a:rPr>
              <a:t>4.62 millones de dólares</a:t>
            </a:r>
            <a:r>
              <a:rPr b="0" lang="es-MX" sz="1600" spc="-1" strike="noStrike">
                <a:solidFill>
                  <a:srgbClr val="ffc000"/>
                </a:solidFill>
                <a:latin typeface="Calibri"/>
              </a:rPr>
              <a:t>, en el mes de Marzo del 2012, más del doble de lo estimado pre-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Dos postores anónimos incrementaron los precios en una guerra de ofertas de tres min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2 Imagen" descr="1.jpg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2 Imagen" descr="1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04" name="1 Rectángulo"/>
          <p:cNvSpPr/>
          <p:nvPr/>
        </p:nvSpPr>
        <p:spPr>
          <a:xfrm>
            <a:off x="0" y="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000"/>
                </a:solidFill>
                <a:latin typeface="Calibri"/>
              </a:rPr>
              <a:t>E</a:t>
            </a:r>
            <a:r>
              <a:rPr b="0" lang="es-MX" sz="2000" spc="-1" strike="noStrike">
                <a:solidFill>
                  <a:srgbClr val="ffc000"/>
                </a:solidFill>
                <a:latin typeface="Calibri"/>
              </a:rPr>
              <a:t>n un evento en Hershey, Pennsylvania, se subastó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ffc000"/>
                </a:solidFill>
                <a:latin typeface="Calibri"/>
              </a:rPr>
              <a:t>auto más antiguo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 Rectángulo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El coche más antiguo del mundo en funcionamiento, un 1884 De Dion Bouton Et Trapardoux Dos-A-Dos Runabout de vapor, hizo historia al lograr $ 4,62 millones en Hershey RM Auctions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e auto de 127 años de edad, eclipsó rápidamente a su oferta de 500.000 dólares de part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el momento en que comenzaban las ofertas, el martillo bajó en US $ 4,2 mill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l precio final incluye una prima del comprador del diez por ciento del valor total del vehícu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multitud comenzó a aplaudir tan pronto como el coche se deslizó hacia el escenario y el entusiasmo no decayó hasta bien después de la 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2 Imagen" descr="11.jpg"/>
          <p:cNvPicPr/>
          <p:nvPr/>
        </p:nvPicPr>
        <p:blipFill>
          <a:blip r:embed="rId1"/>
          <a:stretch/>
        </p:blipFill>
        <p:spPr>
          <a:xfrm>
            <a:off x="0" y="765000"/>
            <a:ext cx="9163080" cy="6093000"/>
          </a:xfrm>
          <a:prstGeom prst="rect">
            <a:avLst/>
          </a:prstGeom>
          <a:ln w="0">
            <a:noFill/>
          </a:ln>
        </p:spPr>
      </p:pic>
      <p:sp>
        <p:nvSpPr>
          <p:cNvPr id="507" name="3 Rectángulo"/>
          <p:cNvSpPr/>
          <p:nvPr/>
        </p:nvSpPr>
        <p:spPr>
          <a:xfrm>
            <a:off x="9877320" y="-534960"/>
            <a:ext cx="2286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e auto de 127 años de edad, eclipsó rápidamente a su oferta de 500.000 dólares de part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el momento en que comenzaban las ofertas, el martillo bajó en US $ 4,2 mill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l precio final incluye una prima del comprador del diez por ciento del valor total del vehícu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multitud comenzó a aplaudir tan pronto como el coche se deslizó hacia el escenario y el entusiasmo no decayó hasta bien después de la 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4 Rectángulo"/>
          <p:cNvSpPr/>
          <p:nvPr/>
        </p:nvSpPr>
        <p:spPr>
          <a:xfrm>
            <a:off x="7596360" y="321300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1 Imagen" descr="12.jpg"/>
          <p:cNvPicPr/>
          <p:nvPr/>
        </p:nvPicPr>
        <p:blipFill>
          <a:blip r:embed="rId1"/>
          <a:stretch/>
        </p:blipFill>
        <p:spPr>
          <a:xfrm>
            <a:off x="0" y="87804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0" name="2 Rectángulo"/>
          <p:cNvSpPr/>
          <p:nvPr/>
        </p:nvSpPr>
        <p:spPr>
          <a:xfrm>
            <a:off x="250920" y="-2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</a:rPr>
              <a:t>Este auto de 127 años de edad, eclipsó rápidamente a su oferta de 500.000 dólares de part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3 Imagen" descr="13.jpg"/>
          <p:cNvPicPr/>
          <p:nvPr/>
        </p:nvPicPr>
        <p:blipFill>
          <a:blip r:embed="rId1"/>
          <a:stretch/>
        </p:blipFill>
        <p:spPr>
          <a:xfrm>
            <a:off x="-36360" y="7794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2" name="1 Rectángulo"/>
          <p:cNvSpPr/>
          <p:nvPr/>
        </p:nvSpPr>
        <p:spPr>
          <a:xfrm>
            <a:off x="-36360" y="1191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En el momento en que comenzaban las ofertas, el martillo bajó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4 Rectángulo"/>
          <p:cNvSpPr/>
          <p:nvPr/>
        </p:nvSpPr>
        <p:spPr>
          <a:xfrm>
            <a:off x="3839400" y="0"/>
            <a:ext cx="51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000"/>
                </a:solidFill>
                <a:latin typeface="Calibri"/>
              </a:rPr>
              <a:t>US $ 4,62 millone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2 Imagen" descr="14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5" name="1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El precio final incluye una prima del comprador del di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por ciento del valor total del veh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3 Imagen" descr="15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7" name="1 Rectángulo"/>
          <p:cNvSpPr/>
          <p:nvPr/>
        </p:nvSpPr>
        <p:spPr>
          <a:xfrm>
            <a:off x="0" y="128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000"/>
                </a:solidFill>
                <a:latin typeface="Calibri"/>
              </a:rPr>
              <a:t>La multitud comenzó a aplaudir tan pronto como el coche se deslizó hacia el escenario y el entusiasmo no decayó hasta después de la v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Imagen" descr="16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3:04:00Z</dcterms:created>
  <dc:creator>Cesareo</dc:creator>
  <dc:description/>
  <dc:language>en-US</dc:language>
  <cp:lastModifiedBy>Cesareo</cp:lastModifiedBy>
  <dcterms:modified xsi:type="dcterms:W3CDTF">2012-12-13T05:04:15Z</dcterms:modified>
  <cp:revision>2</cp:revision>
  <dc:subject/>
  <dc:title>Presentación de PowerPoint</dc:title>
</cp:coreProperties>
</file>