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3FC9-7AED-46FF-AA22-4D310EB51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7451-9628-4CB0-8AC2-5B0529298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69C0-1E37-4A8E-B5D2-2EE8975B3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CE70-1E46-4B0E-AC15-0DEA98B80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1CDA-CADF-4E1A-B8F6-1778D8431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E1E2-2909-4FD2-A7DF-A3A4272AB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4CD2-CC6D-432A-98C0-F5589BF03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6D65-78D4-404F-8BA0-3D9C8BE90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6921-0EC8-4376-93A1-BBADEEFB1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98D8-58D2-4104-837F-C45C8C603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BEAB-C536-4CBC-8DA6-790D463D7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4053-8C66-4F67-AA00-259A0E0F6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67D7A-7355-4C19-9801-3741510B66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newsimg.bbc.co.uk/media/images/40668000/jpg/_40668372_bbc203bodysurgery.jpg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www.invasor.islagrande.cu/2006/mayo/02/organos.jpg" TargetMode="External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916360" y="1844640"/>
            <a:ext cx="3384360" cy="30654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258920" y="765000"/>
            <a:ext cx="64087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ee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UEVA DROGA</a:t>
            </a:r>
            <a:endParaRPr b="0" lang="en-US" sz="1800" spc="1" strike="noStrike">
              <a:ln w="38160">
                <a:solidFill>
                  <a:srgbClr val="ee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835280" y="5445000"/>
            <a:ext cx="5832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57240">
                  <a:solidFill>
                    <a:srgbClr val="f0ea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¡ALERTA!</a:t>
            </a:r>
            <a:endParaRPr b="0" lang="en-US" sz="1800" spc="1" strike="noStrike">
              <a:ln w="57240">
                <a:solidFill>
                  <a:srgbClr val="f0ea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971640" y="1269360"/>
            <a:ext cx="74818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0ea00"/>
                </a:solidFill>
                <a:latin typeface="Arial"/>
              </a:rPr>
              <a:t>LO IMPORTANTE ES DIFUNDIRLO, Y RECUERDEN: REENVIARLO  NO CUESTA NADA, QUE NO LE PASE A UN AMIGO(A) TUYO(A) SABIENDO DE ESTA DROGA, TE SENTIRÁS CULPABLE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4360" y="621000"/>
            <a:ext cx="7632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e0000"/>
                </a:solidFill>
                <a:latin typeface="Arial"/>
              </a:rPr>
              <a:t>REENVÍALO Y COLABORA EN LA DIFUSIÓN ... POR EL BIEN DE TODOS…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11280" y="4437000"/>
            <a:ext cx="813744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f0ea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MUCHAS GRACIAS!. </a:t>
            </a:r>
            <a:endParaRPr b="0" lang="en-US" sz="1800" spc="1" strike="noStrike">
              <a:ln w="38160">
                <a:solidFill>
                  <a:srgbClr val="f0ea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00000" y="692280"/>
            <a:ext cx="7777440" cy="10573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1476360" y="2349360"/>
            <a:ext cx="6696000" cy="360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57240">
                  <a:solidFill>
                    <a:srgbClr val="f0ea00"/>
                  </a:solidFill>
                  <a:miter/>
                </a:ln>
                <a:solidFill>
                  <a:srgbClr val="808080"/>
                </a:solidFill>
                <a:latin typeface="Arial Black"/>
              </a:rPr>
              <a:t>LEAN CON MUCHA </a:t>
            </a:r>
            <a:endParaRPr b="0" lang="en-US" sz="1800" spc="1" strike="noStrike">
              <a:ln w="57240">
                <a:solidFill>
                  <a:srgbClr val="f0ea00"/>
                </a:solidFill>
                <a:miter/>
              </a:ln>
              <a:solidFill>
                <a:srgbClr val="80808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57240">
                  <a:solidFill>
                    <a:srgbClr val="f0ea00"/>
                  </a:solidFill>
                  <a:miter/>
                </a:ln>
                <a:solidFill>
                  <a:srgbClr val="808080"/>
                </a:solidFill>
                <a:latin typeface="Arial Black"/>
              </a:rPr>
              <a:t>ATENCION</a:t>
            </a:r>
            <a:endParaRPr b="0" lang="en-US" sz="1800" spc="1" strike="noStrike">
              <a:ln w="57240">
                <a:solidFill>
                  <a:srgbClr val="f0ea00"/>
                </a:solidFill>
                <a:miter/>
              </a:ln>
              <a:solidFill>
                <a:srgbClr val="80808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39640" y="1340280"/>
            <a:ext cx="83534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R FAVOR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S IMPORTANTE PARA QUE L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VULGU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SUS SERES QUERIDO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EMPRE APARECE UN iH..... DE P....! .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QUE NO LE IMPOR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A VIDA DE LOS DEMÁ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EAN ATENTOS Y COMUNÍQUEL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SUS HIJOS TAMBIEN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2857680" cy="23911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867280" y="3860640"/>
            <a:ext cx="3024360" cy="24987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780000" y="931680"/>
            <a:ext cx="403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VERTENCIA SOBRE UNA NUEVA DROGA QUE ESTÁ DE MOD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9640" y="3719520"/>
            <a:ext cx="47134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360"/>
                <a:tab algn="l" pos="2889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ARA AQUELLOS QUE LES GUSTAN LAS SALIDAS A DISCOTECAS, TENGAN MUCHO </a:t>
            </a:r>
            <a:r>
              <a:rPr b="1" lang="en-US" sz="2400" spc="-1" strike="noStrike">
                <a:solidFill>
                  <a:srgbClr val="f0ea00"/>
                </a:solidFill>
                <a:latin typeface="Arial"/>
              </a:rPr>
              <a:t>CUIDADO'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Y ESTÉN MUY ALERTA CUANDO U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60"/>
                <a:tab algn="l" pos="2889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OMBRE LES OFREZCA UNA BEBIDA.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'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611280" y="1413000"/>
            <a:ext cx="8137440" cy="28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ee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RESTEN ATENCIÓN! </a:t>
            </a:r>
            <a:endParaRPr b="0" lang="en-US" sz="1800" spc="1" strike="noStrike">
              <a:ln w="38160">
                <a:solidFill>
                  <a:srgbClr val="ee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4427640" y="5157720"/>
            <a:ext cx="4176720" cy="1440000"/>
            <a:chOff x="4427640" y="5157720"/>
            <a:chExt cx="4176720" cy="1440000"/>
          </a:xfrm>
        </p:grpSpPr>
        <p:pic>
          <p:nvPicPr>
            <p:cNvPr id="53" name="" descr=""/>
            <p:cNvPicPr/>
            <p:nvPr/>
          </p:nvPicPr>
          <p:blipFill>
            <a:blip r:embed="rId1"/>
            <a:stretch/>
          </p:blipFill>
          <p:spPr>
            <a:xfrm>
              <a:off x="4464000" y="5157720"/>
              <a:ext cx="4139280" cy="144000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  <p:sp>
          <p:nvSpPr>
            <p:cNvPr id="54" name=""/>
            <p:cNvSpPr/>
            <p:nvPr/>
          </p:nvSpPr>
          <p:spPr>
            <a:xfrm rot="10800000">
              <a:off x="4501080" y="5157720"/>
              <a:ext cx="4103280" cy="967680"/>
            </a:xfrm>
            <a:prstGeom prst="rtTriangl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427640" y="5793120"/>
              <a:ext cx="4176720" cy="801720"/>
            </a:xfrm>
            <a:prstGeom prst="triangle">
              <a:avLst>
                <a:gd name="adj" fmla="val 100000"/>
              </a:avLst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276720" y="257400"/>
            <a:ext cx="5329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Y UNA NUEVA </a:t>
            </a:r>
            <a:r>
              <a:rPr b="1" lang="en-US" sz="2400" spc="-1" strike="noStrike">
                <a:solidFill>
                  <a:srgbClr val="f0ea00"/>
                </a:solidFill>
                <a:latin typeface="Arial"/>
              </a:rPr>
              <a:t>DROG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QUE ESTÁ DE MODA LLAMADA </a:t>
            </a:r>
            <a:r>
              <a:rPr b="1" lang="en-US" sz="2400" spc="-1" strike="noStrike">
                <a:solidFill>
                  <a:srgbClr val="f0ea00"/>
                </a:solidFill>
                <a:latin typeface="Arial"/>
              </a:rPr>
              <a:t>"PROGESTEREX"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 QUE ES UNA PASTILLA PARA ESTERILIZAR. LA </a:t>
            </a:r>
            <a:r>
              <a:rPr b="1" lang="en-US" sz="2400" spc="-1" strike="noStrike">
                <a:solidFill>
                  <a:srgbClr val="f0ea00"/>
                </a:solidFill>
                <a:latin typeface="Arial"/>
              </a:rPr>
              <a:t>DROG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ESTA SIENDO UTILIZADA POR VIOLADORES EN FIESTAS PARA ABUSAR DE SUS VÍCTIM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5300640"/>
            <a:ext cx="788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0ea00"/>
                </a:solidFill>
                <a:latin typeface="Arial"/>
              </a:rPr>
              <a:t>EL ROHYPNO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QUE ES UNA BENZODIAZEPINA QUE POR LO TANTO PUEDE PRODUCIR SOMNOLENCIA Y ALGO DE AMNESIA, ES UNA DROGA QUE, AL SER DISUELTA EN CUALQUIER BEBIDA, LA VÍCTIMA NO RECUERDA NADA DE LO OCURRID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!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3429000"/>
            <a:ext cx="4524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0ea00"/>
                </a:solidFill>
                <a:latin typeface="Arial"/>
              </a:rPr>
              <a:t>PROGESTEREX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ES UTILIZADA POR VETERINARIOS PARA ESTERILIZAR ANIMALES GRANDES. SE CORRE EL RUMOR DE QUE ESTA DROGA SE USA EN CONJUNTO CON ROHYPNO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39640" y="189000"/>
            <a:ext cx="2160720" cy="28796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5867280" y="2997360"/>
            <a:ext cx="2376720" cy="20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012000" y="692280"/>
            <a:ext cx="2736720" cy="52578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24000" y="620280"/>
            <a:ext cx="4968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0ea00"/>
                </a:solidFill>
                <a:latin typeface="Arial"/>
              </a:rPr>
              <a:t>EL PROGESTEREX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 QUE TAMBIÉN SE DISUELVE FÁCILMENTE, ES PARA </a:t>
            </a:r>
            <a:r>
              <a:rPr b="1" lang="en-US" sz="2400" spc="-1" strike="noStrike">
                <a:solidFill>
                  <a:srgbClr val="f0ea00"/>
                </a:solidFill>
                <a:latin typeface="Arial"/>
              </a:rPr>
              <a:t>INHIBIR UN EMBARAZO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. DE ESTA MANERA EL VIOLADOR NO TIENE DE QUE ¡PREOCUPARSE POR UN TEST DE PATERNIDAD PARA IDENTIFICARLO MESES DESPUÉS. LOS EFECTOS DEL </a:t>
            </a:r>
            <a:r>
              <a:rPr b="1" lang="en-US" sz="2400" spc="-1" strike="noStrike">
                <a:solidFill>
                  <a:srgbClr val="f0ea00"/>
                </a:solidFill>
                <a:latin typeface="Arial"/>
              </a:rPr>
              <a:t>PROGESTEREX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NO SON TEMPORALES..... CUALQUIER MUJER QUE TOME ESTO JAMÁS, ENTIÉNDASE BIEN, </a:t>
            </a:r>
            <a:r>
              <a:rPr b="1" lang="en-US" sz="2400" spc="-1" strike="noStrike">
                <a:solidFill>
                  <a:srgbClr val="ee0000"/>
                </a:solidFill>
                <a:latin typeface="Arial"/>
              </a:rPr>
              <a:t>JAMÁS PODRÁ CONCEBI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95280" y="71280"/>
            <a:ext cx="49672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S MALDITOS H.... DE... P.... “PONEN SUS MANOS EN ESTAS PÍLDORAS GRACIAS A LAS </a:t>
            </a:r>
            <a:r>
              <a:rPr b="1" lang="en-US" sz="2400" spc="-1" strike="noStrike">
                <a:solidFill>
                  <a:srgbClr val="f0ea00"/>
                </a:solidFill>
                <a:latin typeface="Arial"/>
              </a:rPr>
              <a:t>FACULTADES DE VETERINARI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DE CUALQUIER UNIVERSIDAD. ES MUY FÁCIL OBTENERLA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AMBIÉN ES UTILIZADA PARA SACAR AL INDIVIDUO, YA SEA UNA DAMA O UN CABALLERO, Y </a:t>
            </a:r>
            <a:r>
              <a:rPr b="1" lang="en-US" sz="2400" spc="-1" strike="noStrike">
                <a:solidFill>
                  <a:srgbClr val="ee0000"/>
                </a:solidFill>
                <a:latin typeface="Arial"/>
              </a:rPr>
              <a:t>ROBARLE ALGÚN ÓRGANO (PARA EL TRÁFICO DE ÉSTOS)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n-US" sz="2400" spc="-1" strike="noStrike">
                <a:solidFill>
                  <a:srgbClr val="f0ea00"/>
                </a:solidFill>
                <a:latin typeface="Arial"/>
              </a:rPr>
              <a:t>EL PROGESTEREX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ESTÁ SIENDO DIFUNDIDO EN MUCHOS LUGARES. INCLUSO, PARA ASOMBRO, HAY UN SITIO WEB QUE ENSEÑA A LA GENTE A USARLA!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688000" y="476280"/>
            <a:ext cx="3060720" cy="23032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24360" y="3789360"/>
            <a:ext cx="3059280" cy="22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539640" y="836640"/>
            <a:ext cx="8136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0000"/>
                </a:solidFill>
                <a:latin typeface="Arial"/>
              </a:rPr>
              <a:t>POR FAVOR RENVIEN ESTO A TODOS SUS AMIGOS EN ESPECIAL  A  LAS CH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403280" y="2629440"/>
            <a:ext cx="60832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0ea00"/>
                </a:solidFill>
                <a:latin typeface="Arial"/>
              </a:rPr>
              <a:t>ENVÍELO COMO </a:t>
            </a:r>
            <a:r>
              <a:rPr b="1" lang="en-US" sz="3200" spc="-1" strike="noStrike">
                <a:solidFill>
                  <a:srgbClr val="ee0000"/>
                </a:solidFill>
                <a:latin typeface="Arial"/>
              </a:rPr>
              <a:t>CCO:</a:t>
            </a:r>
            <a:r>
              <a:rPr b="1" lang="en-US" sz="3200" spc="-1" strike="noStrike">
                <a:solidFill>
                  <a:srgbClr val="f0ea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0ea00"/>
                </a:solidFill>
                <a:latin typeface="Arial"/>
              </a:rPr>
              <a:t>PARA QUE A TODOS LES LLEGUE, Y NO SE FORME UNA LISTA INTERMINABLE DE DIRECCION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8T19:53:51Z</dcterms:created>
  <dc:creator/>
  <dc:description/>
  <dc:language>en-US</dc:language>
  <cp:lastModifiedBy>Robert</cp:lastModifiedBy>
  <dcterms:modified xsi:type="dcterms:W3CDTF">2007-06-09T15:37:08Z</dcterms:modified>
  <cp:revision>3</cp:revision>
  <dc:subject/>
  <dc:title>ALERTA NUEVA DROGA ¡¡¡ ATENCION !!!</dc:title>
</cp:coreProperties>
</file>