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png" ContentType="image/pn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606B-F1BB-48F8-AB99-A717DDCEAA3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CB2-AE0C-4C2E-B486-458848349F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F26-16A8-455D-8D0D-987C33F41F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2451-8C76-4573-AC3B-28D105D61B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5CE4-8BE3-4B9C-9501-9D12D5E225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73DF-2741-4E38-A576-F9E3B0E047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632-32F4-4605-AAF1-24AE1EF3C9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39FC-3FD8-44C4-8F2F-A80DDFE214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867-6104-42F0-A601-F351757282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916-B15A-488E-A792-A18906AA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280-F8FB-45C2-B072-EA3F68B5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17A-25FC-417C-8E6A-881ECF63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314-9B21-4088-9878-81F21EC2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AA16-EDD8-4F1C-B90D-E8CC1CB7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76C7-87BD-42EB-B80B-0EC0EFC6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6E73-1B0F-4E1E-A1CF-C743A2B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4B90-67E3-4A13-8D47-45DBDA5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4A0-EBF3-4C9B-BCF0-39C4C84F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3224-9CB5-4B34-BE8A-501840B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9FC3-E6BB-4806-88C6-DBEE673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C18-8510-407B-AD70-5D8F5E9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A528-73E3-4573-9D23-EEEB6669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ED85-42C6-4420-ACF7-76F5552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0C43-EC46-42EC-AFA2-EC386D0A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B748-7BDC-4FFA-84B1-197C415A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74B3-1406-4FA8-A35A-4DBB04FB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34A0-3B2A-4B34-82AE-5C9C4E3D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0A72-62CB-49FB-A7D3-9F38AABC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CFCB-BDF0-4F8E-93A4-3F5BDEBE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DDF8-6005-4072-8E68-D038E7C8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C1FF-0FFF-428A-9B18-2AC6632C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440-2485-4F8F-9305-16CB60D0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3795-9077-4DAA-9A7A-C29457C0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B6C4-FAA1-40C5-9731-DDE2765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9E03-D373-4D69-B619-C6640FE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9C88-2511-4A78-AC98-2ED79F6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B9DB-290D-41BD-8CCC-66C42505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0E93-448B-41D2-9353-774095A1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E1A6-706E-414A-A29E-CE5E7312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FFC8-1FAF-4FCA-8FA0-01D5560F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81E7-4F6E-49EA-BF49-CFA643E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0E86-47BD-4F9C-B399-BE4B22A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467-4091-403C-89D7-586CC08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2D20-40F8-4DD4-9695-5A568D60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C2E8-FF8D-468B-9077-5610E3D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2DA6-7170-4AAF-8668-3E41FAB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0955-D2A0-4657-81AA-F9DE8CE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7E77-E9B8-418B-8B5F-94CA859D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4AFA-AA11-47D3-82D8-8D254FC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056F-D991-406D-90C8-B60E379F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B036-3C20-474D-814B-0BC2DE16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336E8-2826-4A8D-9292-77E912D4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70A72-7024-4FFA-BE9E-380D3D6A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EAE-D7DE-4C8C-932C-5C8E7461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29E0-6D30-4DFD-A189-547F97E6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826D-2C2F-45D2-ACA9-463E6292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A922-4665-4B4F-BB38-56598FB9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0B43-CC66-423C-BFB9-91784E6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969B-B2D6-4613-A675-4D831E7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DA86-79D9-4146-AF55-E66A296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07C2-DC0F-4508-A6D3-F456B41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5ED9-5149-436F-9918-6560544F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6D31-6C7F-40AC-B4A5-6B899E61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BDFC-B7E4-4F41-9AA8-972A49D7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0F3-A85A-4BFF-9D44-06FA979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84DA-E831-4AA6-B4ED-31791D17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F0B-A6A6-4F5D-A571-7D4909C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E03-B3C6-4B33-981B-6EFDAC8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6BF-A83B-49EA-9F48-E4DE4BE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B9D3-55FB-4537-85FD-E66F82629CF7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08D-8815-4156-B014-473EEF532F49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53E-BD7F-4909-94FF-ADA1871D3C8B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640-DECE-40EA-977C-BDE0DF867E50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BDA-95F0-4C47-AE35-EED41513267A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500" spc="-1" strike="noStrike">
                <a:solidFill>
                  <a:srgbClr val="ff8d3e"/>
                </a:solidFill>
                <a:latin typeface="Verdana"/>
              </a:rPr>
              <a:t>SEGUROS DOMICILIARIO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6215040" y="4429080"/>
          <a:ext cx="277812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5040" y="4429080"/>
                    <a:ext cx="27781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4" descr="http://casapenalba.iespana.es/imagenes/casa.JPG"/>
          <p:cNvPicPr/>
          <p:nvPr/>
        </p:nvPicPr>
        <p:blipFill>
          <a:blip r:embed="rId3"/>
          <a:stretch/>
        </p:blipFill>
        <p:spPr>
          <a:xfrm>
            <a:off x="1785960" y="392904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5357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Vigilancia Electrónic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14 Imagen" descr="3.jpg"/>
          <p:cNvPicPr/>
          <p:nvPr/>
        </p:nvPicPr>
        <p:blipFill>
          <a:blip r:embed="rId1"/>
          <a:srcRect l="34721" t="66603" r="33661" b="25923"/>
          <a:stretch/>
        </p:blipFill>
        <p:spPr>
          <a:xfrm>
            <a:off x="357120" y="428760"/>
            <a:ext cx="2960640" cy="928440"/>
          </a:xfrm>
          <a:prstGeom prst="rect">
            <a:avLst/>
          </a:prstGeom>
          <a:ln w="0">
            <a:noFill/>
          </a:ln>
        </p:spPr>
      </p:pic>
      <p:pic>
        <p:nvPicPr>
          <p:cNvPr id="261" name="13 Imagen" descr="proceso.jpg"/>
          <p:cNvPicPr/>
          <p:nvPr/>
        </p:nvPicPr>
        <p:blipFill>
          <a:blip r:embed="rId2"/>
          <a:stretch/>
        </p:blipFill>
        <p:spPr>
          <a:xfrm>
            <a:off x="357120" y="1428840"/>
            <a:ext cx="8188560" cy="2619360"/>
          </a:xfrm>
          <a:prstGeom prst="rect">
            <a:avLst/>
          </a:prstGeom>
          <a:ln w="0">
            <a:noFill/>
          </a:ln>
        </p:spPr>
      </p:pic>
      <p:sp>
        <p:nvSpPr>
          <p:cNvPr id="262" name="14 Rectángulo"/>
          <p:cNvSpPr/>
          <p:nvPr/>
        </p:nvSpPr>
        <p:spPr>
          <a:xfrm>
            <a:off x="642960" y="414324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uestro Servicio Integral de Atención al Cliente SI24 estará atento ante robos, incendios o emergencias médicas que puedan ocurrir en el hogar, y enviará según cada caso, a la fuerza de supervisión MAPFRE, las fuerzas del orden correspondientes, los bomberos y la asistencia médica neces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Plan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14 Imagen" descr="3.jpg"/>
          <p:cNvPicPr/>
          <p:nvPr/>
        </p:nvPicPr>
        <p:blipFill>
          <a:blip r:embed="rId1"/>
          <a:srcRect l="34721" t="66603" r="33661" b="25923"/>
          <a:stretch/>
        </p:blipFill>
        <p:spPr>
          <a:xfrm>
            <a:off x="357120" y="428760"/>
            <a:ext cx="2571840" cy="806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678672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Primas Mensual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14 Imagen" descr="3.jpg"/>
          <p:cNvPicPr/>
          <p:nvPr/>
        </p:nvPicPr>
        <p:blipFill>
          <a:blip r:embed="rId1"/>
          <a:srcRect l="34721" t="66603" r="33661" b="25923"/>
          <a:stretch/>
        </p:blipFill>
        <p:spPr>
          <a:xfrm>
            <a:off x="0" y="571680"/>
            <a:ext cx="2960640" cy="928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54" descr=""/>
          <p:cNvPicPr/>
          <p:nvPr/>
        </p:nvPicPr>
        <p:blipFill>
          <a:blip r:embed="rId2"/>
          <a:stretch/>
        </p:blipFill>
        <p:spPr>
          <a:xfrm>
            <a:off x="1357200" y="1643040"/>
            <a:ext cx="626436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14 Rectángulo"/>
          <p:cNvSpPr/>
          <p:nvPr/>
        </p:nvSpPr>
        <p:spPr>
          <a:xfrm>
            <a:off x="857160" y="2786040"/>
            <a:ext cx="6715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0000"/>
                </a:solidFill>
                <a:latin typeface="Univers"/>
              </a:rPr>
              <a:t>Principales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Univers"/>
                <a:ea typeface="Arial"/>
              </a:rPr>
              <a:t>Letra de garantía por 24 meses si Mapfre da en comodato l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Univers"/>
                <a:ea typeface="Arial"/>
              </a:rPr>
              <a:t>Pago de la primer cuota de la póliza para proceder con la insta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Univers"/>
                <a:ea typeface="Arial"/>
              </a:rPr>
              <a:t>Cargo en cuenta o tarjeta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Servicio preferente hogar:</a:t>
            </a:r>
            <a:br>
              <a:rPr sz="3200"/>
            </a:b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 Beneficios de nuestros seguro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16 Imagen" descr="fv2_F.tif"/>
          <p:cNvPicPr/>
          <p:nvPr/>
        </p:nvPicPr>
        <p:blipFill>
          <a:blip r:embed="rId1"/>
          <a:stretch/>
        </p:blipFill>
        <p:spPr>
          <a:xfrm>
            <a:off x="428760" y="2428920"/>
            <a:ext cx="307152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12 Imagen" descr="iStock_000005141756Small.jpg"/>
          <p:cNvPicPr/>
          <p:nvPr/>
        </p:nvPicPr>
        <p:blipFill>
          <a:blip r:embed="rId2"/>
          <a:stretch/>
        </p:blipFill>
        <p:spPr>
          <a:xfrm>
            <a:off x="3143160" y="4214880"/>
            <a:ext cx="2786040" cy="18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16 Imagen" descr="iStock_000005779885Medium.jpg"/>
          <p:cNvPicPr/>
          <p:nvPr/>
        </p:nvPicPr>
        <p:blipFill>
          <a:blip r:embed="rId3"/>
          <a:stretch/>
        </p:blipFill>
        <p:spPr>
          <a:xfrm>
            <a:off x="5572080" y="2428920"/>
            <a:ext cx="31100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Servicio de vigilancia electrónica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16 Imagen" descr="fv2_F.tif"/>
          <p:cNvPicPr/>
          <p:nvPr/>
        </p:nvPicPr>
        <p:blipFill>
          <a:blip r:embed="rId1"/>
          <a:stretch/>
        </p:blipFill>
        <p:spPr>
          <a:xfrm>
            <a:off x="428760" y="1143000"/>
            <a:ext cx="392904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9" name="20 Rectángulo"/>
          <p:cNvSpPr/>
          <p:nvPr/>
        </p:nvSpPr>
        <p:spPr>
          <a:xfrm>
            <a:off x="4357800" y="857160"/>
            <a:ext cx="442908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uestros asegurados podrán estar protegidos por nuestro “Servicio de Alarma y Monitoreo” durante las 24 horas del día todos los días del a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Todos nuestros seguros de hogar (MAPFRE hogar Ideal y MAPFRE Hogar Hipotecario)  pueden incluir en sus planes el servicio de vigilancia electrónica. </a:t>
            </a:r>
            <a:r>
              <a:rPr b="0" lang="es-PE" sz="2000" spc="-1" strike="noStrike">
                <a:solidFill>
                  <a:srgbClr val="ff0000"/>
                </a:solidFill>
                <a:latin typeface="Verdana"/>
              </a:rPr>
              <a:t>La prima neta adicional a la prima del seguro es de US$ 24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Consulta médica a domicili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1 Rectángulo"/>
          <p:cNvSpPr/>
          <p:nvPr/>
        </p:nvSpPr>
        <p:spPr>
          <a:xfrm>
            <a:off x="4286160" y="1857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nuestros asegurados requieren una consulta de cualquier especialidad para su familia o algún miembro del hogar, un doctor los visitar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12 Imagen" descr="iStock_000005141756Small.jpg"/>
          <p:cNvPicPr/>
          <p:nvPr/>
        </p:nvPicPr>
        <p:blipFill>
          <a:blip r:embed="rId1"/>
          <a:stretch/>
        </p:blipFill>
        <p:spPr>
          <a:xfrm>
            <a:off x="285840" y="1857240"/>
            <a:ext cx="392904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Ambulancia a domicilio por emergencia médica o accidental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5 Rectángulo"/>
          <p:cNvSpPr/>
          <p:nvPr/>
        </p:nvSpPr>
        <p:spPr>
          <a:xfrm>
            <a:off x="4357800" y="2857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sólo una llamada de nuestros asegurados enviaremos una ambulancia inmedia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16 Imagen" descr="iStock_000005779885Medium.jpg"/>
          <p:cNvPicPr/>
          <p:nvPr/>
        </p:nvPicPr>
        <p:blipFill>
          <a:blip r:embed="rId1"/>
          <a:stretch/>
        </p:blipFill>
        <p:spPr>
          <a:xfrm>
            <a:off x="285840" y="1857240"/>
            <a:ext cx="392904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Asistencia domiciliari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0 Rectángulo"/>
          <p:cNvSpPr/>
          <p:nvPr/>
        </p:nvSpPr>
        <p:spPr>
          <a:xfrm>
            <a:off x="4357800" y="164304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lucionamos las urgencias de gasfitería, electricidad, cerrajería y vidriería en el hogar de nuestros asegu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12 Imagen" descr="iStock_000005035981Medium.jpg"/>
          <p:cNvPicPr/>
          <p:nvPr/>
        </p:nvPicPr>
        <p:blipFill>
          <a:blip r:embed="rId1"/>
          <a:stretch/>
        </p:blipFill>
        <p:spPr>
          <a:xfrm>
            <a:off x="500040" y="1571760"/>
            <a:ext cx="3929040" cy="26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07f09"/>
                </a:solidFill>
                <a:latin typeface="Verdana"/>
              </a:rPr>
              <a:t>¿Por qué es importante tener un seguro domiciliario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http://www.coopevictoria.com/victoria/imagenes/salud_familia.gif"/>
          <p:cNvPicPr/>
          <p:nvPr/>
        </p:nvPicPr>
        <p:blipFill>
          <a:blip r:embed="rId1"/>
          <a:stretch/>
        </p:blipFill>
        <p:spPr>
          <a:xfrm>
            <a:off x="3357720" y="642960"/>
            <a:ext cx="2570040" cy="385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Robos en Lim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el primer trimestre del 2009 se han realizado mas de 27 robos diarios en domicilios / mas de 1 cada ho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3278160" cy="3214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286080" cy="3222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2"/>
          <p:cNvSpPr/>
          <p:nvPr/>
        </p:nvSpPr>
        <p:spPr>
          <a:xfrm>
            <a:off x="3857760" y="1785960"/>
            <a:ext cx="1590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2,4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Últimos Suceso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75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Terremoto de Hait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www.ultimahora.com/adjuntos/imagenes/000/172/0000172003.jpg"/>
          <p:cNvPicPr/>
          <p:nvPr/>
        </p:nvPicPr>
        <p:blipFill>
          <a:blip r:embed="rId1"/>
          <a:stretch/>
        </p:blipFill>
        <p:spPr>
          <a:xfrm>
            <a:off x="500040" y="1357200"/>
            <a:ext cx="4143240" cy="291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www.logos.info/files/onna-abruzzo-terremoto.jpg"/>
          <p:cNvPicPr/>
          <p:nvPr/>
        </p:nvPicPr>
        <p:blipFill>
          <a:blip r:embed="rId2"/>
          <a:stretch/>
        </p:blipFill>
        <p:spPr>
          <a:xfrm>
            <a:off x="4929120" y="3143160"/>
            <a:ext cx="37101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3280" y="529920"/>
            <a:ext cx="8183520" cy="75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Terremoto de Chi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elobservatodo.cl/tmp_images/331/noticia_16513_normal.jpg"/>
          <p:cNvPicPr/>
          <p:nvPr/>
        </p:nvPicPr>
        <p:blipFill>
          <a:blip r:embed="rId1"/>
          <a:stretch/>
        </p:blipFill>
        <p:spPr>
          <a:xfrm>
            <a:off x="142920" y="1214280"/>
            <a:ext cx="4208400" cy="271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www.estrategiaynegocios.net/imgnotas/Dibujo.jpg"/>
          <p:cNvPicPr/>
          <p:nvPr/>
        </p:nvPicPr>
        <p:blipFill>
          <a:blip r:embed="rId2"/>
          <a:stretch/>
        </p:blipFill>
        <p:spPr>
          <a:xfrm>
            <a:off x="4406760" y="3714840"/>
            <a:ext cx="47372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En Perú, año 2007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2" descr="http://api.ning.com/files/ltV3bxd57J5EMHM5u9zq6ie70qA-H8lY*g7WfsPyD0A_/edificioenPisco.jpg"/>
          <p:cNvPicPr/>
          <p:nvPr/>
        </p:nvPicPr>
        <p:blipFill>
          <a:blip r:embed="rId1"/>
          <a:stretch/>
        </p:blipFill>
        <p:spPr>
          <a:xfrm>
            <a:off x="500040" y="642960"/>
            <a:ext cx="3857760" cy="2892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luizcore.files.wordpress.com/2009/08/terremoto-en-peru-2.jpg"/>
          <p:cNvPicPr/>
          <p:nvPr/>
        </p:nvPicPr>
        <p:blipFill>
          <a:blip r:embed="rId2"/>
          <a:stretch/>
        </p:blipFill>
        <p:spPr>
          <a:xfrm>
            <a:off x="4500720" y="2500200"/>
            <a:ext cx="4071960" cy="2995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Seguro Domiciliari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Ante estos acontecimientos, y para protección de nuestros asegurados se crea el seguro domiciliari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o y/asal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und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rem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honestidad de emple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bulancia y consultas para todos los integrantes del ho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Mapfre 24 Hor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9 Imagen" descr="asia sur.jpeg"/>
          <p:cNvPicPr/>
          <p:nvPr/>
        </p:nvPicPr>
        <p:blipFill>
          <a:blip r:embed="rId1"/>
          <a:stretch/>
        </p:blipFill>
        <p:spPr>
          <a:xfrm>
            <a:off x="1928880" y="428760"/>
            <a:ext cx="5000400" cy="5024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Mapfre 24 Hor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12 Imagen" descr="triptico-A5-T2.jpg"/>
          <p:cNvPicPr/>
          <p:nvPr/>
        </p:nvPicPr>
        <p:blipFill>
          <a:blip r:embed="rId1"/>
          <a:stretch/>
        </p:blipFill>
        <p:spPr>
          <a:xfrm>
            <a:off x="785880" y="1500120"/>
            <a:ext cx="292896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11 Rectángulo"/>
          <p:cNvSpPr/>
          <p:nvPr/>
        </p:nvSpPr>
        <p:spPr>
          <a:xfrm>
            <a:off x="3786120" y="571680"/>
            <a:ext cx="5072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Un seguro para el hogar, que además incluye el servicio de vigilancia electró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3 x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Vigilancia electrónica </a:t>
            </a: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(incluye Kit instalado, monitoreo y supervisió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Seguro contra robos, incendio, inundaciones, terremoto y muerte accident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Asistencia domiciliaria </a:t>
            </a: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(consulta medica a domicilio, ambulancia y urgencias gasfitería, electricidad, cerrajería y vidrier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Tenemos 4 planes, con coberturas a primer ries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Es 100% operado por MAPFRE a través de un área especializada en vigilancia electrónica a dist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14 Imagen" descr="3.jpg"/>
          <p:cNvPicPr/>
          <p:nvPr/>
        </p:nvPicPr>
        <p:blipFill>
          <a:blip r:embed="rId2"/>
          <a:srcRect l="34721" t="66603" r="33661" b="25923"/>
          <a:stretch/>
        </p:blipFill>
        <p:spPr>
          <a:xfrm>
            <a:off x="785880" y="428760"/>
            <a:ext cx="2960640" cy="928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0:22:57Z</dcterms:created>
  <dc:creator>Alfredo Casana</dc:creator>
  <dc:description/>
  <dc:language>en-US</dc:language>
  <cp:lastModifiedBy>Alfredo Casana</cp:lastModifiedBy>
  <dcterms:modified xsi:type="dcterms:W3CDTF">2010-03-03T05:22:30Z</dcterms:modified>
  <cp:revision>9</cp:revision>
  <dc:subject/>
  <dc:title>SEGUROS DOMICILIARIOS</dc:title>
</cp:coreProperties>
</file>