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6.png" ContentType="image/png"/>
  <Override PartName="/ppt/media/image10.jpeg" ContentType="image/jpeg"/>
  <Override PartName="/ppt/media/image5.jpeg" ContentType="image/jpeg"/>
  <Override PartName="/ppt/media/image20.wmf" ContentType="image/x-wmf"/>
  <Override PartName="/ppt/media/image4.wmf" ContentType="image/x-wmf"/>
  <Override PartName="/ppt/media/image3.png" ContentType="image/png"/>
  <Override PartName="/ppt/media/image23.jpeg" ContentType="image/jpeg"/>
  <Override PartName="/ppt/media/image22.jpeg" ContentType="image/jpeg"/>
  <Override PartName="/ppt/media/image21.png" ContentType="image/png"/>
  <Override PartName="/ppt/media/image18.jpeg" ContentType="image/jpeg"/>
  <Override PartName="/ppt/media/image19.wmf" ContentType="image/x-wmf"/>
  <Override PartName="/ppt/media/image14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3B0F-2870-4842-9872-8445BF2E3D32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FA2E-8826-452E-9345-FAFB90CAF9F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29A0-8365-4D66-9552-E4FDB87C0D4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C919-84FF-460C-A67C-04BCCB86050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B447-CEB9-46A2-95A7-E4C1225A85D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0EF8-7A4C-4E50-8E6B-D68C905EE07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9AC8-A3E8-41C3-BD91-76DAB431450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F132-A7D8-482F-8791-627DC74901F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10FB-82F1-46F8-89E5-0567D570ED9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528-B270-487B-9221-0F86CBD0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9EB-57D8-4869-A2D4-230736CE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689-A145-427D-904F-D0DD42FF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91F-368B-49FB-9549-C9B3B0E5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18F7-88B3-4322-A1AA-D8D3E1F2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0670-E9CD-460D-ADEA-EC0DB7A7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F3CB-3225-42B3-9594-5287CE5C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B17C-6178-4783-9A66-758709A9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A027-24B0-42C8-99D4-A4F42667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7D51-3E30-4690-8F64-4A20B3DC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FAFC-899D-4480-A69C-C2E62C06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4C1-10BD-4EB4-85B6-70AD0447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1A3D-9925-4D1D-B2B9-3F3E22B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4DFD-5ADF-4D67-984E-15E259CD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43D3-F66F-43E5-AD83-B4BE4429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7255-9CFF-459C-AEEF-89118FF3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0C6C-9570-4445-B5A8-599002C3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285EA-4989-4841-8027-4482AACD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2F896-FE78-4C6A-ADC4-D1B956B8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8C98A-83A3-4775-9AE0-8448D9B3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70E9B-E459-4ACB-A1CE-C0749E16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D3BAC-5720-44B4-AA1A-21922E89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CA7C-0D89-46E4-BD77-CBE8E549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A0067-3AD2-44A1-AA89-25E0258A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2AEC7-764C-4005-9FDA-0D5DC20F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9E614-EA6A-4F45-8AB0-06C08BF7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E51B0-00D5-42EE-B17A-9DC2284D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11597-5B12-46DF-B02D-D1F21989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8CC51-5895-4329-A41E-77542AE0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CB932-82EA-473C-BB27-7F58B1D2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27541-FB69-407E-B32D-98260DB3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CE9C8-2BC8-43B4-8A0A-0FF6FEDB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1A976-A9A4-4918-8372-641A77FD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981-4072-4FBE-8EED-04CDD6F1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642C6-DF36-46CB-B9A4-63BE51DD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168FE-190D-45A2-9950-123770EA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B1AAB-4BF1-48B1-B4B9-21AC4F71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B8AF6-C093-45B8-91E9-E79D2633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9819C-60F8-43C2-8220-53A85D33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8CAD6-DC76-42A4-858E-F7FC4DBF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72733-E08C-47C4-9578-B4CAC553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D51EE-61C8-4B70-B6DF-10194A29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C3B40-10DC-47DC-9863-A7CC8289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DD01F-01F8-4BCB-9D39-BDA0F26D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F53-E000-4067-84EB-C4CFF85C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D17F1-6945-4C0C-80D2-FA3E56A8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A507D-CDB3-469D-ADE8-B96C1691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F4E48-0261-40F3-93FF-99118462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9CACC-D91D-47FD-BD7F-F0C0D95B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08CC3-E15A-4DB4-9BD0-E2D740F1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AD412-778C-4517-B96A-3A5DA362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AD87B-8142-46B8-A5E1-3F97BA60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9F3F1-260E-4559-9E09-52728266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1E8AF-2E83-4278-8BF1-DA15BB75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38634-26AF-43CE-90D6-A8432645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BDA-D8B4-4985-B688-F2B01D76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5AADE-9A9F-4308-991A-EF37C36A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809-8C90-4341-A9F9-B60F53F0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DDA-058E-4C76-B97B-386EDACF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BD8-5524-4BA0-B98C-4BED8BEA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2B2C-CC05-4EDC-9927-00D060D5DA2E}" type="slidenum">
              <a:rPr b="0" lang="es-P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9B25-2252-4C22-8B5A-ACFD5C147CA8}" type="slidenum">
              <a:rPr b="0" lang="es-P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C201-6656-4098-A254-953DACC251BA}" type="slidenum">
              <a:rPr b="0" lang="es-P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8EA0-74C0-45F8-BDBF-25F681BF8724}" type="slidenum">
              <a:rPr b="0" lang="es-P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A3A0-AD9E-4DB6-AF1E-B00EB79B0C8E}" type="slidenum">
              <a:rPr b="0" lang="es-P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500" spc="-1" strike="noStrike">
                <a:solidFill>
                  <a:srgbClr val="ff8d3e"/>
                </a:solidFill>
                <a:latin typeface="Verdana"/>
              </a:rPr>
              <a:t>SEGUROS DOMICILIARIO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28" name="Object 5"/>
          <p:cNvGraphicFramePr/>
          <p:nvPr/>
        </p:nvGraphicFramePr>
        <p:xfrm>
          <a:off x="6215040" y="4429080"/>
          <a:ext cx="2778120" cy="22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15040" y="4429080"/>
                    <a:ext cx="277812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Picture 4" descr="http://casapenalba.iespana.es/imagenes/casa.JPG"/>
          <p:cNvPicPr/>
          <p:nvPr/>
        </p:nvPicPr>
        <p:blipFill>
          <a:blip r:embed="rId3"/>
          <a:stretch/>
        </p:blipFill>
        <p:spPr>
          <a:xfrm>
            <a:off x="1785960" y="3929040"/>
            <a:ext cx="292896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53575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8d3e"/>
                </a:solidFill>
                <a:latin typeface="Verdana"/>
              </a:rPr>
              <a:t>Vigilancia Electrónic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9 CuadroTexto"/>
          <p:cNvSpPr/>
          <p:nvPr/>
        </p:nvSpPr>
        <p:spPr>
          <a:xfrm>
            <a:off x="714240" y="1785960"/>
            <a:ext cx="72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14 Imagen" descr="3.jpg"/>
          <p:cNvPicPr/>
          <p:nvPr/>
        </p:nvPicPr>
        <p:blipFill>
          <a:blip r:embed="rId1"/>
          <a:srcRect l="34721" t="66603" r="33661" b="25923"/>
          <a:stretch/>
        </p:blipFill>
        <p:spPr>
          <a:xfrm>
            <a:off x="357120" y="428760"/>
            <a:ext cx="2960640" cy="928440"/>
          </a:xfrm>
          <a:prstGeom prst="rect">
            <a:avLst/>
          </a:prstGeom>
          <a:ln w="0">
            <a:noFill/>
          </a:ln>
        </p:spPr>
      </p:pic>
      <p:pic>
        <p:nvPicPr>
          <p:cNvPr id="261" name="13 Imagen" descr="proceso.jpg"/>
          <p:cNvPicPr/>
          <p:nvPr/>
        </p:nvPicPr>
        <p:blipFill>
          <a:blip r:embed="rId2"/>
          <a:stretch/>
        </p:blipFill>
        <p:spPr>
          <a:xfrm>
            <a:off x="357120" y="1428840"/>
            <a:ext cx="8188560" cy="2619360"/>
          </a:xfrm>
          <a:prstGeom prst="rect">
            <a:avLst/>
          </a:prstGeom>
          <a:ln w="0">
            <a:noFill/>
          </a:ln>
        </p:spPr>
      </p:pic>
      <p:sp>
        <p:nvSpPr>
          <p:cNvPr id="262" name="14 Rectángulo"/>
          <p:cNvSpPr/>
          <p:nvPr/>
        </p:nvSpPr>
        <p:spPr>
          <a:xfrm>
            <a:off x="642960" y="4143240"/>
            <a:ext cx="77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uestro Servicio Integral de Atención al Cliente SI24 estará atento ante robos, incendios o emergencias médicas que puedan ocurrir en el hogar, y enviará según cada caso, a la fuerza de supervisión MAPFRE, las fuerzas del orden correspondientes, los bomberos y la asistencia médica neces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8d3e"/>
                </a:solidFill>
                <a:latin typeface="Verdana"/>
              </a:rPr>
              <a:t>Plan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9 CuadroTexto"/>
          <p:cNvSpPr/>
          <p:nvPr/>
        </p:nvSpPr>
        <p:spPr>
          <a:xfrm>
            <a:off x="714240" y="1785960"/>
            <a:ext cx="72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14 Imagen" descr="3.jpg"/>
          <p:cNvPicPr/>
          <p:nvPr/>
        </p:nvPicPr>
        <p:blipFill>
          <a:blip r:embed="rId1"/>
          <a:srcRect l="34721" t="66603" r="33661" b="25923"/>
          <a:stretch/>
        </p:blipFill>
        <p:spPr>
          <a:xfrm>
            <a:off x="357120" y="428760"/>
            <a:ext cx="2571840" cy="806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1214280" y="1285920"/>
            <a:ext cx="6786720" cy="4249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8d3e"/>
                </a:solidFill>
                <a:latin typeface="Verdana"/>
              </a:rPr>
              <a:t>Primas Mensual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9 CuadroTexto"/>
          <p:cNvSpPr/>
          <p:nvPr/>
        </p:nvSpPr>
        <p:spPr>
          <a:xfrm>
            <a:off x="714240" y="1785960"/>
            <a:ext cx="72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14 Imagen" descr="3.jpg"/>
          <p:cNvPicPr/>
          <p:nvPr/>
        </p:nvPicPr>
        <p:blipFill>
          <a:blip r:embed="rId1"/>
          <a:srcRect l="34721" t="66603" r="33661" b="25923"/>
          <a:stretch/>
        </p:blipFill>
        <p:spPr>
          <a:xfrm>
            <a:off x="0" y="571680"/>
            <a:ext cx="2960640" cy="928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54" descr=""/>
          <p:cNvPicPr/>
          <p:nvPr/>
        </p:nvPicPr>
        <p:blipFill>
          <a:blip r:embed="rId2"/>
          <a:stretch/>
        </p:blipFill>
        <p:spPr>
          <a:xfrm>
            <a:off x="1357200" y="1643040"/>
            <a:ext cx="626436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14 Rectángulo"/>
          <p:cNvSpPr/>
          <p:nvPr/>
        </p:nvSpPr>
        <p:spPr>
          <a:xfrm>
            <a:off x="857160" y="2786040"/>
            <a:ext cx="6715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0000"/>
                </a:solidFill>
                <a:latin typeface="Univers"/>
              </a:rPr>
              <a:t>Principales cond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Univers"/>
                <a:ea typeface="Arial"/>
              </a:rPr>
              <a:t>Letra de garantía por 24 meses si Mapfre da en comodato los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Univers"/>
                <a:ea typeface="Arial"/>
              </a:rPr>
              <a:t>Pago de la primer cuota de la póliza para proceder con la insta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Univers"/>
                <a:ea typeface="Arial"/>
              </a:rPr>
              <a:t>Cargo en cuenta o tarjeta de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Servicio preferente hogar:</a:t>
            </a:r>
            <a:br>
              <a:rPr sz="3200"/>
            </a:br>
            <a:r>
              <a:rPr b="1" lang="es-PE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 Beneficios de nuestros seguro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3" name="16 Imagen" descr="fv2_F.tif"/>
          <p:cNvPicPr/>
          <p:nvPr/>
        </p:nvPicPr>
        <p:blipFill>
          <a:blip r:embed="rId1"/>
          <a:stretch/>
        </p:blipFill>
        <p:spPr>
          <a:xfrm>
            <a:off x="428760" y="2428920"/>
            <a:ext cx="3071520" cy="20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4" name="12 Imagen" descr="iStock_000005141756Small.jpg"/>
          <p:cNvPicPr/>
          <p:nvPr/>
        </p:nvPicPr>
        <p:blipFill>
          <a:blip r:embed="rId2"/>
          <a:stretch/>
        </p:blipFill>
        <p:spPr>
          <a:xfrm>
            <a:off x="3143160" y="4214880"/>
            <a:ext cx="2786040" cy="185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5" name="16 Imagen" descr="iStock_000005779885Medium.jpg"/>
          <p:cNvPicPr/>
          <p:nvPr/>
        </p:nvPicPr>
        <p:blipFill>
          <a:blip r:embed="rId3"/>
          <a:stretch/>
        </p:blipFill>
        <p:spPr>
          <a:xfrm>
            <a:off x="5572080" y="2428920"/>
            <a:ext cx="3110040" cy="20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Servicio de vigilancia electrónica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9 CuadroTexto"/>
          <p:cNvSpPr/>
          <p:nvPr/>
        </p:nvSpPr>
        <p:spPr>
          <a:xfrm>
            <a:off x="714240" y="1785960"/>
            <a:ext cx="72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16 Imagen" descr="fv2_F.tif"/>
          <p:cNvPicPr/>
          <p:nvPr/>
        </p:nvPicPr>
        <p:blipFill>
          <a:blip r:embed="rId1"/>
          <a:stretch/>
        </p:blipFill>
        <p:spPr>
          <a:xfrm>
            <a:off x="428760" y="1143000"/>
            <a:ext cx="3929040" cy="26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9" name="20 Rectángulo"/>
          <p:cNvSpPr/>
          <p:nvPr/>
        </p:nvSpPr>
        <p:spPr>
          <a:xfrm>
            <a:off x="4357800" y="857160"/>
            <a:ext cx="442908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uestros asegurados podrán estar protegidos por nuestro “Servicio de Alarma y Monitoreo” durante las 24 horas del día todos los días del añ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Todos nuestros seguros de hogar (MAPFRE hogar Ideal y MAPFRE Hogar Hipotecario)  pueden incluir en sus planes el servicio de vigilancia electrónica. </a:t>
            </a:r>
            <a:r>
              <a:rPr b="0" lang="es-PE" sz="2000" spc="-1" strike="noStrike">
                <a:solidFill>
                  <a:srgbClr val="ff0000"/>
                </a:solidFill>
                <a:latin typeface="Verdana"/>
              </a:rPr>
              <a:t>La prima neta adicional a la prima del seguro es de US$ 240.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Consulta médica a domicili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9 CuadroTexto"/>
          <p:cNvSpPr/>
          <p:nvPr/>
        </p:nvSpPr>
        <p:spPr>
          <a:xfrm>
            <a:off x="714240" y="1785960"/>
            <a:ext cx="72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11 Rectángulo"/>
          <p:cNvSpPr/>
          <p:nvPr/>
        </p:nvSpPr>
        <p:spPr>
          <a:xfrm>
            <a:off x="4286160" y="18572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 nuestros asegurados requieren una consulta de cualquier especialidad para su familia o algún miembro del hogar, un doctor los visitará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12 Imagen" descr="iStock_000005141756Small.jpg"/>
          <p:cNvPicPr/>
          <p:nvPr/>
        </p:nvPicPr>
        <p:blipFill>
          <a:blip r:embed="rId1"/>
          <a:stretch/>
        </p:blipFill>
        <p:spPr>
          <a:xfrm>
            <a:off x="285840" y="1857240"/>
            <a:ext cx="3929040" cy="26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Ambulancia a domicilio por emergencia médica o accidental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9 CuadroTexto"/>
          <p:cNvSpPr/>
          <p:nvPr/>
        </p:nvSpPr>
        <p:spPr>
          <a:xfrm>
            <a:off x="714240" y="1785960"/>
            <a:ext cx="72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15 Rectángulo"/>
          <p:cNvSpPr/>
          <p:nvPr/>
        </p:nvSpPr>
        <p:spPr>
          <a:xfrm>
            <a:off x="4357800" y="28576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sólo una llamada de nuestros asegurados enviaremos una ambulancia inmediat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16 Imagen" descr="iStock_000005779885Medium.jpg"/>
          <p:cNvPicPr/>
          <p:nvPr/>
        </p:nvPicPr>
        <p:blipFill>
          <a:blip r:embed="rId1"/>
          <a:stretch/>
        </p:blipFill>
        <p:spPr>
          <a:xfrm>
            <a:off x="285840" y="1857240"/>
            <a:ext cx="3929040" cy="261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Asistencia domiciliari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9 CuadroTexto"/>
          <p:cNvSpPr/>
          <p:nvPr/>
        </p:nvSpPr>
        <p:spPr>
          <a:xfrm>
            <a:off x="714240" y="1785960"/>
            <a:ext cx="72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0 Rectángulo"/>
          <p:cNvSpPr/>
          <p:nvPr/>
        </p:nvSpPr>
        <p:spPr>
          <a:xfrm>
            <a:off x="4357800" y="164304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olucionamos las urgencias de gasfitería, electricidad, cerrajería y vidriería en el hogar de nuestros asegu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12 Imagen" descr="iStock_000005035981Medium.jpg"/>
          <p:cNvPicPr/>
          <p:nvPr/>
        </p:nvPicPr>
        <p:blipFill>
          <a:blip r:embed="rId1"/>
          <a:stretch/>
        </p:blipFill>
        <p:spPr>
          <a:xfrm>
            <a:off x="500040" y="1571760"/>
            <a:ext cx="3929040" cy="268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5143320"/>
            <a:ext cx="8286480" cy="8571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07f09"/>
                </a:solidFill>
                <a:latin typeface="Verdana"/>
              </a:rPr>
              <a:t>¿Por qué es importante tener un seguro domiciliario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Picture 2" descr="http://www.coopevictoria.com/victoria/imagenes/salud_familia.gif"/>
          <p:cNvPicPr/>
          <p:nvPr/>
        </p:nvPicPr>
        <p:blipFill>
          <a:blip r:embed="rId1"/>
          <a:stretch/>
        </p:blipFill>
        <p:spPr>
          <a:xfrm>
            <a:off x="3357720" y="642960"/>
            <a:ext cx="2570040" cy="3851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8d3e"/>
                </a:solidFill>
                <a:latin typeface="Verdana"/>
              </a:rPr>
              <a:t>Robos en Lim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30280"/>
            <a:ext cx="818352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el primer trimestre del 2009 se han realizado mas de 27 robos diarios en domicilios / mas de 1 cada ho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9 CuadroTexto"/>
          <p:cNvSpPr/>
          <p:nvPr/>
        </p:nvSpPr>
        <p:spPr>
          <a:xfrm>
            <a:off x="714240" y="1785960"/>
            <a:ext cx="72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5" descr=""/>
          <p:cNvPicPr/>
          <p:nvPr/>
        </p:nvPicPr>
        <p:blipFill>
          <a:blip r:embed="rId1"/>
          <a:stretch/>
        </p:blipFill>
        <p:spPr>
          <a:xfrm>
            <a:off x="5429160" y="428760"/>
            <a:ext cx="3278160" cy="3214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4" descr=""/>
          <p:cNvPicPr/>
          <p:nvPr/>
        </p:nvPicPr>
        <p:blipFill>
          <a:blip r:embed="rId2"/>
          <a:stretch/>
        </p:blipFill>
        <p:spPr>
          <a:xfrm>
            <a:off x="571680" y="500040"/>
            <a:ext cx="3286080" cy="3222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22"/>
          <p:cNvSpPr/>
          <p:nvPr/>
        </p:nvSpPr>
        <p:spPr>
          <a:xfrm>
            <a:off x="3857760" y="1785960"/>
            <a:ext cx="15904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2,4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8d3e"/>
                </a:solidFill>
                <a:latin typeface="Verdana"/>
              </a:rPr>
              <a:t>Últimos Suceso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3280" y="529920"/>
            <a:ext cx="8183520" cy="75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Terremoto de Haití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2" descr="http://www.ultimahora.com/adjuntos/imagenes/000/172/0000172003.jpg"/>
          <p:cNvPicPr/>
          <p:nvPr/>
        </p:nvPicPr>
        <p:blipFill>
          <a:blip r:embed="rId1"/>
          <a:stretch/>
        </p:blipFill>
        <p:spPr>
          <a:xfrm>
            <a:off x="500040" y="1357200"/>
            <a:ext cx="4143240" cy="2914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http://www.logos.info/files/onna-abruzzo-terremoto.jpg"/>
          <p:cNvPicPr/>
          <p:nvPr/>
        </p:nvPicPr>
        <p:blipFill>
          <a:blip r:embed="rId2"/>
          <a:stretch/>
        </p:blipFill>
        <p:spPr>
          <a:xfrm>
            <a:off x="4929120" y="3143160"/>
            <a:ext cx="371016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03280" y="529920"/>
            <a:ext cx="8183520" cy="75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Terremoto de Chi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2" descr="http://www.elobservatodo.cl/tmp_images/331/noticia_16513_normal.jpg"/>
          <p:cNvPicPr/>
          <p:nvPr/>
        </p:nvPicPr>
        <p:blipFill>
          <a:blip r:embed="rId1"/>
          <a:stretch/>
        </p:blipFill>
        <p:spPr>
          <a:xfrm>
            <a:off x="142920" y="1214280"/>
            <a:ext cx="4208400" cy="2714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http://www.estrategiaynegocios.net/imgnotas/Dibujo.jpg"/>
          <p:cNvPicPr/>
          <p:nvPr/>
        </p:nvPicPr>
        <p:blipFill>
          <a:blip r:embed="rId2"/>
          <a:stretch/>
        </p:blipFill>
        <p:spPr>
          <a:xfrm>
            <a:off x="4406760" y="3714840"/>
            <a:ext cx="473724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8d3e"/>
                </a:solidFill>
                <a:latin typeface="Verdana"/>
              </a:rPr>
              <a:t>En Perú, año 2007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7" name="Picture 2" descr="http://api.ning.com/files/ltV3bxd57J5EMHM5u9zq6ie70qA-H8lY*g7WfsPyD0A_/edificioenPisco.jpg"/>
          <p:cNvPicPr/>
          <p:nvPr/>
        </p:nvPicPr>
        <p:blipFill>
          <a:blip r:embed="rId1"/>
          <a:stretch/>
        </p:blipFill>
        <p:spPr>
          <a:xfrm>
            <a:off x="500040" y="642960"/>
            <a:ext cx="3857760" cy="2892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http://luizcore.files.wordpress.com/2009/08/terremoto-en-peru-2.jpg"/>
          <p:cNvPicPr/>
          <p:nvPr/>
        </p:nvPicPr>
        <p:blipFill>
          <a:blip r:embed="rId2"/>
          <a:stretch/>
        </p:blipFill>
        <p:spPr>
          <a:xfrm>
            <a:off x="4500720" y="2500200"/>
            <a:ext cx="4071960" cy="2995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8d3e"/>
                </a:solidFill>
                <a:latin typeface="Verdana"/>
              </a:rPr>
              <a:t>Seguro Domiciliari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Ante estos acontecimientos, y para protección de nuestros asegurados se crea el seguro domiciliari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bo y/asal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und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rremo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honestidad de emple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mbulancia y consultas para todos los integrantes del ho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8d3e"/>
                </a:solidFill>
                <a:latin typeface="Verdana"/>
              </a:rPr>
              <a:t>Mapfre 24 Hor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2" name="9 Imagen" descr="asia sur.jpeg"/>
          <p:cNvPicPr/>
          <p:nvPr/>
        </p:nvPicPr>
        <p:blipFill>
          <a:blip r:embed="rId1"/>
          <a:stretch/>
        </p:blipFill>
        <p:spPr>
          <a:xfrm>
            <a:off x="1928880" y="428760"/>
            <a:ext cx="5000400" cy="5024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52862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8d3e"/>
                </a:solidFill>
                <a:latin typeface="Verdana"/>
              </a:rPr>
              <a:t>Mapfre 24 Hor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9 CuadroTexto"/>
          <p:cNvSpPr/>
          <p:nvPr/>
        </p:nvSpPr>
        <p:spPr>
          <a:xfrm>
            <a:off x="714240" y="1785960"/>
            <a:ext cx="7286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12 Imagen" descr="triptico-A5-T2.jpg"/>
          <p:cNvPicPr/>
          <p:nvPr/>
        </p:nvPicPr>
        <p:blipFill>
          <a:blip r:embed="rId1"/>
          <a:stretch/>
        </p:blipFill>
        <p:spPr>
          <a:xfrm>
            <a:off x="785880" y="1500120"/>
            <a:ext cx="2928960" cy="41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6" name="11 Rectángulo"/>
          <p:cNvSpPr/>
          <p:nvPr/>
        </p:nvSpPr>
        <p:spPr>
          <a:xfrm>
            <a:off x="3786120" y="571680"/>
            <a:ext cx="5072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Univers"/>
                <a:ea typeface="Arial"/>
              </a:rPr>
              <a:t>Un seguro para el hogar, que además incluye el servicio de vigilancia electró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Univers"/>
                <a:ea typeface="Arial"/>
              </a:rPr>
              <a:t>3 x1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Univers"/>
                <a:ea typeface="Arial"/>
              </a:rPr>
              <a:t>Vigilancia electrónica </a:t>
            </a:r>
            <a:r>
              <a:rPr b="0" lang="es-PE" sz="1800" spc="-1" strike="noStrike">
                <a:solidFill>
                  <a:srgbClr val="000000"/>
                </a:solidFill>
                <a:latin typeface="Univers"/>
                <a:ea typeface="Arial"/>
              </a:rPr>
              <a:t>(incluye Kit instalado, monitoreo y supervisió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Univers"/>
                <a:ea typeface="Arial"/>
              </a:rPr>
              <a:t>Seguro contra robos, incendio, inundaciones, terremoto y muerte accidenta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Univers"/>
                <a:ea typeface="Arial"/>
              </a:rPr>
              <a:t>Asistencia domiciliaria </a:t>
            </a:r>
            <a:r>
              <a:rPr b="0" lang="es-PE" sz="1800" spc="-1" strike="noStrike">
                <a:solidFill>
                  <a:srgbClr val="000000"/>
                </a:solidFill>
                <a:latin typeface="Univers"/>
                <a:ea typeface="Arial"/>
              </a:rPr>
              <a:t>(consulta medica a domicilio, ambulancia y urgencias gasfitería, electricidad, cerrajería y vidrierí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Univers"/>
                <a:ea typeface="Arial"/>
              </a:rPr>
              <a:t>Tenemos 4 planes, con coberturas a primer ries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Univers"/>
                <a:ea typeface="Arial"/>
              </a:rPr>
              <a:t>Es 100% operado por MAPFRE a través de un área especializada en vigilancia electrónica a dist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14 Imagen" descr="3.jpg"/>
          <p:cNvPicPr/>
          <p:nvPr/>
        </p:nvPicPr>
        <p:blipFill>
          <a:blip r:embed="rId2"/>
          <a:srcRect l="34721" t="66603" r="33661" b="25923"/>
          <a:stretch/>
        </p:blipFill>
        <p:spPr>
          <a:xfrm>
            <a:off x="785880" y="428760"/>
            <a:ext cx="2960640" cy="928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20:22:57Z</dcterms:created>
  <dc:creator>Alfredo Casana</dc:creator>
  <dc:description/>
  <dc:language>en-US</dc:language>
  <cp:lastModifiedBy>Alfredo Casana</cp:lastModifiedBy>
  <dcterms:modified xsi:type="dcterms:W3CDTF">2010-03-03T05:22:30Z</dcterms:modified>
  <cp:revision>9</cp:revision>
  <dc:subject/>
  <dc:title>SEGUROS DOMICILIARIOS</dc:title>
</cp:coreProperties>
</file>