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7FA-7548-427A-A3C0-596E362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51F-6149-4F68-9284-7A5EB30F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ABA-7DE4-4744-9088-24AA0B87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F0D-266B-429D-AFD5-57A97D76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5DA-F95E-47D5-BDBD-806834B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35A-F980-46C7-8CB3-EB44444B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959-B14E-4B9A-8814-390DBA8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CEC-13E0-4D06-8C76-6C82031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3D2-D6C0-42C2-83BB-302C470B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879-C51E-4C85-90A8-1D5C190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E0E-8E03-4FED-81AE-A279AAA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63E-1B12-4E3D-AC2D-388BC42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DCB-70BD-4CA6-B198-E5E097954F61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6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132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48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4680"/>
            <a:ext cx="9372600" cy="68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-25560"/>
            <a:ext cx="7467480" cy="688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15:57:12Z</dcterms:created>
  <dc:creator>Eddy</dc:creator>
  <dc:description/>
  <dc:language>en-US</dc:language>
  <cp:lastModifiedBy>Elisha</cp:lastModifiedBy>
  <dcterms:modified xsi:type="dcterms:W3CDTF">2006-03-18T22:38:47Z</dcterms:modified>
  <cp:revision>9</cp:revision>
  <dc:subject/>
  <dc:title>Peloton</dc:title>
</cp:coreProperties>
</file>