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F57-6F87-4EAD-BFA6-E4EA01B8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1F9-0C3B-489D-8FCE-089144F4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D63-462A-47E6-8576-71D310AB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B8F-ECC3-409B-BEB4-1B077627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BB2-AECF-4616-A53B-9EA6BB7E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29C-3D28-4D54-BF55-BABD21CF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F75-7FB7-496F-985A-BE93E368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161-1917-45C6-B137-DC00958D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C0C-AF51-4FAB-AB29-16A982CE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061-1B78-4EC4-B405-5259B569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819-768F-4C3A-9B0E-6C0CACA4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61A-D0FE-46F7-B47E-B7698B2F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F5CE-8AAB-4E93-ABC9-4C10D33D3E02}" type="slidenum">
              <a:rPr b="0" lang="he-I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6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51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132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914400" y="0"/>
            <a:ext cx="10058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48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28600" y="4680"/>
            <a:ext cx="9372600" cy="685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-25560"/>
            <a:ext cx="7467480" cy="688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46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15:57:12Z</dcterms:created>
  <dc:creator>Eddy</dc:creator>
  <dc:description/>
  <dc:language>en-US</dc:language>
  <cp:lastModifiedBy>Elisha</cp:lastModifiedBy>
  <dcterms:modified xsi:type="dcterms:W3CDTF">2006-03-18T22:38:47Z</dcterms:modified>
  <cp:revision>9</cp:revision>
  <dc:subject/>
  <dc:title>Peloton</dc:title>
</cp:coreProperties>
</file>