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gif" ContentType="image/gif"/>
  <Override PartName="/ppt/media/image14.jpeg" ContentType="image/jpeg"/>
  <Override PartName="/ppt/media/image15.gif" ContentType="image/gif"/>
  <Override PartName="/ppt/media/image13.jpeg" ContentType="image/jpeg"/>
  <Override PartName="/ppt/media/o%20ter%C3%A7o%20-%20roberto%20carlos.WAV" ContentType="audio/x-wav"/>
  <Override PartName="/ppt/media/image12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3.gif" ContentType="image/gif"/>
  <Override PartName="/ppt/media/image1.jpeg" ContentType="image/jpeg"/>
  <Override PartName="/ppt/media/image7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AA9E-17E0-490F-97C2-6A304FC6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F7DD-F570-45CF-AB0B-43FD96B7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FD6-70F1-4AF6-AB1E-E0808BAA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D12-20B5-4E94-9E0E-12BD8F45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E22-8FCE-40E2-B71D-3B692922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CAEE-93F8-4F5A-94F6-ACB04154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789-9977-46F6-AA9A-5FC2582B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B4F-CC8E-4384-9E78-4B1BFAA1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758E-D3D1-4C7A-8AA7-4515CF8B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22D-3ABE-4D0E-AA4D-07A12F72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72E2-B1F5-46C5-8569-4E80C1BC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A8F-874E-4351-95C1-5DDBE83A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675D-0934-4496-8B75-34AD7709B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audio" Target="../media/o%20ter&#231;o%20-%20roberto%20carlos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4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88000" y="333360"/>
            <a:ext cx="4356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660033"/>
                </a:solidFill>
                <a:latin typeface="Flexure"/>
              </a:rPr>
              <a:t>Rez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660033"/>
                </a:solidFill>
                <a:latin typeface="Flexure"/>
              </a:rPr>
              <a:t>el Rosar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660033"/>
                </a:solidFill>
                <a:latin typeface="Flexure"/>
              </a:rPr>
              <a:t>todos los dí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4969080" cy="7029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932360" y="4797360"/>
            <a:ext cx="42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0000"/>
                </a:solidFill>
                <a:latin typeface="BritannicTLig"/>
              </a:rPr>
              <a:t>Pedi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0000"/>
                </a:solidFill>
                <a:latin typeface="BritannicTLig"/>
              </a:rPr>
              <a:t>de Nuestra Señ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0000"/>
                </a:solidFill>
                <a:latin typeface="BritannicTLig"/>
              </a:rPr>
              <a:t>en varias apar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36216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1840" y="184464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643280" y="3716280"/>
            <a:ext cx="36216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643280" y="4952880"/>
            <a:ext cx="36216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372360" y="3502080"/>
            <a:ext cx="1079280" cy="107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o%20ter%C3%A7o%20-%20roberto%20carlo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3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9280" y="0"/>
            <a:ext cx="428472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800000"/>
                </a:solidFill>
                <a:latin typeface="Arial"/>
              </a:rPr>
              <a:t>Cuando llega el fin del día, con los retos superados y las metas cumplidas, rezo los misterios gloriosos, que me recuerdan que Jesús venció a la muerte por amor, para traer la salvación a toda la humanidad.</a:t>
            </a:r>
            <a:br>
              <a:rPr sz="2400"/>
            </a:br>
            <a:r>
              <a:rPr b="0" lang="es-MX" sz="2400" spc="-1" strike="noStrike">
                <a:solidFill>
                  <a:srgbClr val="800000"/>
                </a:solidFill>
                <a:latin typeface="Arial"/>
              </a:rPr>
              <a:t>“Ahora, dígame usted, ¿Dónde está la idolatría?"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800000"/>
                </a:solidFill>
                <a:latin typeface="Arial"/>
              </a:rPr>
              <a:t>El protestante, después de escuchar todo esto, simplemente dijo: " Yo no sabía todo eso. ¡Por favor, enséñame a rezar el Rosario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4844880" cy="7029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362160" cy="190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1773360"/>
            <a:ext cx="36216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362160" cy="1904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643280" y="4952880"/>
            <a:ext cx="362160" cy="190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6443640" y="378936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3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284720" y="333360"/>
            <a:ext cx="485928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e7"/>
                </a:solidFill>
                <a:latin typeface="Arial"/>
              </a:rPr>
              <a:t>El Santo Papa Juan Pablo II, acrecentó el piadoso rezo del Rosario con 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e7"/>
                </a:solidFill>
                <a:latin typeface="Arial"/>
              </a:rPr>
              <a:t> </a:t>
            </a:r>
            <a:r>
              <a:rPr b="1" lang="es-MX" sz="3600" spc="-1" strike="noStrike">
                <a:solidFill>
                  <a:srgbClr val="ffffe7"/>
                </a:solidFill>
                <a:latin typeface="Arial"/>
              </a:rPr>
              <a:t>“</a:t>
            </a:r>
            <a:r>
              <a:rPr b="1" lang="es-MX" sz="3600" spc="-1" strike="noStrike">
                <a:solidFill>
                  <a:srgbClr val="ffffe7"/>
                </a:solidFill>
                <a:latin typeface="Arial"/>
              </a:rPr>
              <a:t>Misterios de la Luz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e7"/>
                </a:solidFill>
                <a:latin typeface="Arial"/>
              </a:rPr>
              <a:t>que hablan de la                                         Vida Pública de Jesú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5908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95640" y="0"/>
            <a:ext cx="362160" cy="190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995640" y="1628640"/>
            <a:ext cx="362160" cy="190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995640" y="3213000"/>
            <a:ext cx="362160" cy="190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3995640" y="4952880"/>
            <a:ext cx="362160" cy="190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6156360" y="503856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d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859280" y="193680"/>
            <a:ext cx="4284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1º misterio</a:t>
            </a:r>
            <a:r>
              <a:rPr b="0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 :</a:t>
            </a:r>
            <a:r>
              <a:rPr b="0" lang="es-MX" sz="2400" spc="-1" strike="noStrike">
                <a:solidFill>
                  <a:srgbClr val="ffffe7"/>
                </a:solidFill>
                <a:latin typeface="Arial"/>
              </a:rPr>
              <a:t>                                  El Bautismo de Jesú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2º misterio :</a:t>
            </a:r>
            <a:r>
              <a:rPr b="0" i="1" lang="es-MX" sz="2400" spc="-1" strike="noStrike">
                <a:solidFill>
                  <a:srgbClr val="ffffe7"/>
                </a:solidFill>
                <a:latin typeface="Arial"/>
              </a:rPr>
              <a:t>                           </a:t>
            </a:r>
            <a:r>
              <a:rPr b="0" lang="es-MX" sz="2400" spc="-1" strike="noStrike">
                <a:solidFill>
                  <a:srgbClr val="ffffe7"/>
                </a:solidFill>
                <a:latin typeface="Arial"/>
              </a:rPr>
              <a:t>Jesús se revel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e7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e7"/>
                </a:solidFill>
                <a:latin typeface="Arial"/>
              </a:rPr>
              <a:t>en las Bodas de Ca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3</a:t>
            </a:r>
            <a:r>
              <a:rPr b="0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º </a:t>
            </a:r>
            <a:r>
              <a:rPr b="0" i="1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misterio :</a:t>
            </a:r>
            <a:r>
              <a:rPr b="0" i="1" lang="es-MX" sz="2400" spc="-1" strike="noStrike">
                <a:solidFill>
                  <a:srgbClr val="ffffe7"/>
                </a:solidFill>
                <a:latin typeface="Arial"/>
              </a:rPr>
              <a:t>                           </a:t>
            </a:r>
            <a:r>
              <a:rPr b="0" lang="es-MX" sz="2400" spc="-1" strike="noStrike">
                <a:solidFill>
                  <a:srgbClr val="ffffe7"/>
                </a:solidFill>
                <a:latin typeface="Arial"/>
              </a:rPr>
              <a:t>Jesús anuncia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e7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e7"/>
                </a:solidFill>
                <a:latin typeface="Arial"/>
              </a:rPr>
              <a:t>el Reino de D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4º misteri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e7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e7"/>
                </a:solidFill>
                <a:latin typeface="Arial"/>
              </a:rPr>
              <a:t>La Transfiguración de Jesús.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5</a:t>
            </a:r>
            <a:r>
              <a:rPr b="0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º </a:t>
            </a:r>
            <a:r>
              <a:rPr b="0" i="1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misterio </a:t>
            </a:r>
            <a:r>
              <a:rPr b="0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:</a:t>
            </a:r>
            <a:r>
              <a:rPr b="0" lang="es-MX" sz="2400" spc="-1" strike="noStrike">
                <a:solidFill>
                  <a:srgbClr val="ffffe7"/>
                </a:solidFill>
                <a:latin typeface="Arial"/>
              </a:rPr>
              <a:t>                           Jesús instituy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e7"/>
                </a:solidFill>
                <a:latin typeface="Arial"/>
              </a:rPr>
              <a:t>Eucaristía en la Cena Pasc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859280" y="263520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9584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284720" y="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284720" y="162864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284720" y="321300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4284720" y="4952880"/>
            <a:ext cx="361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0" y="9079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0"/>
            <a:ext cx="4643280" cy="65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99"/>
                </a:solidFill>
                <a:latin typeface="Arial"/>
              </a:rPr>
              <a:t>¿Qué tal si retomamos y reforzamos el rezo de esta oración sencilla y popular que ha conservado y alimentado la fe de tantas persona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99"/>
                </a:solidFill>
                <a:latin typeface="Arial"/>
              </a:rPr>
              <a:t>Será una bendición para todos nosotros!</a:t>
            </a:r>
            <a:r>
              <a:rPr b="0" lang="es-MX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333399"/>
                </a:solidFill>
                <a:latin typeface="Arial"/>
              </a:rPr>
              <a:t>Adaptado por                                     P. Antô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8200" y="404640"/>
            <a:ext cx="3529080" cy="612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211640" y="170028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211640" y="321300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211640" y="495288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6156360" y="2781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0" y="162864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0" y="335772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0" y="495288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 rot="5400000">
            <a:off x="1134720" y="-77148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 rot="16200000">
            <a:off x="3078000" y="-77184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 rot="5400000">
            <a:off x="1022040" y="572472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4"/>
          <a:stretch/>
        </p:blipFill>
        <p:spPr>
          <a:xfrm rot="16200000">
            <a:off x="3039840" y="5724000"/>
            <a:ext cx="361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142920"/>
            <a:ext cx="7345440" cy="5734080"/>
          </a:xfrm>
          <a:custGeom>
            <a:avLst/>
            <a:gdLst>
              <a:gd name="textAreaLeft" fmla="*/ 983880 w 7345440"/>
              <a:gd name="textAreaRight" fmla="*/ 6361560 w 7345440"/>
              <a:gd name="textAreaTop" fmla="*/ 810720 h 5734080"/>
              <a:gd name="textAreaBottom" fmla="*/ 4923360 h 573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109" stAng="-5400000" swAng="-5400000"/>
                <a:lnTo>
                  <a:pt x="0" y="15491"/>
                </a:lnTo>
                <a:arcTo wR="21600" hR="6109" stAng="10800000" swAng="-5182477"/>
                <a:lnTo>
                  <a:pt x="21213" y="21599"/>
                </a:lnTo>
                <a:lnTo>
                  <a:pt x="21600" y="16909"/>
                </a:lnTo>
                <a:lnTo>
                  <a:pt x="21213" y="12217"/>
                </a:lnTo>
                <a:lnTo>
                  <a:pt x="21213" y="12217"/>
                </a:lnTo>
                <a:arcTo wR="21600" hR="6109" stAng="5617523" swAng="4058801"/>
                <a:lnTo>
                  <a:pt x="7763" y="10800"/>
                </a:lnTo>
                <a:arcTo wR="21600" hR="6109" stAng="-9676323" swAng="4276323"/>
                <a:close/>
              </a:path>
              <a:path fill="darkenLess" w="21600" h="21600">
                <a:moveTo>
                  <a:pt x="21600" y="0"/>
                </a:moveTo>
                <a:arcTo wR="21600" hR="6109" stAng="-5400000" swAng="-5400000"/>
                <a:lnTo>
                  <a:pt x="0" y="6109"/>
                </a:lnTo>
                <a:arcTo wR="21600" hR="6109" stAng="10800000" swAng="-1123677"/>
                <a:lnTo>
                  <a:pt x="7763" y="10800"/>
                </a:lnTo>
                <a:arcTo wR="21600" hR="6109" stAng="-9676323" swAng="4276323"/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549360"/>
            <a:ext cx="561636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e7"/>
                </a:solidFill>
                <a:latin typeface="Comic Sans MS"/>
              </a:rPr>
              <a:t>Hoy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1790-B174-4CCA-852B-7AC1D6395258}" type="datetime2">
              <a:rPr b="0" lang="es-MX" sz="2400" spc="-1" strike="noStrike">
                <a:solidFill>
                  <a:srgbClr val="ffffe7"/>
                </a:solidFill>
                <a:latin typeface="Comic Sans MS"/>
              </a:rPr>
              <a:t>viernes 31 de julio de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e7"/>
                </a:solidFill>
                <a:latin typeface="Comic Sans MS"/>
              </a:rPr>
              <a:t>Son las </a:t>
            </a:r>
            <a:fld id="{189A5833-0188-4CBA-A872-8DB317BB5152}" type="datetime11">
              <a:rPr b="0" lang="es-MX" sz="2400" spc="-1" strike="noStrike">
                <a:solidFill>
                  <a:srgbClr val="ffffe7"/>
                </a:solidFill>
                <a:latin typeface="Comic Sans MS"/>
              </a:rPr>
              <a:t>16:48:08</a:t>
            </a:fld>
            <a:r>
              <a:rPr b="1" lang="es-MX" sz="2000" spc="-1" strike="noStrike">
                <a:solidFill>
                  <a:srgbClr val="ffffe7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2362320" cy="2476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176560" y="3973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4149720"/>
            <a:ext cx="61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Arial"/>
              </a:rPr>
              <a:t>Jesús te bendig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Arial"/>
              </a:rPr>
              <a:t>Una humilde devota                       de </a:t>
            </a:r>
            <a:br>
              <a:rPr sz="3200"/>
            </a:br>
            <a:r>
              <a:rPr b="0" lang="es-MX" sz="3200" spc="-1" strike="noStrike" u="sng">
                <a:solidFill>
                  <a:srgbClr val="ffffff"/>
                </a:solidFill>
                <a:uFillTx/>
                <a:latin typeface="Arial"/>
              </a:rPr>
              <a:t>Nuestra Señora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Había una señora muy sencilla que vendía verduras en los barrios.</a:t>
            </a:r>
            <a:br>
              <a:rPr sz="2800"/>
            </a:b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ierto día, tía Joana, como era conocida por todos, fue a vender sus verduras a casa de un protestante y perdió su Rosario en el jardín de  la casa.</a:t>
            </a:r>
            <a:r>
              <a:rPr b="1" lang="es-MX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339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427640" y="184464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427640" y="368460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427640" y="495288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6227640" y="17985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9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43280" y="0"/>
            <a:ext cx="450072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0000"/>
                </a:solidFill>
                <a:latin typeface="Arial"/>
              </a:rPr>
              <a:t>Pasados algunos días, Joana volvió nuevamente a aquella casa a fin de ver si encontraba ahí su querido Rosario.               El protestante la vio y le dijo en tono sarcástico: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0000"/>
                </a:solidFill>
                <a:latin typeface="Arial"/>
              </a:rPr>
              <a:t>¿Has perdido a tu Dios? </a:t>
            </a:r>
            <a:br>
              <a:rPr sz="2800"/>
            </a:br>
            <a:br>
              <a:rPr sz="2800"/>
            </a:br>
            <a:r>
              <a:rPr b="0" lang="es-MX" sz="2800" spc="-1" strike="noStrike">
                <a:solidFill>
                  <a:srgbClr val="800000"/>
                </a:solidFill>
                <a:latin typeface="Arial"/>
              </a:rPr>
              <a:t>Ella humildemente respondió:</a:t>
            </a:r>
            <a:br>
              <a:rPr sz="2800"/>
            </a:br>
            <a:r>
              <a:rPr b="0" lang="es-MX" sz="2800" spc="-1" strike="noStrike">
                <a:solidFill>
                  <a:srgbClr val="800000"/>
                </a:solidFill>
                <a:latin typeface="Arial"/>
              </a:rPr>
              <a:t>" ¿Yo, perder a mi Dios?                  ¡Nunca!".</a:t>
            </a:r>
            <a:r>
              <a:rPr b="0" lang="pt-BR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427640" y="177336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427640" y="335772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427640" y="495288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6300720" y="314172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ab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427640" y="1484280"/>
            <a:ext cx="43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-423360"/>
            <a:ext cx="4140360" cy="7346160"/>
          </a:xfrm>
          <a:prstGeom prst="rect">
            <a:avLst/>
          </a:prstGeom>
          <a:solidFill>
            <a:srgbClr val="83a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l protestante tomó el Rosario y dijo: “¿Este no es tu Dios?".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 lo que ella respondió:                                      "Gracias a Dios que encontró mi Rosario. Muchas gracias."</a:t>
            </a:r>
            <a:r>
              <a:rPr b="0" lang="es-MX" sz="2800" spc="-1" strike="noStrike">
                <a:solidFill>
                  <a:srgbClr val="000000"/>
                </a:solidFill>
                <a:latin typeface="Chiller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Y él le dijo: "¿Por qué no cambias esa cadena de semillas baratas por la Biblia?"</a:t>
            </a:r>
            <a:r>
              <a:rPr b="0" lang="es-MX" sz="1800" spc="-1" strike="noStrike">
                <a:solidFill>
                  <a:srgbClr val="000000"/>
                </a:solidFill>
                <a:latin typeface="Chille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227640" y="38131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714920" y="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714920" y="177336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641840" y="342900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641840" y="4952880"/>
            <a:ext cx="361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d8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88000" y="0"/>
            <a:ext cx="4356000" cy="7968600"/>
          </a:xfrm>
          <a:prstGeom prst="rect">
            <a:avLst/>
          </a:prstGeom>
          <a:solidFill>
            <a:srgbClr val="acd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 lo que ella le dijo:                          "Porque la Biblia no la se leer, y con el Rosario yo medito toda  la Palabra de Dios y la guardo en mi corazón." </a:t>
            </a:r>
            <a:br>
              <a:rPr sz="2800"/>
            </a:br>
            <a:br>
              <a:rPr sz="2800"/>
            </a:b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Él le pregunta:                                “¿Medita la palabra de Dios?¿Cómo es eso? ¿Me lo puede explicar?"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cariciando su Rosario,                           la tía Joana respondió: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572000" y="317988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4572000" y="495288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6443640" y="501336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932360" y="376200"/>
            <a:ext cx="421164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800000"/>
                </a:solidFill>
                <a:latin typeface="Arial"/>
              </a:rPr>
              <a:t>Primero tomo la cruz, y recuerdo que el Hijo de Dios dio toda su sangre clavado en una cruz para salvar a la human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800000"/>
                </a:solidFill>
                <a:latin typeface="Arial"/>
              </a:rPr>
              <a:t>Esta primera cuenta gruesa, me recuerda que hay un Dios Todopoderoso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800000"/>
                </a:solidFill>
                <a:latin typeface="Arial"/>
              </a:rPr>
              <a:t>Estas tres cuentas pequeñas representan </a:t>
            </a:r>
            <a:br>
              <a:rPr sz="2400"/>
            </a:br>
            <a:r>
              <a:rPr b="0" lang="es-MX" sz="2400" spc="-1" strike="noStrike">
                <a:solidFill>
                  <a:srgbClr val="800000"/>
                </a:solidFill>
                <a:latin typeface="Arial"/>
              </a:rPr>
              <a:t>las Tres Personas                         de la Santísima Trinidad: </a:t>
            </a:r>
            <a:br>
              <a:rPr sz="2400"/>
            </a:br>
            <a:r>
              <a:rPr b="0" lang="es-MX" sz="2400" spc="-1" strike="noStrike">
                <a:solidFill>
                  <a:srgbClr val="800000"/>
                </a:solidFill>
                <a:latin typeface="Arial"/>
              </a:rPr>
              <a:t>Padre, Hijo y Espíritu Sa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36216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14920" y="184464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714920" y="342900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714920" y="495288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6372360" y="3789360"/>
            <a:ext cx="936360" cy="936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95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43280" y="907920"/>
            <a:ext cx="3745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0"/>
            <a:ext cx="4356000" cy="68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e7"/>
                </a:solidFill>
                <a:latin typeface="Arial"/>
              </a:rPr>
              <a:t>Esta otra cuenta gruesa me recuerda la oración que el mismo Jesús, nuestro Señor, nos enseñó: el Padre Nues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e7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e7"/>
                </a:solidFill>
                <a:latin typeface="Arial"/>
              </a:rPr>
              <a:t>El Rosario tiene 5 misterios que me recuerdan las 5 llagas de Jesucristo clavado en la cruz, y en cada misterio rezamos 10  Ave-Marías, que me recuerdan  los Diez Mandamientos que Dios mismo entregó a Moisés.</a:t>
            </a:r>
            <a:r>
              <a:rPr b="1" lang="es-MX" sz="2600" spc="-1" strike="noStrike">
                <a:solidFill>
                  <a:srgbClr val="ffffe7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3760" cy="7029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72000" y="177336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500720" y="335772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572000" y="495288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588000" y="223056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356000" y="9810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16360" y="0"/>
            <a:ext cx="4427640" cy="73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0000"/>
                </a:solidFill>
                <a:latin typeface="Arial"/>
              </a:rPr>
              <a:t>El Rosario de Nuestra Señora tiene 15 Misterios que son: 5 gozosos,         5 dolorosos y 5 gloriosos.                                          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0000"/>
                </a:solidFill>
                <a:latin typeface="Arial"/>
              </a:rPr>
              <a:t>De mañana, cuando me levanto para iniciar la lucha del día rezo los gozosos, pensando en los pobres y en la sencilla y humilde vida de Jesús, María y José.</a:t>
            </a:r>
            <a:r>
              <a:rPr b="0" lang="pt-BR" sz="28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7480" y="162864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500720" y="325296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500720" y="495288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084720" y="208584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0" y="164160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0000"/>
                </a:solidFill>
                <a:latin typeface="Arial"/>
              </a:rPr>
              <a:t>Al mediodía, en medio de mi gran cansancio, mi fatiga por el trabajo,  pensando en lo que me       falta para terminar el día y poder descansar, rezo los misterios dolorosos, que me recuerdan la dura caminata de mi  Señor Jesucristo hacia el Calvario, con tanto dolor y tanto cansan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56360" y="33192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284720" y="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284720" y="177336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284720" y="325296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284720" y="4952880"/>
            <a:ext cx="361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2:26:23Z</dcterms:created>
  <dc:creator>Altair</dc:creator>
  <dc:description/>
  <dc:language>en-US</dc:language>
  <cp:lastModifiedBy>ROSALBA MONTEJO DEL VALLE</cp:lastModifiedBy>
  <dcterms:modified xsi:type="dcterms:W3CDTF">2010-03-29T17:18:52Z</dcterms:modified>
  <cp:revision>128</cp:revision>
  <dc:subject/>
  <dc:title>Oração do Terço</dc:title>
</cp:coreProperties>
</file>