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RUCH%20Adagio%20%20Violoncello%20and%20Orchestre%20selecc2.wav" ContentType="audio/x-wav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354-A1FE-4266-AA30-CA6C39D4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5EE-D545-4CA4-9B19-8FF01530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431-2AA9-4E59-BD18-8570F788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417-C31A-4C7F-AA98-C107AA23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E44-A36E-4604-9DA6-194E2383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4E6-BC70-40C4-B8C6-1C474884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F68-2F5C-4C9F-8D6F-E8905FB8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386-216F-4C8A-8914-BFC7B310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DBD-1287-4DDA-9EEE-F3DA6AC3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9D7-17B1-441B-9753-706EA23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592-FF11-469B-9F72-27374D44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50E-F706-4390-A5A1-F60FFF1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1CEF-6999-4BED-AA9B-462E14868F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BRUCH%20Adagio%20%20Violoncello%20and%20Orchestre%20selecc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ica%20CAMINO%20OTOÑ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xeltrans" descr=""/>
          <p:cNvPicPr/>
          <p:nvPr/>
        </p:nvPicPr>
        <p:blipFill>
          <a:blip r:embed="rId2"/>
          <a:stretch/>
        </p:blipFill>
        <p:spPr>
          <a:xfrm>
            <a:off x="0" y="296388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6276960"/>
            <a:ext cx="7696440" cy="5806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Juan 10, 27-30. Pascua 4 domingo –C- 15 abril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Autora: Asun Gutiérrez. Música: Bruch. Adagio. Violonchelo y Orque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0280" y="0"/>
            <a:ext cx="7284240" cy="39344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ambién hoy nos llamamos y somos seguidores de Jesú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seguimiento no consiste en primer lugar en aprender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en enseñar las enseñanzas de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seguimiento de Jesús no es ideología, no es moralismo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 mera imitación de conductas: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ales han sido desde el principio las tentaciones cristianas básic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Qué es seguir?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tener con Jesús una relación estrech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que su memoria y su presencia estén muy vivas en nos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hacer de su fe nuestra fe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hacer de su esperanza nuestra esperan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apropiarnos de sus criterios y de sus actitud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de su conducta, adecuándolas a nuestro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José Arre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BRUCH%20Adagio%20%20Violoncello%20and%20Orchestre%20selecc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ndo%20libro%20grande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1752480"/>
            <a:ext cx="3657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texto de hoy está unido y es consecuencia del capítulo anterior dedicado a la curación del ciego de nacimiento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trasfondo tiene un conflicto y unas acusaciones muy duras de Jesús a los dirigentes judí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1828800"/>
            <a:ext cx="3352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 falsos pastores, expulsan al ciego de la sinagoga. Jesús, por el contrario, se hace el encontradizo y lo aco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contexto no es nad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ucólic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o lleno de tensión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UCHA%20GENTE%20cal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0"/>
            <a:ext cx="4560840" cy="94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Mis ovejas escuchan mi vo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181480"/>
            <a:ext cx="8915400" cy="1465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o urgente es saber distinguir su voz  en medio de tantas palabras, voces, ruidos.... Una condición esencial, en cualquier tiempo y circunstancia, es oír la voz de Jesús y hacer sitio a su mensaje en nuestr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ecesitamos recuperar la capacidad de escuch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¿Escucho mi voz interior? ¿Escucho a l@s demá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AMINANTES%20ibargoit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85880" y="380880"/>
            <a:ext cx="564876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 las conozco y ellas me sigue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057400"/>
            <a:ext cx="9144000" cy="311148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satisface el deseo profundo de toda persona: que haya alguien que me conozca de verdad, en quien pueda confiar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nocer en lenguaje bíblico significa amar, amor recíproco y generoso, conocimiento mutuo, comprensión sin palabras, íntima comunión, relación profunda y personal, abandono incondicional, plena aceptación y confianza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Me preocupo de conocer y respetar a las personas, al estilo de Jesús?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¿Qué sentimientos y actitudes provoca en mí saberme incondicionalmente  conocid@ y amad@ por Jesús? ¿Saber que, como a mí, conoce y ama a todos los seres humanos?</a:t>
            </a:r>
            <a:r>
              <a:rPr b="0" lang="es-ES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guirle es tomar la opción de ir transformando el mundo, intentar llenarlo de esperanza, hacerlo más habitable, más digno, más humano y más feliz para tod@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LEGRÍA%20grupo%20SONRIENTES%20círcul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0"/>
            <a:ext cx="717408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o les doy vida eterna y no perecerán para siemp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adie puede arrebatárme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34120"/>
            <a:ext cx="9144000" cy="1739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Jesús nos contagia y nos regala inmortalidad. </a:t>
            </a:r>
            <a:br>
              <a:rPr sz="1800"/>
            </a:br>
            <a:r>
              <a:rPr b="0" lang="en-US" sz="1800" spc="-1" strike="noStrike">
                <a:solidFill>
                  <a:srgbClr val="663300"/>
                </a:solidFill>
                <a:latin typeface="Comic Sans MS"/>
              </a:rPr>
              <a:t>Contagio y regalo vida eterna cuando hago que l@s demás se sientan felices. La clave es ver los rostros de quienes se relacionan y viven conmigo. Si mi forma de actuar hace que reflejen paz, esperanza, alegría, felicidad, entonces estoy contagiando y regalando vida, que no perece, que nada ni nadie puede arrebatar. Como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NOS%20GRUPO%20DENT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5486400"/>
            <a:ext cx="77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Mi Padre, que me las ha dado, es superior a todos,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 y nadie puede arrebatarlas de manos de mi Pad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Jesús no sólo nos conoce, nos da vida y nos protege, sino que además nos introduce en la unidad de amor con el Padre.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Jesús siempre es Buena Noticia y el seguirle llena la vida de paz, plenitud, 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alegría y gratitud. 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A pesar de los contratiempos y dificultades, tenemos la confianza y la seguridad 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de que no tenemos nada que temer. </a:t>
            </a:r>
            <a:br>
              <a:rPr sz="1800"/>
            </a:br>
            <a:r>
              <a:rPr b="0" lang="en-US" sz="1800" spc="-1" strike="noStrike">
                <a:solidFill>
                  <a:srgbClr val="ccecff"/>
                </a:solidFill>
                <a:latin typeface="Comic Sans MS"/>
              </a:rPr>
              <a:t>Estamos siempre en sus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OBLE%2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33720" y="685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eorgia"/>
              </a:rPr>
              <a:t>El Padre y yo somos u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743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nos revela a Dios, nos dice cómo es ese Dios que buscamos. Conocemos a Dios mirando a Jesú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ien se acerca a él encuentra acogida,tolerancia, comprensión, bondad, sencillez, compasión, una mirada de humanidad profunda y un interés incuestionable por sus problemas, dolores, anhelos, alegrías..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er a Jesús es ver a Di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tiempo de Jesús se cuestionaba su divinidad. El escándalo era que siendo hombre como los demás, pretendiera ser Hijo de Di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oy quizá cuesta más admitir su humanidad. Es difícil saber qué es y qué supone la divinidad  de Jesús sin conocer y asumir plenamente su humanidad. En la realización de lo humano es donde podemos encontrar al Dios que se humanizó en el hombre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de Nazar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GRUPO%20clausura2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4568760"/>
            <a:ext cx="9144000" cy="2288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la comunidad de Jesús no hay dirigentes y dirigid@s, pastores y oveja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¡Tod@s somos herman@s y a tod@s nos incumbe la responsabilidad!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pasaje evangélico nos habla del Buen Pastor que es Jesús y del pueblo de Dios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el que tod@s somos corresponsabl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i malo es sentirse “pastor”, considerando a l@s demás miembros de la comunidad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“ovejas”, no es mejor sentirse “oveja”, considerando a otr@s miembros “pastores”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as falsas actitudes no ayudan a construir ni la comunidad ni el Reino de Jesú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“Uno sólo es vuestro Padre, el del cielo, y todos vosotros sois hermanos”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(Mt 23,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soy yo"/>
          <p:cNvPicPr/>
          <p:nvPr/>
        </p:nvPicPr>
        <p:blipFill>
          <a:blip r:embed="rId2"/>
          <a:stretch/>
        </p:blipFill>
        <p:spPr>
          <a:xfrm>
            <a:off x="2895480" y="0"/>
            <a:ext cx="24386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ASCADA%20corti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05320" y="533520"/>
            <a:ext cx="45720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Aquí estoy Señor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con hambre y sed de vida.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as sin pedirte mucho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ara no desatar tu osadía;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amando sólo a sorbos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ara no crear lazos;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rebajando tu Evangelio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ara hacerlo digeribl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Y mi hambre y sed no desaparec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Silba, Señor, tu canción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como buen pastor;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que se oiga por lomas y colinas,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barrancos y pra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spiértanos de esta sie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fiéndenos de tanta indolencia.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Condúcenos a los pastos de tu tierra.</a:t>
            </a: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anos verdadera vida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Monotype Corsiva"/>
              </a:rPr>
              <a:t>F.Ulibar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533520"/>
            <a:ext cx="2504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100000">
                      <a:srgbClr val="ffff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ida verdader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100000">
                    <a:srgbClr val="ffff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7:06:03Z</dcterms:created>
  <dc:creator> Asun Gutiérrez</dc:creator>
  <dc:description/>
  <dc:language>en-US</dc:language>
  <cp:lastModifiedBy>Usuario</cp:lastModifiedBy>
  <dcterms:modified xsi:type="dcterms:W3CDTF">2010-04-20T15:41:29Z</dcterms:modified>
  <cp:revision>23</cp:revision>
  <dc:subject>jeasam@gmail.com</dc:subject>
  <dc:title>Pascua 4 C</dc:title>
</cp:coreProperties>
</file>