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US%20OJITO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BAB-C17F-4D44-8FBE-0456A59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4C9-6A1B-4C4E-BEE1-2D05EB0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6C5-CE26-47B3-859F-4D0CE26A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498-7212-40D7-87CE-CB01942B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368-548E-454A-960B-0F65698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A1D-16A6-45E9-B0C7-95FD599B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80D-7D6E-43CF-A6A1-520F59C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D3A-F0F5-4E37-BD50-2239960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E65-DCD1-4C05-A580-8D7E7E7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A5A-E56E-4DED-9EA7-51E90B9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7F3-034C-47AF-BC29-F74CFC7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02E-4451-4B4D-96A2-95901A0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C83-615B-4949-834B-9A652896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US%20OJITO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12640"/>
            <a:ext cx="842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icho por un extranjero Salvadoreño que parece mas peruano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..JAJAJA Y DIGANME SI NO TENGO RA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CREIBLE QUE UN EXTRANJERO HAYA HECHO UN POEMA DE ESTA NATURALEZA,SEGURO QUE A NINGUN PERUANO SE NOS HUBIERA OCURRIDO...!UN POEMA PERUANÍSI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Manuel E. Valladare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Salvadoreño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TUS%20OJITO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90520"/>
            <a:ext cx="8640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Cuando yo deje este mundo, como todo ser humano, me iré con dolor profundo por no haber sido peruano.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Pero me iré sin rencor  ni despecho alguno,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Porque  yo tuve el honor de conocer a más de uno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0640"/>
            <a:ext cx="864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Pido que en mi funeral, me prendan más de una vela, m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anten “El Cóndor Pasa” y la “Flor de la Canela”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uando me estén enterrando, quiero que sea algo bello, que lloren “Los Morochucos” y me canten “El Plebeyo”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096920"/>
            <a:ext cx="849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omic Sans MS"/>
              </a:rPr>
              <a:t>Le pediré a mi familia, que a pesar de mis costumbres, me saquen de New York y que me entierren en Tumb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14240"/>
            <a:ext cx="84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Les pediré un gran favor :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i les gusta lo que he dicho, que me hagan el novenario en Machu Picchu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Que me entierren una noche mientras la Luna ilumina, y que mi ataúd vaya cargado, por mi amigo Mauro M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36180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Cuando Maurito se canse, que me carguen unas llamas y que atrás vayan cantando  ”Los Chamas”.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Que vayan todos los días a poner un ramito de flores pero sin lágrimas ni tristez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714240"/>
            <a:ext cx="856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Que escriban sobre mi cripta, que mi hermoso sueño además de ser peruano, era haber sido Limeño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uando descanse en la fosa y mi alma agarre vuelo, yo quiero que en vez de un ángel, un Cóndor me suba al ci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0464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ero si voy para abajo, escuchen bien lo que hablo, muy tranquilo y sin relajo, así yo le diré al diablo: Prepara tu voz cornudo, prepárala porque tú, cantarás fuerte y agudo conmigo, ¡Viva el Perú! Y si no lo cantas bien, te disculpas, te me hincas, respetarás  Oh malvado, al Imperio de los Inc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4152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hora vas a beber, Pisco y Chicha en una barra y vas a cantar conmigo, “Cuando llora mi guitarra”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 importa donde vaya, sea arriba o sea abajo, gritaré todos los días :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   ¡VIVA EL PERU CARAJ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3:09:20Z</dcterms:created>
  <dc:creator>Fam LC</dc:creator>
  <dc:description/>
  <dc:language>en-US</dc:language>
  <cp:lastModifiedBy>Fam LC</cp:lastModifiedBy>
  <dcterms:modified xsi:type="dcterms:W3CDTF">2008-06-15T03:23:04Z</dcterms:modified>
  <cp:revision>2</cp:revision>
  <dc:subject/>
  <dc:title>Diapositiva 1</dc:title>
</cp:coreProperties>
</file>