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US%20OJITO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0AB-4C8A-4EE3-BA18-78438941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7BB-D9C0-4C5D-B708-A9BD59D4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1528-CCC5-4D3C-AF0C-AD6C14AB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058-9D7B-4C65-96C9-459FDFAA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F25-A66F-479F-B3A0-B5D5293F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416-FAEB-4487-9109-3522DAA1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0AE6-5AFB-4120-87FF-10FD5E40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2C2-1E7D-4605-8D11-EAA5CF26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DCD5-0BE9-47B1-8713-D36ACA76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444B-A41B-49EF-B953-1670A973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8A8-4561-411D-B21A-E2402841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5CE9-F409-4F5F-89D3-0A1A19B4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7C4C-D783-43EC-9EC0-C2BDFD953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US%20OJITO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12640"/>
            <a:ext cx="8424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Dicho por un extranjero Salvadoreño que parece mas peruano 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..JAJAJA Y DIGANME SI NO TENGO RAZ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INCREIBLE QUE UN EXTRANJERO HAYA HECHO UN POEMA DE ESTA NATURALEZA,SEGURO QUE A NINGUN PERUANO SE NOS HUBIERA OCURRIDO...!UN POEMA PERUANÍSIM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 Manuel E. Valladares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(Salvadoreño)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1" name="TUS%20OJITO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290520"/>
            <a:ext cx="8640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omic Sans MS"/>
              </a:rPr>
              <a:t>Cuando yo deje este mundo, como todo ser humano, me iré con dolor profundo por no haber sido peruano.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omic Sans MS"/>
              </a:rPr>
              <a:t>Pero me iré sin rencor  ni despecho alguno,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omic Sans MS"/>
              </a:rPr>
              <a:t>Porque  yo tuve el honor de conocer a más de uno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620640"/>
            <a:ext cx="8640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Pido que en mi funeral, me prendan más de una vela, me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canten “El Cóndor Pasa” y la “Flor de la Canela”.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Cuando me estén enterrando, quiero que sea algo bello, que lloren “Los Morochucos” y me canten “El Plebeyo”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1096920"/>
            <a:ext cx="849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omic Sans MS"/>
              </a:rPr>
              <a:t>Le pediré a mi familia, que a pesar de mis costumbres, me saquen de New York y que me entierren en Tumb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14240"/>
            <a:ext cx="8496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Les pediré un gran favor :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i les gusta lo que he dicho, que me hagan el novenario en Machu Picchu.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Que me entierren una noche mientras la Luna ilumina, y que mi ataúd vaya cargado, por mi amigo Mauro Mi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361800"/>
            <a:ext cx="856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omic Sans MS"/>
              </a:rPr>
              <a:t>Cuando Maurito se canse, que me carguen unas llamas y que atrás vayan cantando  ”Los Chamas”.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omic Sans MS"/>
              </a:rPr>
              <a:t>Que vayan todos los días a poner un ramito de flores pero sin lágrimas ni tristez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714240"/>
            <a:ext cx="8569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Que escriban sobre mi cripta, que mi hermoso sueño además de ser peruano, era haber sido Limeño.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Cuando descanse en la fosa y mi alma agarre vuelo, yo quiero que en vez de un ángel, un Cóndor me suba al cie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404640"/>
            <a:ext cx="8569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Pero si voy para abajo, escuchen bien lo que hablo, muy tranquilo y sin relajo, así yo le diré al diablo: Prepara tu voz cornudo, prepárala porque tú, cantarás fuerte y agudo conmigo, ¡Viva el Perú! Y si no lo cantas bien, te disculpas, te me hincas, respetarás  Oh malvado, al Imperio de los Inc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ff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641520"/>
            <a:ext cx="842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hora vas a beber, Pisco y Chicha en una barra y vas a cantar conmigo, “Cuando llora mi guitarra”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 importa donde vaya, sea arriba o sea abajo, gritaré todos los días :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   ¡VIVA EL PERU CARAJ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5T03:09:20Z</dcterms:created>
  <dc:creator>Fam LC</dc:creator>
  <dc:description/>
  <dc:language>en-US</dc:language>
  <cp:lastModifiedBy>Fam LC</cp:lastModifiedBy>
  <dcterms:modified xsi:type="dcterms:W3CDTF">2008-06-15T03:23:04Z</dcterms:modified>
  <cp:revision>2</cp:revision>
  <dc:subject/>
  <dc:title>Diapositiva 1</dc:title>
</cp:coreProperties>
</file>