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65D2-E0D6-4719-A4B9-256EB771D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6673-A597-4910-BBAC-C5FE566F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F0A1-F91B-4AB6-ACAC-FA9992EF0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5E8B-0D5F-4B48-A435-539389293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5780-B8B2-4582-89BD-3E24F1D7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D323-420D-44F0-88D3-2EFE48E0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3E94-DF65-476C-BAA6-784D7F74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9F74-ACB2-4B9B-8F93-E8551AFD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656F-0A0C-4B5A-A203-C034366A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F4A3-96BD-4897-A367-DFD25F8E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3BA1-FD5F-4E86-88C7-9ED7E112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B401-1D8E-4F19-BACD-BBCD9B04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E9C5-A94C-4C26-B364-755F21FC324A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8:20:12Z</dcterms:created>
  <dc:creator> Arturo Ibarra E</dc:creator>
  <dc:description/>
  <dc:language>en-US</dc:language>
  <cp:lastModifiedBy>Informática y Tecnología</cp:lastModifiedBy>
  <dcterms:modified xsi:type="dcterms:W3CDTF">2009-02-19T19:47:15Z</dcterms:modified>
  <cp:revision>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26495339</vt:r8>
  </property>
  <property fmtid="{D5CDD505-2E9C-101B-9397-08002B2CF9AE}" pid="3" name="_AuthorEmail">
    <vt:lpwstr>OPTC-ATF3@pancanal.com</vt:lpwstr>
  </property>
  <property fmtid="{D5CDD505-2E9C-101B-9397-08002B2CF9AE}" pid="4" name="_AuthorEmailDisplayName">
    <vt:lpwstr>OPTC-ATF3</vt:lpwstr>
  </property>
  <property fmtid="{D5CDD505-2E9C-101B-9397-08002B2CF9AE}" pid="5" name="_EmailSubject">
    <vt:lpwstr> Recomendaciones para su seguridad personal </vt:lpwstr>
  </property>
  <property fmtid="{D5CDD505-2E9C-101B-9397-08002B2CF9AE}" pid="6" name="_NewReviewCycle">
    <vt:lpwstr/>
  </property>
</Properties>
</file>