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99F-9768-456A-AC37-382A52DE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017-42B7-4163-BD86-E8DEAC0F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717-540C-4547-93AF-0912DEE9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767-B89C-4E68-88CE-B7022EFF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C1E-ABFF-483A-9C33-0524FC7A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19A-C3C3-495B-90BA-DC91B0A1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2010-1101-45FE-96C3-6CE1A730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B02-A16C-49DD-9CC3-8D4B60F3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765-0F36-45AB-B142-6D42E283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99B-F98B-491C-9BDD-6CF90542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DF8-C1CF-4713-8DE9-1EA6A521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D28-8157-4ABE-B1F4-E1D4FA71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D58C-84F2-4606-A56B-229B9372716E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20:12Z</dcterms:created>
  <dc:creator> Arturo Ibarra E</dc:creator>
  <dc:description/>
  <dc:language>en-US</dc:language>
  <cp:lastModifiedBy>Informática y Tecnología</cp:lastModifiedBy>
  <dcterms:modified xsi:type="dcterms:W3CDTF">2009-02-19T19:47:15Z</dcterms:modified>
  <cp:revision>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26495339</vt:r8>
  </property>
  <property fmtid="{D5CDD505-2E9C-101B-9397-08002B2CF9AE}" pid="3" name="_AuthorEmail">
    <vt:lpwstr>OPTC-ATF3@pancanal.com</vt:lpwstr>
  </property>
  <property fmtid="{D5CDD505-2E9C-101B-9397-08002B2CF9AE}" pid="4" name="_AuthorEmailDisplayName">
    <vt:lpwstr>OPTC-ATF3</vt:lpwstr>
  </property>
  <property fmtid="{D5CDD505-2E9C-101B-9397-08002B2CF9AE}" pid="5" name="_EmailSubject">
    <vt:lpwstr> Recomendaciones para su seguridad personal </vt:lpwstr>
  </property>
  <property fmtid="{D5CDD505-2E9C-101B-9397-08002B2CF9AE}" pid="6" name="_NewReviewCycle">
    <vt:lpwstr/>
  </property>
</Properties>
</file>