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jpeg" ContentType="image/jpeg"/>
  <Override PartName="/ppt/media/image8.jpeg" ContentType="image/jpeg"/>
  <Override PartName="/ppt/media/image14.png" ContentType="image/png"/>
  <Override PartName="/ppt/media/image13.png" ContentType="image/png"/>
  <Override PartName="/ppt/media/image1.jpeg" ContentType="image/jpeg"/>
  <Override PartName="/ppt/media/image6.jpeg" ContentType="image/jpeg"/>
  <Override PartName="/ppt/media/image10.png" ContentType="image/png"/>
  <Override PartName="/ppt/media/image15.jpeg" ContentType="image/jpeg"/>
  <Override PartName="/ppt/media/Patricia.wav" ContentType="audio/x-wav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7.jpeg" ContentType="image/jpe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1356B-5BE0-43F2-A1A3-AF90DB96CA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38F21-DAF9-434A-B3E5-C75DADFF8A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28C2F-B2D9-4A2F-9B25-2B0B874320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ADDC8-E0F3-47F7-8C0A-B264E2922F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AD577-64DE-4DE8-8320-69E34D0C5B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87A47-66DA-4474-B35B-92EB74682A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720E1-295B-46A7-9F40-8711BE6EF9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E5338-483D-4EA5-8AD0-79F75AE179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56974-492C-4A55-AA17-ED85B3E84D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6AFD2-2791-4A9E-805D-917EDB9566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A0B6E-F2B3-42DA-83C2-B0C9EEFA11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CF158-D86A-4E33-AAB6-A9CB7C7681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44568-51DC-417F-99A2-D283FF8CAE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7DF9C-0FD0-4594-B05A-FFDEBC7B0E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A7BF6-CBAB-4334-8F72-5E22AFA23E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4C168-AC02-4A4E-B8B9-9B1D79735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EE9B5-36C5-4CB6-AE64-DA438CAF4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A2401-B235-4DF4-A550-F7A7463D4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D6E78-E242-4A60-AB34-19866D69B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C2DD7-B7C0-41A4-813E-CE080B2B2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63846-5C43-4A3B-84BD-977AD55D6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65443-0A21-44F3-90AD-579C3E859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38DEB-6610-4F59-B83B-F0773F8C6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3931B-152B-401B-BBCB-120ACDAD2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CAFC2-EF4F-4BC9-AB5C-DDFE87AAA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806B2-AB46-4B80-9AD1-34381A368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6A240-44D3-4590-869C-9F9B0C72A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7FCFC-054D-4548-87AA-872FDDAB45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Patricia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971800"/>
            <a:ext cx="8686800" cy="274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200" spc="-1" strike="noStrike">
                <a:solidFill>
                  <a:srgbClr val="000000"/>
                </a:solidFill>
                <a:latin typeface="Arial"/>
              </a:rPr>
              <a:t>CALCULA LA TUYA CON WHISKY</a:t>
            </a:r>
            <a:br>
              <a:rPr sz="7200"/>
            </a:b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33520" y="1676520"/>
            <a:ext cx="8065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Sabemos que a todos nos importa </a:t>
            </a:r>
            <a:br>
              <a:rPr sz="4000"/>
            </a:b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la eda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302840" y="593640"/>
            <a:ext cx="6487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4000" spc="-1" strike="noStrike">
                <a:solidFill>
                  <a:srgbClr val="ff3300"/>
                </a:solidFill>
                <a:latin typeface="Arial"/>
              </a:rPr>
              <a:t>¡CALCULANDO TU EDAD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355560" y="6095880"/>
            <a:ext cx="205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800" spc="-1" strike="noStrike">
                <a:solidFill>
                  <a:srgbClr val="ff3300"/>
                </a:solidFill>
                <a:latin typeface="Arial"/>
              </a:rPr>
              <a:t>Clic para avanz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  <p:sndAc>
      <p:stSnd>
        <p:snd r:embed="rId2" name="Patricia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8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8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8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8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3"/>
          <p:cNvSpPr/>
          <p:nvPr/>
        </p:nvSpPr>
        <p:spPr>
          <a:xfrm>
            <a:off x="0" y="1050840"/>
            <a:ext cx="8915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Arial"/>
              </a:rPr>
              <a:t>Ahora debes tener un número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Arial"/>
              </a:rPr>
              <a:t>de 3 dígit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1574R-016225"/>
          <p:cNvPicPr/>
          <p:nvPr/>
        </p:nvPicPr>
        <p:blipFill>
          <a:blip r:embed="rId2"/>
          <a:stretch/>
        </p:blipFill>
        <p:spPr>
          <a:xfrm>
            <a:off x="304920" y="3733920"/>
            <a:ext cx="2895480" cy="28954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5" descr="1574R-016225"/>
          <p:cNvPicPr/>
          <p:nvPr/>
        </p:nvPicPr>
        <p:blipFill>
          <a:blip r:embed="rId3"/>
          <a:stretch/>
        </p:blipFill>
        <p:spPr>
          <a:xfrm>
            <a:off x="5943600" y="3809880"/>
            <a:ext cx="2895480" cy="289584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3052080" y="2514600"/>
            <a:ext cx="2885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617ff"/>
                </a:solidFill>
                <a:latin typeface="Arial"/>
              </a:rPr>
              <a:t>¿</a:t>
            </a:r>
            <a:r>
              <a:rPr b="1" lang="es-ES_tradnl" sz="4000" spc="-1" strike="noStrike">
                <a:solidFill>
                  <a:srgbClr val="3617ff"/>
                </a:solidFill>
                <a:latin typeface="Arial"/>
              </a:rPr>
              <a:t>Correcto</a:t>
            </a:r>
            <a:r>
              <a:rPr b="0" lang="es-ES_tradnl" sz="4000" spc="-1" strike="noStrike">
                <a:solidFill>
                  <a:srgbClr val="3617ff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2000"/>
                            </p:stCondLst>
                            <p:childTnLst>
                              <p:par>
                                <p:cTn id="1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2"/>
          <p:cNvPicPr/>
          <p:nvPr/>
        </p:nvPicPr>
        <p:blipFill>
          <a:blip r:embed="rId1"/>
          <a:stretch/>
        </p:blipFill>
        <p:spPr>
          <a:xfrm>
            <a:off x="0" y="0"/>
            <a:ext cx="5943600" cy="68389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5960" y="30477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617ff"/>
                </a:solidFill>
                <a:latin typeface="Arial"/>
              </a:rPr>
              <a:t>El primer dígito es tu número original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numers"/>
          <p:cNvPicPr/>
          <p:nvPr/>
        </p:nvPicPr>
        <p:blipFill>
          <a:blip r:embed="rId2"/>
          <a:stretch/>
        </p:blipFill>
        <p:spPr>
          <a:xfrm>
            <a:off x="228600" y="304920"/>
            <a:ext cx="3048120" cy="24447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630360" y="4309920"/>
            <a:ext cx="792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(El número de veces que quisieras tomar Whis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 la semana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2000"/>
                            </p:stCondLst>
                            <p:childTnLst>
                              <p:par>
                                <p:cTn id="1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4000"/>
                            </p:stCondLst>
                            <p:childTnLst>
                              <p:par>
                                <p:cTn id="1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3"/>
          <p:cNvSpPr/>
          <p:nvPr/>
        </p:nvSpPr>
        <p:spPr>
          <a:xfrm>
            <a:off x="152280" y="914400"/>
            <a:ext cx="8839440" cy="28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Los siguientes dos números son...</a:t>
            </a:r>
            <a:br>
              <a:rPr sz="72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200" spc="-1" strike="noStrike">
                <a:solidFill>
                  <a:srgbClr val="47bb46"/>
                </a:solidFill>
                <a:latin typeface="Arial"/>
              </a:rPr>
              <a:t>¡ TU EDAD 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818440" y="3535200"/>
            <a:ext cx="358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c8c93"/>
                </a:solidFill>
                <a:latin typeface="Arial"/>
              </a:rPr>
              <a:t>¿Es verdad o n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917640" y="4800600"/>
            <a:ext cx="720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4000" spc="-1" strike="noStrike">
                <a:solidFill>
                  <a:srgbClr val="000000"/>
                </a:solidFill>
                <a:latin typeface="Arial"/>
              </a:rPr>
              <a:t>¡ NO TE PUEDES ENGAÑAR 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8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8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8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8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2666880"/>
            <a:ext cx="84582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Vamos tómate un trago de Whisky, pero que sea del bueno… ¡no seas tacaño!</a:t>
            </a:r>
            <a:br>
              <a:rPr sz="5400"/>
            </a:b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Ya sabes: de 12, 15, 18, 21, 25 años.</a:t>
            </a:r>
            <a:br>
              <a:rPr sz="54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Imagen 1"/>
          <p:cNvPicPr/>
          <p:nvPr/>
        </p:nvPicPr>
        <p:blipFill>
          <a:blip r:embed="rId2"/>
          <a:stretch/>
        </p:blipFill>
        <p:spPr>
          <a:xfrm>
            <a:off x="2720880" y="4568760"/>
            <a:ext cx="1311480" cy="19814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5" descr="Imagen 2"/>
          <p:cNvPicPr/>
          <p:nvPr/>
        </p:nvPicPr>
        <p:blipFill>
          <a:blip r:embed="rId3"/>
          <a:stretch/>
        </p:blipFill>
        <p:spPr>
          <a:xfrm>
            <a:off x="5462640" y="4572000"/>
            <a:ext cx="1236600" cy="19810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" descr="Imagen 3"/>
          <p:cNvPicPr/>
          <p:nvPr/>
        </p:nvPicPr>
        <p:blipFill>
          <a:blip r:embed="rId4"/>
          <a:stretch/>
        </p:blipFill>
        <p:spPr>
          <a:xfrm>
            <a:off x="1523880" y="4568760"/>
            <a:ext cx="1092240" cy="19814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7" descr="Imagen 4"/>
          <p:cNvPicPr/>
          <p:nvPr/>
        </p:nvPicPr>
        <p:blipFill>
          <a:blip r:embed="rId5"/>
          <a:stretch/>
        </p:blipFill>
        <p:spPr>
          <a:xfrm>
            <a:off x="4118040" y="4584600"/>
            <a:ext cx="1216080" cy="19656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8" descr="Imagen 5"/>
          <p:cNvPicPr/>
          <p:nvPr/>
        </p:nvPicPr>
        <p:blipFill>
          <a:blip r:embed="rId6"/>
          <a:stretch/>
        </p:blipFill>
        <p:spPr>
          <a:xfrm>
            <a:off x="6781680" y="4572000"/>
            <a:ext cx="1295640" cy="1901880"/>
          </a:xfrm>
          <a:prstGeom prst="rect">
            <a:avLst/>
          </a:prstGeom>
          <a:ln w="0">
            <a:noFill/>
          </a:ln>
        </p:spPr>
      </p:pic>
      <p:pic>
        <p:nvPicPr>
          <p:cNvPr id="98" name="9 Imagen" descr="sorpresa.jpg"/>
          <p:cNvPicPr/>
          <p:nvPr/>
        </p:nvPicPr>
        <p:blipFill>
          <a:blip r:embed="rId7"/>
          <a:stretch/>
        </p:blipFill>
        <p:spPr>
          <a:xfrm>
            <a:off x="990720" y="762120"/>
            <a:ext cx="1523880" cy="151128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2968560" y="1378080"/>
            <a:ext cx="358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¿Sorprendido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0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4000"/>
                            </p:stCondLst>
                            <p:childTnLst>
                              <p:par>
                                <p:cTn id="2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5000"/>
                            </p:stCondLst>
                            <p:childTnLst>
                              <p:par>
                                <p:cTn id="2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7000"/>
                            </p:stCondLst>
                            <p:childTnLst>
                              <p:par>
                                <p:cTn id="2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9000"/>
                            </p:stCondLst>
                            <p:childTnLst>
                              <p:par>
                                <p:cTn id="2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3" descr="whisky"/>
          <p:cNvPicPr/>
          <p:nvPr/>
        </p:nvPicPr>
        <p:blipFill>
          <a:blip r:embed="rId2"/>
          <a:stretch/>
        </p:blipFill>
        <p:spPr>
          <a:xfrm>
            <a:off x="2971800" y="365760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4"/>
          <p:cNvSpPr/>
          <p:nvPr/>
        </p:nvSpPr>
        <p:spPr>
          <a:xfrm>
            <a:off x="152280" y="228600"/>
            <a:ext cx="8991720" cy="30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Esto sólo funciona este año (2012)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bb109d"/>
                </a:solidFill>
                <a:latin typeface="Arial"/>
              </a:rPr>
              <a:t>así que disfrutalo con unos buenos tragos de Whisky!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Pásalo a todos tus amigotes, a los que les importa la edad y se quitan años, porque todos sabemos que las matemáticas no mienten…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511000" y="3220920"/>
            <a:ext cx="487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ni el buen Whisky tampoco. ¡ SALUD 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880680" y="6197760"/>
            <a:ext cx="206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000" spc="-1" strike="noStrike">
                <a:solidFill>
                  <a:srgbClr val="000000"/>
                </a:solidFill>
                <a:latin typeface="Signature"/>
              </a:rPr>
              <a:t>Salud os, Ma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25000" y="6400800"/>
            <a:ext cx="1070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800" spc="-1" strike="noStrike">
                <a:solidFill>
                  <a:srgbClr val="808080"/>
                </a:solidFill>
                <a:latin typeface="Arial"/>
              </a:rPr>
              <a:t>Edit. Ccas.May./ 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1000">
    <p:zoom dir="out"/>
  </p:transition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0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2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2000"/>
                            </p:stCondLst>
                            <p:childTnLst>
                              <p:par>
                                <p:cTn id="2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2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1000"/>
                            </p:stCondLst>
                            <p:childTnLst>
                              <p:par>
                                <p:cTn id="286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4000"/>
                            </p:stCondLst>
                            <p:childTnLst>
                              <p:par>
                                <p:cTn id="29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3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3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2"/>
          <p:cNvPicPr/>
          <p:nvPr/>
        </p:nvPicPr>
        <p:blipFill>
          <a:blip r:embed="rId1"/>
          <a:stretch/>
        </p:blipFill>
        <p:spPr>
          <a:xfrm>
            <a:off x="0" y="0"/>
            <a:ext cx="8915400" cy="683892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733920" y="380520"/>
            <a:ext cx="5410080" cy="579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¡No me digas tu edad! </a:t>
            </a:r>
            <a:br>
              <a:rPr sz="3600"/>
            </a:b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Seguramente mentirías; pero con este cálculo añejo lo sabremos!!</a:t>
            </a:r>
            <a:br>
              <a:rPr sz="3600"/>
            </a:b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ORQUE SI A ALGUIEN </a:t>
            </a: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E IMPORTA LA EDAD </a:t>
            </a: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S AL WHISKY</a:t>
            </a:r>
            <a:br>
              <a:rPr sz="3200"/>
            </a:b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(mira lo que nos dicen las botellas de: 8, 12, 15, 18, 21, 25 años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6" descr=""/>
          <p:cNvPicPr/>
          <p:nvPr/>
        </p:nvPicPr>
        <p:blipFill>
          <a:blip r:embed="rId2"/>
          <a:stretch/>
        </p:blipFill>
        <p:spPr>
          <a:xfrm>
            <a:off x="304920" y="304920"/>
            <a:ext cx="3510000" cy="61722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3"/>
          <p:cNvSpPr/>
          <p:nvPr/>
        </p:nvSpPr>
        <p:spPr>
          <a:xfrm>
            <a:off x="228600" y="681120"/>
            <a:ext cx="86104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¡¡ AHÍ VAMOS !!</a:t>
            </a:r>
            <a:br>
              <a:rPr sz="2800"/>
            </a:br>
            <a:r>
              <a:rPr b="1" lang="es-ES_tradnl" sz="2800" spc="-1" strike="noStrike">
                <a:solidFill>
                  <a:srgbClr val="5a53f9"/>
                </a:solidFill>
                <a:latin typeface="Arial"/>
              </a:rPr>
              <a:t>NO HAGAS TRAMPA ADELANTÁNDOTE A LA PARTE INFERIOR DE ESTE MENSAJE!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sto tomará menos de un minuto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Haz el cálculo mientras lees...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No es una pérdida de tiempo, es divertido!!!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y además, ¿qué ganas con ocultar tu edad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bb109d"/>
                </a:solidFill>
                <a:latin typeface="Arial"/>
              </a:rPr>
              <a:t>Haz como el Whisky que dice su e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bb109d"/>
                </a:solidFill>
                <a:latin typeface="Arial"/>
              </a:rPr>
              <a:t>con orgullo porque sabe que mientr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bb109d"/>
                </a:solidFill>
                <a:latin typeface="Arial"/>
              </a:rPr>
              <a:t>más añejo, mejor es la calidad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979640" y="5357880"/>
            <a:ext cx="539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Ahora, vamos a lo nuestr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2000"/>
                            </p:stCondLst>
                            <p:childTnLst>
                              <p:par>
                                <p:cTn id="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4000"/>
                            </p:stCondLst>
                            <p:childTnLst>
                              <p:par>
                                <p:cTn id="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8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8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8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8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3"/>
          <p:cNvSpPr/>
          <p:nvPr/>
        </p:nvSpPr>
        <p:spPr>
          <a:xfrm>
            <a:off x="0" y="595440"/>
            <a:ext cx="8991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7bb46"/>
                </a:solidFill>
                <a:latin typeface="Arial"/>
              </a:rPr>
              <a:t>1º - Elige el número de veces que te gustaría tomarte un Whisky en la seman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bb2212"/>
                </a:solidFill>
                <a:latin typeface="Arial"/>
              </a:rPr>
              <a:t>(1-2-3-4-5-6-7-8-9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whisky"/>
          <p:cNvPicPr/>
          <p:nvPr/>
        </p:nvPicPr>
        <p:blipFill>
          <a:blip r:embed="rId2"/>
          <a:stretch/>
        </p:blipFill>
        <p:spPr>
          <a:xfrm>
            <a:off x="2438280" y="297180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179080" y="2101680"/>
            <a:ext cx="427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bb2212"/>
                </a:solidFill>
                <a:latin typeface="Arial"/>
              </a:rPr>
              <a:t>¡Más no, sería vicio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2000"/>
                            </p:stCondLst>
                            <p:childTnLst>
                              <p:par>
                                <p:cTn id="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4560" y="2514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Arial"/>
              </a:rPr>
              <a:t>2º - Multiplica este número por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3"/>
          <p:cNvSpPr/>
          <p:nvPr/>
        </p:nvSpPr>
        <p:spPr>
          <a:xfrm>
            <a:off x="1371600" y="3032280"/>
            <a:ext cx="365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Arial"/>
              </a:rPr>
              <a:t>3º - Súmale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5"/>
          <p:cNvPicPr/>
          <p:nvPr/>
        </p:nvPicPr>
        <p:blipFill>
          <a:blip r:embed="rId2"/>
          <a:stretch/>
        </p:blipFill>
        <p:spPr>
          <a:xfrm>
            <a:off x="5365800" y="2362320"/>
            <a:ext cx="2635200" cy="24876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2"/>
          <p:cNvPicPr/>
          <p:nvPr/>
        </p:nvPicPr>
        <p:blipFill>
          <a:blip r:embed="rId1"/>
          <a:stretch/>
        </p:blipFill>
        <p:spPr>
          <a:xfrm>
            <a:off x="0" y="0"/>
            <a:ext cx="5943600" cy="68389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" descr="calculadora"/>
          <p:cNvPicPr/>
          <p:nvPr/>
        </p:nvPicPr>
        <p:blipFill>
          <a:blip r:embed="rId2"/>
          <a:stretch/>
        </p:blipFill>
        <p:spPr>
          <a:xfrm>
            <a:off x="4952880" y="3200400"/>
            <a:ext cx="3733920" cy="342900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-360" y="1143000"/>
            <a:ext cx="883908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Arial"/>
              </a:rPr>
              <a:t>4º - Multiplica esa cantidad por 50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063080" y="2438280"/>
            <a:ext cx="7428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(esperaré a que saques tu calculadora 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notes el resultad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2000"/>
                            </p:stCondLst>
                            <p:childTnLst>
                              <p:par>
                                <p:cTn id="1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3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3"/>
          <p:cNvSpPr/>
          <p:nvPr/>
        </p:nvSpPr>
        <p:spPr>
          <a:xfrm>
            <a:off x="533520" y="2819520"/>
            <a:ext cx="815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617ff"/>
                </a:solidFill>
                <a:latin typeface="Arial"/>
              </a:rPr>
              <a:t>5º - Si ya fue tu cumpleaños este     año, súmale </a:t>
            </a:r>
            <a:r>
              <a:rPr b="1" lang="es-ES_tradnl" sz="4000" spc="-1" strike="noStrike" u="sng">
                <a:solidFill>
                  <a:srgbClr val="3617ff"/>
                </a:solidFill>
                <a:uFillTx/>
                <a:latin typeface="Arial"/>
              </a:rPr>
              <a:t>1762</a:t>
            </a:r>
            <a:r>
              <a:rPr b="1" lang="es-ES_tradnl" sz="4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s-ES_tradnl" sz="4000" spc="-1" strike="noStrike">
                <a:solidFill>
                  <a:srgbClr val="000000"/>
                </a:solidFill>
                <a:latin typeface="Arial"/>
              </a:rPr>
              <a:t>..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torta"/>
          <p:cNvPicPr/>
          <p:nvPr/>
        </p:nvPicPr>
        <p:blipFill>
          <a:blip r:embed="rId2"/>
          <a:stretch/>
        </p:blipFill>
        <p:spPr>
          <a:xfrm>
            <a:off x="685800" y="380880"/>
            <a:ext cx="2209680" cy="214308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060280" y="4251240"/>
            <a:ext cx="4864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Arial"/>
              </a:rPr>
              <a:t>Si no, súmale </a:t>
            </a:r>
            <a:r>
              <a:rPr b="1" lang="es-ES_tradnl" sz="4000" spc="-1" strike="noStrike" u="sng">
                <a:solidFill>
                  <a:srgbClr val="000000"/>
                </a:solidFill>
                <a:uFillTx/>
                <a:latin typeface="Arial"/>
              </a:rPr>
              <a:t>1761</a:t>
            </a:r>
            <a:r>
              <a:rPr b="1" lang="es-ES_tradnl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2000"/>
                            </p:stCondLst>
                            <p:childTnLst>
                              <p:par>
                                <p:cTn id="1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8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8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8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8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2"/>
          <p:cNvPicPr/>
          <p:nvPr/>
        </p:nvPicPr>
        <p:blipFill>
          <a:blip r:embed="rId1"/>
          <a:stretch/>
        </p:blipFill>
        <p:spPr>
          <a:xfrm>
            <a:off x="0" y="0"/>
            <a:ext cx="5943600" cy="683892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600" y="1523520"/>
            <a:ext cx="8610480" cy="266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Arial"/>
              </a:rPr>
              <a:t>6º - Ahora réstale al todo, el año en que naciste </a:t>
            </a:r>
            <a:br>
              <a:rPr sz="4000"/>
            </a:br>
            <a:r>
              <a:rPr b="1" lang="es-ES_tradnl" sz="4000" spc="-1" strike="noStrike">
                <a:solidFill>
                  <a:srgbClr val="000000"/>
                </a:solidFill>
                <a:latin typeface="Arial"/>
              </a:rPr>
              <a:t>(4 dígito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5T22:19:16Z</dcterms:created>
  <dc:creator>TUKULITO SAKAYAMA</dc:creator>
  <dc:description/>
  <cp:keywords/>
  <dc:language>en-US</dc:language>
  <cp:lastModifiedBy>Mario Olaechea G.</cp:lastModifiedBy>
  <dcterms:modified xsi:type="dcterms:W3CDTF">2012-05-25T09:34:08Z</dcterms:modified>
  <cp:revision>5</cp:revision>
  <dc:subject/>
  <dc:title>Juego de la edad con Wiskey</dc:title>
</cp:coreProperties>
</file>