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5.jpeg" ContentType="image/jpeg"/>
  <Override PartName="/ppt/media/Patricia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9D38-1AEF-4500-8C8E-E608C6FE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7AB-CE5A-4716-B011-E8729A28C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D5C-C018-48B4-B130-41893D4D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EC3-7D71-46B3-991B-87782357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D8C-8483-4C89-B4EC-2ACF799B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7C3-C3BB-4638-837A-2BB65E61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20A-2F9C-4D89-97C0-2BE5439CF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BD0-B7A3-4FE9-853C-8822194A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FB0-AFBF-4DF8-9C6E-22B83118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756-E0A5-47BF-B293-15BA390D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873-3E2E-43AF-82F2-866B5F69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1659-8C46-4697-AB29-1AF60BF5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E7AC-2AEC-4D96-81E8-A56ACE2B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051-3713-4698-A4D0-1209F66B5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AEF5-0DDC-45B1-86A2-05B570BA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303-E620-4AF6-A3F5-DEDE25D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7F0-E9FF-49C2-9BA9-13C41D9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4BC-2535-4DB1-B522-8DAE12B7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637-93D7-4A46-B7E3-9F4676FB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2FC-593F-4322-8010-D7F45062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D06-2BD0-43F2-91DB-200DC336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108-820D-4ED4-9D8F-D3F489D4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823-B575-4503-AB41-E077EFF7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F38-51E5-4F04-A5D0-E9D8260D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573-20B6-4B52-BC09-9E29AFA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8DB-3E7D-4140-AD24-7346E7C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DBF-8AAB-4EA7-B937-1AAE472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389-91F4-4EEC-9948-A7C3E57E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rici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Arial"/>
              </a:rPr>
              <a:t>CALCULA LA TUYA CON WHISKY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80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bemos que a todos nos importa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2840" y="593640"/>
            <a:ext cx="64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3300"/>
                </a:solidFill>
                <a:latin typeface="Arial"/>
              </a:rPr>
              <a:t>¡CALCULANDO TU ED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5560" y="60958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3300"/>
                </a:solidFill>
                <a:latin typeface="Arial"/>
              </a:rPr>
              <a:t>Clic para avan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atric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05084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hora debes tener un núme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e 3 dígi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574R-016225"/>
          <p:cNvPicPr/>
          <p:nvPr/>
        </p:nvPicPr>
        <p:blipFill>
          <a:blip r:embed="rId2"/>
          <a:stretch/>
        </p:blipFill>
        <p:spPr>
          <a:xfrm>
            <a:off x="304920" y="3733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574R-016225"/>
          <p:cNvPicPr/>
          <p:nvPr/>
        </p:nvPicPr>
        <p:blipFill>
          <a:blip r:embed="rId3"/>
          <a:stretch/>
        </p:blipFill>
        <p:spPr>
          <a:xfrm>
            <a:off x="5943600" y="38098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2080" y="251460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617ff"/>
                </a:solidFill>
                <a:latin typeface="Arial"/>
              </a:rPr>
              <a:t>¿</a:t>
            </a: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Correcto</a:t>
            </a:r>
            <a:r>
              <a:rPr b="0" lang="es-ES_tradnl" sz="4000" spc="-1" strike="noStrike">
                <a:solidFill>
                  <a:srgbClr val="3617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3047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El primer dígito es tu número origin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numers"/>
          <p:cNvPicPr/>
          <p:nvPr/>
        </p:nvPicPr>
        <p:blipFill>
          <a:blip r:embed="rId2"/>
          <a:stretch/>
        </p:blipFill>
        <p:spPr>
          <a:xfrm>
            <a:off x="228600" y="304920"/>
            <a:ext cx="3048120" cy="24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0360" y="4309920"/>
            <a:ext cx="79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l número de veces que quisieras tomar Whi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la sem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2280" y="914400"/>
            <a:ext cx="8839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siguientes dos números son...</a:t>
            </a:r>
            <a:br>
              <a:rPr sz="7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47bb46"/>
                </a:solidFill>
                <a:latin typeface="Arial"/>
              </a:rPr>
              <a:t>¡ TU EDAD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8440" y="353520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c8c93"/>
                </a:solidFill>
                <a:latin typeface="Arial"/>
              </a:rPr>
              <a:t>¿Es verdad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7640" y="480060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Arial"/>
              </a:rPr>
              <a:t>¡ NO TE PUEDES ENGAÑA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mos tómate un trago de Whisky, pero que sea del bueno… ¡no seas tacaño!</a:t>
            </a:r>
            <a:br>
              <a:rPr sz="54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a sabes: de 12, 15, 18, 21, 25 años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n 1"/>
          <p:cNvPicPr/>
          <p:nvPr/>
        </p:nvPicPr>
        <p:blipFill>
          <a:blip r:embed="rId2"/>
          <a:stretch/>
        </p:blipFill>
        <p:spPr>
          <a:xfrm>
            <a:off x="2720880" y="4568760"/>
            <a:ext cx="131148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magen 2"/>
          <p:cNvPicPr/>
          <p:nvPr/>
        </p:nvPicPr>
        <p:blipFill>
          <a:blip r:embed="rId3"/>
          <a:stretch/>
        </p:blipFill>
        <p:spPr>
          <a:xfrm>
            <a:off x="5462640" y="4572000"/>
            <a:ext cx="12366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agen 3"/>
          <p:cNvPicPr/>
          <p:nvPr/>
        </p:nvPicPr>
        <p:blipFill>
          <a:blip r:embed="rId4"/>
          <a:stretch/>
        </p:blipFill>
        <p:spPr>
          <a:xfrm>
            <a:off x="1523880" y="4568760"/>
            <a:ext cx="109224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magen 4"/>
          <p:cNvPicPr/>
          <p:nvPr/>
        </p:nvPicPr>
        <p:blipFill>
          <a:blip r:embed="rId5"/>
          <a:stretch/>
        </p:blipFill>
        <p:spPr>
          <a:xfrm>
            <a:off x="4118040" y="4584600"/>
            <a:ext cx="1216080" cy="196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Imagen 5"/>
          <p:cNvPicPr/>
          <p:nvPr/>
        </p:nvPicPr>
        <p:blipFill>
          <a:blip r:embed="rId6"/>
          <a:stretch/>
        </p:blipFill>
        <p:spPr>
          <a:xfrm>
            <a:off x="6781680" y="4572000"/>
            <a:ext cx="1295640" cy="19018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sorpresa.jpg"/>
          <p:cNvPicPr/>
          <p:nvPr/>
        </p:nvPicPr>
        <p:blipFill>
          <a:blip r:embed="rId7"/>
          <a:stretch/>
        </p:blipFill>
        <p:spPr>
          <a:xfrm>
            <a:off x="990720" y="762120"/>
            <a:ext cx="152388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68560" y="137808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Sorprendi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whisky"/>
          <p:cNvPicPr/>
          <p:nvPr/>
        </p:nvPicPr>
        <p:blipFill>
          <a:blip r:embed="rId2"/>
          <a:stretch/>
        </p:blipFill>
        <p:spPr>
          <a:xfrm>
            <a:off x="297180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52280" y="228600"/>
            <a:ext cx="8991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o sólo funciona este año (2012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b109d"/>
                </a:solidFill>
                <a:latin typeface="Arial"/>
              </a:rPr>
              <a:t>así que disfrutalo con unos buenos tragos de Whisky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ásalo a todos tus amigotes, a los que les importa la edad y se quitan años, porque todos sabemos que las matemáticas no miente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1000" y="322092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i el buen Whisky tampoco. ¡ SALU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0680" y="61977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Signature"/>
              </a:rPr>
              <a:t>Salud os, 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5000" y="6400800"/>
            <a:ext cx="10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00" spc="-1" strike="noStrike">
                <a:solidFill>
                  <a:srgbClr val="808080"/>
                </a:solidFill>
                <a:latin typeface="Arial"/>
              </a:rPr>
              <a:t>Edit. Ccas.May./ 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8915400" cy="683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33920" y="380520"/>
            <a:ext cx="54100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¡No me digas tu edad!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eguramente mentirías; pero con este cálculo añejo lo sabremos!!</a:t>
            </a:r>
            <a:br>
              <a:rPr sz="36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QUE SI A ALGUIEN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 IMPORTA LA E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AL WHISKY</a:t>
            </a:r>
            <a:br>
              <a:rPr sz="32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mira lo que nos dicen las botellas de: 8, 12, 15, 18, 21, 25 añ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510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811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¡¡ AHÍ VAMOS !!</a:t>
            </a:r>
            <a:br>
              <a:rPr sz="2800"/>
            </a:br>
            <a:r>
              <a:rPr b="1" lang="es-ES_tradnl" sz="2800" spc="-1" strike="noStrike">
                <a:solidFill>
                  <a:srgbClr val="5a53f9"/>
                </a:solidFill>
                <a:latin typeface="Arial"/>
              </a:rPr>
              <a:t>NO HAGAS TRAMPA ADELANTÁNDOTE A LA PARTE INFERIOR DE ESTE MENSAJE!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o tomará menos de un minuto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z el cálculo mientras lees..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s una pérdida de tiempo, es divertido!!!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además, ¿qué ganas con ocultar tu eda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Haz como el Whisky que dice su 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con orgullo porque sabe que mien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b109d"/>
                </a:solidFill>
                <a:latin typeface="Arial"/>
              </a:rPr>
              <a:t>más añejo, mejor es la cali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35788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a, vamos a lo nue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59544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7bb46"/>
                </a:solidFill>
                <a:latin typeface="Arial"/>
              </a:rPr>
              <a:t>1º - Elige el número de veces que te gustaría tomarte un Whisky en la se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2212"/>
                </a:solidFill>
                <a:latin typeface="Arial"/>
              </a:rPr>
              <a:t>(1-2-3-4-5-6-7-8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whisky"/>
          <p:cNvPicPr/>
          <p:nvPr/>
        </p:nvPicPr>
        <p:blipFill>
          <a:blip r:embed="rId2"/>
          <a:stretch/>
        </p:blipFill>
        <p:spPr>
          <a:xfrm>
            <a:off x="2438280" y="2971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79080" y="210168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2212"/>
                </a:solidFill>
                <a:latin typeface="Arial"/>
              </a:rPr>
              <a:t>¡Más no, sería vici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2º - Multiplica este número po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371600" y="30322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3º - Súmal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5"/>
          <p:cNvPicPr/>
          <p:nvPr/>
        </p:nvPicPr>
        <p:blipFill>
          <a:blip r:embed="rId2"/>
          <a:stretch/>
        </p:blipFill>
        <p:spPr>
          <a:xfrm>
            <a:off x="5365800" y="2362320"/>
            <a:ext cx="263520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alculadora"/>
          <p:cNvPicPr/>
          <p:nvPr/>
        </p:nvPicPr>
        <p:blipFill>
          <a:blip r:embed="rId2"/>
          <a:stretch/>
        </p:blipFill>
        <p:spPr>
          <a:xfrm>
            <a:off x="4952880" y="320040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4º - Multiplica esa cantidad por 5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3080" y="2438280"/>
            <a:ext cx="74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esperaré a que saques tu calculador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otes el result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533520" y="28195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617ff"/>
                </a:solidFill>
                <a:latin typeface="Arial"/>
              </a:rPr>
              <a:t>5º - Si ya fue tu cumpleaños este     año, súmale </a:t>
            </a:r>
            <a:r>
              <a:rPr b="1" lang="es-ES_tradnl" sz="4000" spc="-1" strike="noStrike" u="sng">
                <a:solidFill>
                  <a:srgbClr val="3617ff"/>
                </a:solidFill>
                <a:uFillTx/>
                <a:latin typeface="Arial"/>
              </a:rPr>
              <a:t>1762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orta"/>
          <p:cNvPicPr/>
          <p:nvPr/>
        </p:nvPicPr>
        <p:blipFill>
          <a:blip r:embed="rId2"/>
          <a:stretch/>
        </p:blipFill>
        <p:spPr>
          <a:xfrm>
            <a:off x="685800" y="380880"/>
            <a:ext cx="2209680" cy="214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60280" y="4251240"/>
            <a:ext cx="48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i no, súmale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Arial"/>
              </a:rPr>
              <a:t>1761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594360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6º - Ahora réstale al todo, el año en que naciste 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4 dígit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2:19:16Z</dcterms:created>
  <dc:creator>TUKULITO SAKAYAMA</dc:creator>
  <dc:description/>
  <cp:keywords/>
  <dc:language>en-US</dc:language>
  <cp:lastModifiedBy>Mario Olaechea G.</cp:lastModifiedBy>
  <dcterms:modified xsi:type="dcterms:W3CDTF">2012-05-25T09:34:08Z</dcterms:modified>
  <cp:revision>5</cp:revision>
  <dc:subject/>
  <dc:title>Juego de la edad con Wiskey</dc:title>
</cp:coreProperties>
</file>