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SUSAN%20BOYLE%20-%20%C2%ABI%20dreamed%20a%20dream%C2%BB%20%5B%C2%ABBritain's%20got%20talent%202009%C2%BB%5D.wav" ContentType="audio/x-wav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E08-1514-4BB4-9128-AAC72CDE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A5A-E10B-448B-92E5-B4D9025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61B-367E-4647-A077-E4E642B5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3A8-B6F1-4F5F-969D-C2ED99BE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825-637E-4C4F-BFF4-171268BC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3B6-07BE-48F7-B211-FBED15FB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66B-CA1A-4A3D-8D97-B30107D4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D0A-0481-4208-AA40-749C1B1F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962-A851-449A-AAA0-BA59B7F8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EBA-30D5-4664-956D-2409E731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9B7-CB39-4284-9074-D75A243C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68E-0EE2-4352-9FD8-781D084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1593-55FE-4523-81E6-02D9C8BB344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SAN%20BOYLE%20-%20&#171;I%20dreamed%20a%20dream&#187;%20%5B&#171;Britain&apos;s%20got%20talent%202009&#187;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b24"/>
          <p:cNvPicPr/>
          <p:nvPr/>
        </p:nvPicPr>
        <p:blipFill>
          <a:blip r:embed="rId1"/>
          <a:stretch/>
        </p:blipFill>
        <p:spPr>
          <a:xfrm>
            <a:off x="1533600" y="2608200"/>
            <a:ext cx="7605720" cy="4251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1" lang="pt-BR" sz="4800" spc="-1" strike="noStrike">
                <a:solidFill>
                  <a:srgbClr val="ffffff"/>
                </a:solidFill>
                <a:latin typeface="Arial Unicode MS"/>
              </a:rPr>
              <a:t>PRE - CONCEPTO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8000" y="5391000"/>
            <a:ext cx="11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cc00"/>
                </a:solidFill>
                <a:latin typeface="BankGothic Md BT"/>
              </a:rPr>
              <a:t>Ligue el so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44360" y="6405480"/>
            <a:ext cx="34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cc00"/>
                </a:solidFill>
                <a:latin typeface="BankGothic Md BT"/>
              </a:rPr>
              <a:t>Click para Avanç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u simpatía y principalmente su voz conquistaron a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5372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¿Fue un choque ver a alguien con aquella apariencia cantando tan divin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ara la mayoría, sí. Pero vean a qué punto llega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b38"/>
          <p:cNvPicPr/>
          <p:nvPr/>
        </p:nvPicPr>
        <p:blipFill>
          <a:blip r:embed="rId1"/>
          <a:stretch/>
        </p:blipFill>
        <p:spPr>
          <a:xfrm>
            <a:off x="2627280" y="1844640"/>
            <a:ext cx="3743280" cy="252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omos capaces de juzgar a nuestros semejantes por la apariencia, sin conocer lo que nos pueden of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b30"/>
          <p:cNvPicPr/>
          <p:nvPr/>
        </p:nvPicPr>
        <p:blipFill>
          <a:blip r:embed="rId1"/>
          <a:stretch/>
        </p:blipFill>
        <p:spPr>
          <a:xfrm>
            <a:off x="1376280" y="1249200"/>
            <a:ext cx="6391440" cy="4267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3" name="Text Box 6"/>
          <p:cNvSpPr/>
          <p:nvPr/>
        </p:nvSpPr>
        <p:spPr>
          <a:xfrm>
            <a:off x="0" y="5564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Fuimos capaces de reir y menospreciar tamaño talento por nuestros patrones de belleza. Casi enterramos un sueño a cambio de maquillaje y esté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18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sde los 12 años Susan soñó cantar profesionalmente, pero nunca fué aceptada por nadie. La primera música que escogió no podía ser más oportuna. (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I dreamed a dream – Yo tuve un sueño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). Un sueño que parecía imposible para una persona relegada fue realizado en un abrir y cerrar de o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5229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Fuentes seguras, que conocen a Susan, afirmam que es una persona maravillosa y que el mundo se demoró en conocerla. Las mujeres que hoy son suceso son bonitas, con ropas ajustadas, sensuales y provoc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b31"/>
          <p:cNvPicPr/>
          <p:nvPr/>
        </p:nvPicPr>
        <p:blipFill>
          <a:blip r:embed="rId1"/>
          <a:stretch/>
        </p:blipFill>
        <p:spPr>
          <a:xfrm>
            <a:off x="3340080" y="2173320"/>
            <a:ext cx="2336760" cy="2924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235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Nuestra sociedad se reivindicó con Susan Bo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458136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La ‘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Fiona’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 de la música internacional conquistó millones de corazones y arrancó lágrimas a los más insensibles, siendo ella misma, no corriendo atrás de estereotipos, ni patrones de belleza artificiales, utilizó su belleza natural (su vo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a fue su rec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b35"/>
          <p:cNvPicPr/>
          <p:nvPr/>
        </p:nvPicPr>
        <p:blipFill>
          <a:blip r:embed="rId1"/>
          <a:stretch/>
        </p:blipFill>
        <p:spPr>
          <a:xfrm>
            <a:off x="3238560" y="907920"/>
            <a:ext cx="2666880" cy="3429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235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erá que aprendimos la lec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443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¿Cuántas Susan existen por ahí? ¿Cuántas personas que consideramos ridículas esconden riquezas invisibl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sb34"/>
          <p:cNvPicPr/>
          <p:nvPr/>
        </p:nvPicPr>
        <p:blipFill>
          <a:blip r:embed="rId1"/>
          <a:stretch/>
        </p:blipFill>
        <p:spPr>
          <a:xfrm>
            <a:off x="2495520" y="1197000"/>
            <a:ext cx="4152960" cy="2857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235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l final de la primer audición, los jurados se disculparon con Su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4756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manda Holden fue categórica al decir: “Estoy shockada, todos estábamos contra usted y veo que fuimos arrogantes. Usted nos dió la mejor lección que tuvimos. Sólo me gustaría decirle que fue un privilegio poder escucharla aquí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bjur"/>
          <p:cNvPicPr/>
          <p:nvPr/>
        </p:nvPicPr>
        <p:blipFill>
          <a:blip r:embed="rId1"/>
          <a:stretch/>
        </p:blipFill>
        <p:spPr>
          <a:xfrm>
            <a:off x="2943360" y="1222200"/>
            <a:ext cx="3273120" cy="3286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Vamos a comezar a mirar a las personas dentro de los ojos. Sólo así las conoceremos verdaderamente y no correremos el riesgo de perder las joyas que la vida nos ofer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5265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ta historia nos sirve de exemplo. Una mujer ignorada dio una vuelta mostrando su talento de la forma más simple y desintegró los preconceptos generados por nosotr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b07"/>
          <p:cNvPicPr/>
          <p:nvPr/>
        </p:nvPicPr>
        <p:blipFill>
          <a:blip r:embed="rId1"/>
          <a:stretch/>
        </p:blipFill>
        <p:spPr>
          <a:xfrm>
            <a:off x="3033720" y="1679400"/>
            <a:ext cx="3076560" cy="3333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hora el mundo vuelca sus atenciones para la estrella recién descubierta. ¿Um reconocimiento tardío del talento de Sus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526572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Brotan invitaciones de todas partes del mundo, grabadoras, estilistas, productores, cineastas y hasta de la Casa Blan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lla está muy fel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b27"/>
          <p:cNvPicPr/>
          <p:nvPr/>
        </p:nvPicPr>
        <p:blipFill>
          <a:blip r:embed="rId1"/>
          <a:stretch/>
        </p:blipFill>
        <p:spPr>
          <a:xfrm>
            <a:off x="2205000" y="1916280"/>
            <a:ext cx="4743360" cy="3031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in dudas se encargarán de mejorar la imagem de la mega-star. La Susan que veremos cantando estará un poquito más produ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5702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ero no importa. Lo que teníamos que aprender, es lo que ya aprend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b29"/>
          <p:cNvPicPr/>
          <p:nvPr/>
        </p:nvPicPr>
        <p:blipFill>
          <a:blip r:embed="rId1"/>
          <a:stretch/>
        </p:blipFill>
        <p:spPr>
          <a:xfrm>
            <a:off x="2771640" y="1731960"/>
            <a:ext cx="3600720" cy="356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 Usted le puede gustar o no el estilo de Susan, pero no puede negar que ella dio una lección moral y ética a la humanidad tan mez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5265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bemos considerar la escencia de las personas, la pureza que cada una carga en sí misma y no las juzgaremos por las apariencias. Vamos a dejar de ser moralmente </a:t>
            </a:r>
            <a:r>
              <a:rPr b="1" lang="pt-BR" sz="2400" spc="-1" strike="noStrike">
                <a:solidFill>
                  <a:srgbClr val="99cc00"/>
                </a:solidFill>
                <a:latin typeface="Arial Unicode MS"/>
              </a:rPr>
              <a:t>miserables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b32"/>
          <p:cNvPicPr/>
          <p:nvPr/>
        </p:nvPicPr>
        <p:blipFill>
          <a:blip r:embed="rId1"/>
          <a:stretch/>
        </p:blipFill>
        <p:spPr>
          <a:xfrm>
            <a:off x="3424320" y="1700280"/>
            <a:ext cx="2295360" cy="3311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Usted sintió hablar de Susan Boy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sb36"/>
          <p:cNvPicPr/>
          <p:nvPr/>
        </p:nvPicPr>
        <p:blipFill>
          <a:blip r:embed="rId1"/>
          <a:stretch/>
        </p:blipFill>
        <p:spPr>
          <a:xfrm>
            <a:off x="2340000" y="1384200"/>
            <a:ext cx="4476600" cy="312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7" name="Text Box 7"/>
          <p:cNvSpPr/>
          <p:nvPr/>
        </p:nvSpPr>
        <p:spPr>
          <a:xfrm>
            <a:off x="-7920" y="4829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usan es una cantante encantadora, escocesa, que llegó a la  fama por su aparición el 11/04/09 en el popular show de búsqueda de talentos 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Britain’s Got Talent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, del Reino U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usan representa nuestras fragilidades. Todos tenemos interiormente un poquito de Susan en algún asp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55641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Tenemos miedos, recelos, comple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ero no podemos sucumbir a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sb13"/>
          <p:cNvPicPr/>
          <p:nvPr/>
        </p:nvPicPr>
        <p:blipFill>
          <a:blip r:embed="rId1"/>
          <a:stretch/>
        </p:blipFill>
        <p:spPr>
          <a:xfrm>
            <a:off x="3076560" y="1506600"/>
            <a:ext cx="2990880" cy="36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890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Mostremos a la platéa de la vida que a pesar de todo somos cap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 pesar de nuestras flaquezas somos iguales a t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55641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Gracias, Dios, por mostrarte a través de Susan Bo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peramos no dormirnos nuevamente en la arrog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b08"/>
          <p:cNvPicPr/>
          <p:nvPr/>
        </p:nvPicPr>
        <p:blipFill>
          <a:blip r:embed="rId1"/>
          <a:stretch/>
        </p:blipFill>
        <p:spPr>
          <a:xfrm>
            <a:off x="3106800" y="1557360"/>
            <a:ext cx="2930400" cy="374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47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l diario “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The guardian”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 resume en una frase profunda el sentimiento que brotó en los corazones al ver y oir a Susan Boyle cantando con su pureza y simplic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556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cc00"/>
                </a:solidFill>
                <a:latin typeface="Arial Unicode MS"/>
              </a:rPr>
              <a:t>¿“Susan Boyle es fea ? ¿O somos nosotro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b37b"/>
          <p:cNvPicPr/>
          <p:nvPr/>
        </p:nvPicPr>
        <p:blipFill>
          <a:blip r:embed="rId1"/>
          <a:stretch/>
        </p:blipFill>
        <p:spPr>
          <a:xfrm>
            <a:off x="2124000" y="2097000"/>
            <a:ext cx="4896000" cy="306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7" name="Text Box 6"/>
          <p:cNvSpPr/>
          <p:nvPr/>
        </p:nvSpPr>
        <p:spPr>
          <a:xfrm>
            <a:off x="250920" y="62118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Reflex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sb36"/>
          <p:cNvPicPr/>
          <p:nvPr/>
        </p:nvPicPr>
        <p:blipFill>
          <a:blip r:embed="rId1"/>
          <a:stretch/>
        </p:blipFill>
        <p:spPr>
          <a:xfrm>
            <a:off x="2340000" y="1384200"/>
            <a:ext cx="4476600" cy="312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9" name="Text Box 9"/>
          <p:cNvSpPr/>
          <p:nvPr/>
        </p:nvSpPr>
        <p:spPr>
          <a:xfrm>
            <a:off x="0" y="556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cc00"/>
                </a:solidFill>
                <a:latin typeface="Arial Unicode MS"/>
              </a:rPr>
              <a:t>Los feos SOMOS NOSOTROS; no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79280" y="115920"/>
            <a:ext cx="421164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ffffff"/>
                </a:solidFill>
                <a:uFillTx/>
                <a:latin typeface="Arial Unicode MS"/>
              </a:rPr>
              <a:t>I dreamed a dr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ere was a time when men were k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When their voices were so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their words invit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ere was a time when love was bl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the world was a s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the song was excit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ere was a time ... then it all went wr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I dreamed a dream in days gone b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When hopes were high and life worth living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I dreamed that love would never d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I dreamed that God would be forgiv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at I was young and unafrai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When dreams were made and used and wast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ere was no ransom to be paye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No song unsung, no wine untast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But the tigers come at nigh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With their voices soft as thunder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s they tear your hope ap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s they turn your dreams to sh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He slept a summer by my sid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He filled my days with endless wonder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He took my childhood in his strid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But he was gone when autumn cam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still I dreamed he'd come to 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we would live the years together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But there are dreams that cannot b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there are storms we cannot weath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I had a dream my life would b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So different from this hell I'm liv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So different now from what it seem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Now life has killed the dr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Unicode MS"/>
              </a:rPr>
              <a:t>I dreamed.</a:t>
            </a:r>
            <a:r>
              <a:rPr b="0" lang="pt-BR" sz="13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246560" y="101520"/>
            <a:ext cx="45734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 u="sng">
                <a:solidFill>
                  <a:srgbClr val="99cc00"/>
                </a:solidFill>
                <a:uFillTx/>
                <a:latin typeface="Arial Unicode MS"/>
              </a:rPr>
              <a:t>Eu tive um sonh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Houve um tempo quando os homens eram amáve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Quando suas vozes eram sua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suas palavras convidativ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Houve um tempo quando o amor era ce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o mundo era uma can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a canção era excita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Houve um tempo... então tudo deu err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tive um sonho num tempo que já se fo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Quando esperanças eram elevadas e valia a pena vi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sonhei que o amor nunca morrer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sonhei que Deus estaria perdoan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ntão eu era jovem e destemi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Quando sonhos eram feitos e usados e perdi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Não havia nenhum resgate a ser p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Nenhuma canção desconhecida, nenhum vinho intoc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Mas os tigres chegaram à no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Com suas vozes suaves como trov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Tal como eles rasgam sua esperança em pedaç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Tal como eles transformam seus sonhos em vergonh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le dormiu um verão ao meu l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le encheu meus dias de maravilha infini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le fez da minha infância o seu êx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Mas ele se foi quando o outono chego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ainda sonho com ele vindo até a mi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nós viveríamos juntos os an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Mas há sonhos que não podem acontec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há tempestades que não podemos desafi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tive um sonho que minha vida iria s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Tão diferente deste inferno que estou viven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Tão diferente agora do que parec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Agora a vida matou o sonho que t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sonhe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4581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Vea Youtube en Google  “ </a:t>
            </a:r>
            <a:r>
              <a:rPr b="1" lang="pt-BR" sz="2400" spc="-1" strike="noStrike">
                <a:solidFill>
                  <a:srgbClr val="ffff00"/>
                </a:solidFill>
                <a:latin typeface="Arial Unicode MS"/>
              </a:rPr>
              <a:t>Susan Boyle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Le va a encan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sb48"/>
          <p:cNvPicPr/>
          <p:nvPr/>
        </p:nvPicPr>
        <p:blipFill>
          <a:blip r:embed="rId1"/>
          <a:stretch/>
        </p:blipFill>
        <p:spPr>
          <a:xfrm>
            <a:off x="2340000" y="765000"/>
            <a:ext cx="4464000" cy="297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60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sempleada, soltera, 47 años, afirmó que nunca fue besada y que muchas veces la consideraron atrasada o retardada a lo largo de su vida. Cuidó de su madre anciana en la villa de Blackb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-7920" y="5554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n el momento que subió al palco para probar su suerte, esta simpática señora del interior, con su gesto tímido arrancó de la platea risitas y signos de desdén y descrédit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b16"/>
          <p:cNvPicPr/>
          <p:nvPr/>
        </p:nvPicPr>
        <p:blipFill>
          <a:blip r:embed="rId1"/>
          <a:stretch/>
        </p:blipFill>
        <p:spPr>
          <a:xfrm>
            <a:off x="1560600" y="1989000"/>
            <a:ext cx="6035760" cy="3409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9280" y="336600"/>
            <a:ext cx="43927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sprovista de qualquier señal de belleza, dijo a los jurados que le gustaría ser comoElaine Paige (</a:t>
            </a:r>
            <a:r>
              <a:rPr b="1" lang="pt-BR" sz="2000" spc="-1" strike="noStrike">
                <a:solidFill>
                  <a:srgbClr val="ffffff"/>
                </a:solidFill>
                <a:latin typeface="Arial Unicode MS"/>
              </a:rPr>
              <a:t>una famosa y elegante cantante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ara los escépticos, aquello sonaba ridícu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u sueño era ser cantante profesional y presentarse a una gran platea. Aunque nunca tuvo la oport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e día pretendía cantar “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 I dreamed a dream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”, del musical “Lo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s miserables”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b33"/>
          <p:cNvPicPr/>
          <p:nvPr/>
        </p:nvPicPr>
        <p:blipFill>
          <a:blip r:embed="rId1"/>
          <a:stretch/>
        </p:blipFill>
        <p:spPr>
          <a:xfrm>
            <a:off x="4716360" y="476280"/>
            <a:ext cx="4286520" cy="588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spreciada por los jurados y por toda la platea, enfrentó la verguenza y el desprecio y comenzó a can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7920" y="5780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l teatro se vino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b40"/>
          <p:cNvPicPr/>
          <p:nvPr/>
        </p:nvPicPr>
        <p:blipFill>
          <a:blip r:embed="rId1"/>
          <a:stretch/>
        </p:blipFill>
        <p:spPr>
          <a:xfrm>
            <a:off x="2433600" y="1771560"/>
            <a:ext cx="4276800" cy="345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l desempeño vocal de Susan fue tan grande que la platea llegó al delirio, muchos se emocionaron. Al final, fue aplaudida de pi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-7920" y="549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ta música que ustedes escuchan es la que cantó en esa o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b04"/>
          <p:cNvPicPr/>
          <p:nvPr/>
        </p:nvPicPr>
        <p:blipFill>
          <a:blip r:embed="rId1"/>
          <a:stretch/>
        </p:blipFill>
        <p:spPr>
          <a:xfrm>
            <a:off x="1619280" y="1849320"/>
            <a:ext cx="5905440" cy="330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404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l día siguiente YouTube se encargó de desparramar la noticia del nuevo talento descubierto, escondido detrás de un rostro simple y bonachón. En pocas semanas hubo más de 100 millones de accesos al vídeo de Susan Boyle en You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-7920" y="549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La dueña de esa voz se convirtió en una celebridad en un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b02"/>
          <p:cNvPicPr/>
          <p:nvPr/>
        </p:nvPicPr>
        <p:blipFill>
          <a:blip r:embed="rId1"/>
          <a:stretch/>
        </p:blipFill>
        <p:spPr>
          <a:xfrm>
            <a:off x="2133720" y="2341440"/>
            <a:ext cx="4876560" cy="274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n  mayo de 2009 volvió al programa para cantar “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Memory”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, del musical 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Cats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. Nuevamente la platea vibró con su extraordinaria potencia v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-7920" y="549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¿Por qué esa historia llamó tanto la aten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sb10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274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33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implemente por el hecho que los seres humanos juzgamos los rótulos antes de conocer los contenidos. Cuando Susan dijo que quería ser como Elaine Paige, todos rieron. Infelizmente somos así: juzgamos a nuestros semejantes sin 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-7920" y="49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ara muchos, Susan colocó a Paige “en el bolso”. Por qué alguien considerada “fea” no podía cantar bien? Las personas pré-conceptan a los demás por su apariencia. Algo bonito tiene más chances de ser aceptado que algo f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b26"/>
          <p:cNvPicPr/>
          <p:nvPr/>
        </p:nvPicPr>
        <p:blipFill>
          <a:blip r:embed="rId1"/>
          <a:stretch/>
        </p:blipFill>
        <p:spPr>
          <a:xfrm>
            <a:off x="2536920" y="2136600"/>
            <a:ext cx="4051080" cy="2587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7:47:42Z</dcterms:created>
  <dc:creator>..</dc:creator>
  <dc:description/>
  <dc:language>en-US</dc:language>
  <cp:lastModifiedBy>Hugo</cp:lastModifiedBy>
  <dcterms:modified xsi:type="dcterms:W3CDTF">2009-08-18T21:40:48Z</dcterms:modified>
  <cp:revision>61</cp:revision>
  <dc:subject/>
  <dc:title>Slide 1</dc:title>
</cp:coreProperties>
</file>