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AveMariaSchubert.wav" ContentType="audio/x-wav"/>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D1A55-112D-4DAD-9AEF-B50C0C695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1DE9-8EF9-49E8-838E-67C4DFC31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A8B49-96F7-4855-A26B-E5875593E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393CD-3520-4B40-89F8-BB3780B9B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A1B01-A033-48E0-883C-ED9EFD927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FAA09-7F22-4825-90A6-91CCA1E3B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8716-2C9A-4CFF-93E4-61AADD206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8BCE-B6F1-44A5-B6AD-5AA452E5E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976A-D4CD-48D8-8DF3-05516DA2E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4126-551E-4F8D-8823-54CA68579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A2B87-8611-4C25-96D3-990BEFAE1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8C1F-5ED3-4E00-BFE5-8BD484D96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57BD-5F43-416C-B342-7C75CFAEB70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AveMariaSchubert.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Schubert%20%20Ave%20Maria.wav"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Schubert%20%20Ave%20Maria.wav"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3657600"/>
            <a:ext cx="81532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English111 Vivace BT"/>
              </a:rPr>
              <a:t>Lecciones que</a:t>
            </a:r>
            <a:endParaRPr b="0" lang="en-US" sz="2400" spc="1" strike="noStrike">
              <a:ln w="0">
                <a:noFill/>
              </a:ln>
              <a:blipFill rotWithShape="0">
                <a:blip r:embed="rId3"/>
                <a:srcRect/>
                <a:stretch/>
              </a:blipFill>
              <a:effectLst>
                <a:outerShdw dist="17819" dir="2700000" blurRad="0" rotWithShape="0">
                  <a:srgbClr val="c0c0c0"/>
                </a:outerShdw>
              </a:effectLst>
              <a:latin typeface="English111 Vivace BT"/>
              <a:ea typeface="English111 Vivace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English111 Vivace BT"/>
              </a:rPr>
              <a:t>nos da la vida</a:t>
            </a:r>
            <a:endParaRPr b="0" lang="en-US" sz="2400" spc="1" strike="noStrike">
              <a:ln w="0">
                <a:noFill/>
              </a:ln>
              <a:blipFill rotWithShape="0">
                <a:blip r:embed="rId5"/>
                <a:srcRect/>
                <a:stretch/>
              </a:blipFill>
              <a:effectLst>
                <a:outerShdw dist="17819" dir="2700000" blurRad="0" rotWithShape="0">
                  <a:srgbClr val="c0c0c0"/>
                </a:outerShdw>
              </a:effectLst>
              <a:latin typeface="English111 Vivace BT"/>
              <a:ea typeface="English111 Vivace BT"/>
            </a:endParaRPr>
          </a:p>
        </p:txBody>
      </p:sp>
    </p:spTree>
  </p:cSld>
  <p:transition spd="slow">
    <p:strips dir="lu"/>
    <p:sndAc>
      <p:stSnd>
        <p:snd r:embed="rId6" name="AveMariaSchubert.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2" name="Closebka" descr="">
            <a:hlinkClick r:id="rId1"/>
          </p:cNvPr>
          <p:cNvPicPr/>
          <p:nvPr/>
        </p:nvPicPr>
        <p:blipFill>
          <a:blip r:embed="rId2"/>
          <a:stretch/>
        </p:blipFill>
        <p:spPr>
          <a:xfrm>
            <a:off x="1981080" y="0"/>
            <a:ext cx="5153040" cy="6858000"/>
          </a:xfrm>
          <a:prstGeom prst="rect">
            <a:avLst/>
          </a:prstGeom>
          <a:ln w="0">
            <a:noFill/>
          </a:ln>
        </p:spPr>
      </p:pic>
      <p:sp>
        <p:nvSpPr>
          <p:cNvPr id="43" name=""/>
          <p:cNvSpPr/>
          <p:nvPr/>
        </p:nvSpPr>
        <p:spPr>
          <a:xfrm>
            <a:off x="2910240" y="1752480"/>
            <a:ext cx="36493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66"/>
                </a:solidFill>
                <a:latin typeface="GoudyHandtooled BT"/>
              </a:rPr>
              <a:t>Jean Marcel</a:t>
            </a:r>
            <a:endParaRPr b="0" lang="en-US" sz="5000" spc="-1" strike="noStrike">
              <a:solidFill>
                <a:srgbClr val="000000"/>
              </a:solidFill>
              <a:latin typeface="Times New Roman"/>
            </a:endParaRPr>
          </a:p>
        </p:txBody>
      </p:sp>
      <p:sp>
        <p:nvSpPr>
          <p:cNvPr id="44" name=""/>
          <p:cNvSpPr/>
          <p:nvPr/>
        </p:nvSpPr>
        <p:spPr>
          <a:xfrm>
            <a:off x="4267080" y="3886200"/>
            <a:ext cx="227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66"/>
                </a:solidFill>
                <a:latin typeface="Comic Sans MS"/>
              </a:rPr>
              <a:t>Autor: Nauj Sole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66"/>
                </a:solidFill>
                <a:latin typeface="Comic Sans MS"/>
              </a:rPr>
              <a:t>    </a:t>
            </a:r>
            <a:r>
              <a:rPr b="0" lang="es-MX" sz="1800" spc="-1" strike="noStrike">
                <a:solidFill>
                  <a:srgbClr val="ffff66"/>
                </a:solidFill>
                <a:latin typeface="Comic Sans MS"/>
              </a:rPr>
              <a:t>May/06</a:t>
            </a:r>
            <a:endParaRPr b="0" lang="en-US" sz="1800" spc="-1" strike="noStrike">
              <a:solidFill>
                <a:srgbClr val="000000"/>
              </a:solidFill>
              <a:latin typeface="Times New Roman"/>
            </a:endParaRPr>
          </a:p>
        </p:txBody>
      </p:sp>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791320" y="358128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
          <p:cNvSpPr/>
          <p:nvPr/>
        </p:nvSpPr>
        <p:spPr>
          <a:xfrm>
            <a:off x="1828800" y="1066680"/>
            <a:ext cx="266688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 la Clínica  de un famoso cirujano Cardiólogo, entra la secretaria  al consultorio de este y le anuncia que un viejito, muy pobre, deseaba consultarle, recomendado por un medico del hospital públic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edico le dice que lo atenderá una vez que halla atendido a todos los clientes con órdenes médica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spués de dos horas de espera, el médico recibe al anciano y éste le explica la razón de su visi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
          <p:cNvSpPr/>
          <p:nvPr/>
        </p:nvSpPr>
        <p:spPr>
          <a:xfrm>
            <a:off x="5029200" y="1066680"/>
            <a:ext cx="266688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El médico del hospital público me ha  enviado a Ud. porque únicamente un medico de su prestigio podría  solucionar mi problema cardíaco y,  en su clínica poseen equipos suficientes como para llevar a cabo esta operació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676520" y="1143000"/>
            <a:ext cx="2819160" cy="350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ve los estudios y coincide con el colega del hospital. Le pregunta al viejito con que Obra Social se haría operar.- Este le contesta....... “Ahí está el problema Dr. Yo no tengo obra social y tampoco dinero. Como verá, soy muy pobre y para peor, sin familia..... lo que pido, se que es mucho, pero talvez entre sus colegas y Ud. puedan ayudar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4952880" y="1143000"/>
            <a:ext cx="25146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no lo dejó terminar la frase. Estaba indignado con su colega del hospital.- Lo envió de regreso con una nota explicándole que su  “Clínica era Privada y de mucho prestigio, por lo tanto no podía acceder a su pedido.-“  El había  estudiado y trabajado duro estos años para instalar su clínica y ganar  el prestigio y los bienes que tení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133720" y="3200400"/>
            <a:ext cx="2209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52480" y="1523880"/>
            <a:ext cx="266724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uando el anciano se retiró. El médico se percató que éste  había olvidado un carpeta con unas poesías y una frase suelta que le llamó mucho la atención. La frase decía “ El órgano que mejor habla es el corazón” y firmaba Jean Marcel.- Esta frase le gustó mucho al médico, pero lo que más le gustó fue el nombre del autor de la frase, Jean Marcel. </a:t>
            </a:r>
            <a:endParaRPr b="0" lang="en-US" sz="1600" spc="-1" strike="noStrike">
              <a:solidFill>
                <a:srgbClr val="000000"/>
              </a:solidFill>
              <a:latin typeface="Times New Roman"/>
            </a:endParaRPr>
          </a:p>
        </p:txBody>
      </p:sp>
      <p:sp>
        <p:nvSpPr>
          <p:cNvPr id="55" name=""/>
          <p:cNvSpPr/>
          <p:nvPr/>
        </p:nvSpPr>
        <p:spPr>
          <a:xfrm>
            <a:off x="4952880" y="1447920"/>
            <a:ext cx="25146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Le hacía recordar a su niñez y juventud, pues, en la primaria, la maestra les leía sus hermosos cuentos infantiles. En la secundaria, la profesora de Literatura les enseñaba bellísimas poesías y fue con una de ellas que, al dedicarle a una  de sus compañeras, se enamoró y  esta fue su primera  novi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Como olvidar todo eso si fue parte de lo mejor de su infa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334120" y="36576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52480" y="1143000"/>
            <a:ext cx="274320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la semana siguiente, al finalizar la jornada, la secretaria entro al consultorio con el periódico vespertino y compungida le dijo al médico,    "Se enteró Dr.?  Hoy encontraron muerto a Jean Marcel en un banco de la plaza, tenía 88 años el pobre”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suspiro de pena y contesto “ Hombres como él no deberían morir nunca, que Dios lo tenga en Paz, me hubiera gustado conocer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
          <p:cNvSpPr/>
          <p:nvPr/>
        </p:nvSpPr>
        <p:spPr>
          <a:xfrm>
            <a:off x="4876920" y="1143000"/>
            <a:ext cx="274320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Pero, ¡¡ como¡¡........no lo recuerda?” le dice la secretaria y mostrándole la fotografía del periódico le dice, “era el pobre viejito que vino la semana pasada a consultarle. Era un conocido escritor, solitario y bohemio. No tenía parientes  y...........”</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no la dejó terminar. Le pidió que se retire y sentándose con los brazos cruzados en el escritorio, lloró. Lloró  como nunca lo había  hecho, como el niño que llevaba escondido en su alm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5486400" y="342900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1676520" y="914400"/>
            <a:ext cx="281916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rgo tiempo estuvo en el silencio de su consultorio. Luego,  mientras secaba las lágrimas de su escritorio, sacó delicadamente la imagen de Cristo que estaba debajo del vidrio y, después de besarla, la guardo en un cajón mientras decía “Perdón Señor, no soy digno de ti, no soy digno de que me mires. Todo lo que tengo te lo debo. Me enviaste a un pobre y me habló con la voz del corazón. Yo lo escuche con el oído del egoísmo... mi vergüenza es grand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dóname Señor”</a:t>
            </a:r>
            <a:endParaRPr b="0" lang="en-US" sz="1600" spc="-1" strike="noStrike">
              <a:solidFill>
                <a:srgbClr val="000000"/>
              </a:solidFill>
              <a:latin typeface="Times New Roman"/>
            </a:endParaRPr>
          </a:p>
        </p:txBody>
      </p:sp>
      <p:sp>
        <p:nvSpPr>
          <p:cNvPr id="65" name=""/>
          <p:cNvSpPr/>
          <p:nvPr/>
        </p:nvSpPr>
        <p:spPr>
          <a:xfrm>
            <a:off x="4876920" y="990720"/>
            <a:ext cx="26668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 el correr de los años, la “Clínica Jean Marcel”, como  se denomina desde entonces, se hizo muy famosa –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 médico  habilitó un sector para la atención de los pacientes sin ordenes médicas y él personalmente practica las operaciones-</a:t>
            </a:r>
            <a:endParaRPr b="0" lang="en-US" sz="1600" spc="-1" strike="noStrike">
              <a:solidFill>
                <a:srgbClr val="000000"/>
              </a:solidFill>
              <a:latin typeface="Times New Roman"/>
            </a:endParaRPr>
          </a:p>
        </p:txBody>
      </p:sp>
      <p:sp>
        <p:nvSpPr>
          <p:cNvPr id="66"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600200" y="1981080"/>
            <a:ext cx="289548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uantas veces nos  habrá pasado  lo mismo a nosotros.   Nos han hablado con la voz del corazón y no hemos oído....   hemos sido egoístas con nuestros hermano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4800600" y="1981080"/>
            <a:ext cx="2819520" cy="311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idámosle a Dios que no nos pase como a este pobre médico...... que habiendo curado tantos corazones, no ha sabido “escuchar al suyo.....”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0" name=""/>
          <p:cNvSpPr/>
          <p:nvPr/>
        </p:nvSpPr>
        <p:spPr>
          <a:xfrm>
            <a:off x="3809880" y="6058080"/>
            <a:ext cx="14544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09880" y="6058080"/>
            <a:ext cx="1600200" cy="799920"/>
          </a:xfrm>
          <a:prstGeom prst="rect">
            <a:avLst/>
          </a:pr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2" name="Closebka" descr="">
            <a:hlinkClick r:id="rId1"/>
          </p:cNvPr>
          <p:cNvPicPr/>
          <p:nvPr/>
        </p:nvPicPr>
        <p:blipFill>
          <a:blip r:embed="rId2"/>
          <a:stretch/>
        </p:blipFill>
        <p:spPr>
          <a:xfrm>
            <a:off x="1981080" y="0"/>
            <a:ext cx="5153040" cy="6858000"/>
          </a:xfrm>
          <a:prstGeom prst="rect">
            <a:avLst/>
          </a:prstGeom>
          <a:ln w="0">
            <a:noFill/>
          </a:ln>
        </p:spPr>
      </p:pic>
      <p:sp>
        <p:nvSpPr>
          <p:cNvPr id="73" name=""/>
          <p:cNvSpPr/>
          <p:nvPr/>
        </p:nvSpPr>
        <p:spPr>
          <a:xfrm>
            <a:off x="2551680" y="2262240"/>
            <a:ext cx="46551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66"/>
                </a:solidFill>
                <a:latin typeface="Staccato222 BT"/>
              </a:rPr>
              <a:t>Que Dios nos bendiga</a:t>
            </a:r>
            <a:endParaRPr b="0" lang="en-US" sz="3400" spc="-1" strike="noStrike">
              <a:solidFill>
                <a:srgbClr val="000000"/>
              </a:solidFill>
              <a:latin typeface="Times New Roman"/>
            </a:endParaRPr>
          </a:p>
        </p:txBody>
      </p:sp>
      <p:sp>
        <p:nvSpPr>
          <p:cNvPr id="74" name=""/>
          <p:cNvSpPr/>
          <p:nvPr/>
        </p:nvSpPr>
        <p:spPr>
          <a:xfrm>
            <a:off x="4071240" y="4262400"/>
            <a:ext cx="26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Monotype Corsiva"/>
              </a:rPr>
              <a:t>Juan Primo-05/06</a:t>
            </a:r>
            <a:endParaRPr b="0" lang="en-US" sz="2400" spc="-1" strike="noStrike">
              <a:solidFill>
                <a:srgbClr val="000000"/>
              </a:solidFill>
              <a:latin typeface="Times New Roman"/>
            </a:endParaRPr>
          </a:p>
        </p:txBody>
      </p:sp>
    </p:spTree>
  </p:cSld>
  <p:transition spd="slow">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21:27:33Z</dcterms:created>
  <dc:creator>rociofiguerero@gigared.com</dc:creator>
  <dc:description/>
  <dc:language>en-US</dc:language>
  <cp:lastModifiedBy>ea</cp:lastModifiedBy>
  <dcterms:modified xsi:type="dcterms:W3CDTF">2006-06-22T16:32:18Z</dcterms:modified>
  <cp:revision>30</cp:revision>
  <dc:subject>Enseñanzas de Jesús</dc:subject>
  <dc:title>Jesus nos enseña a Orar</dc:title>
</cp:coreProperties>
</file>