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orm%20dol%C3%A7%20infant19%20NADALw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546-D919-4438-B034-3B3EF290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C8F-ECF4-4F22-9F30-9CFFBF7E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543-5AA0-46EC-9293-FE8F7427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501-637E-47A2-A523-6E14D9E9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E5D-4BF7-47F5-A471-E977CCAB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4F4-A637-42EE-8AEA-6E084342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F20-CDDF-4AB2-A6B5-F945F5DB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909-B18A-481B-94A7-FAD71E11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5C9-F9F9-4D3D-80D9-3E57A134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81B-2D84-43C4-AEAD-8887AD10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C08-AB70-4496-A80A-8BB187F3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DAA-8A00-4AFE-AFA1-254F944A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BDEF-2F8F-4EFB-9D69-36EC7D562F4F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rm%20dol&#231;%20infant19%20NADAL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152280" y="-66600"/>
            <a:ext cx="9296280" cy="700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10280" y="17928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ca-ES" sz="3200" spc="-1" strike="noStrike">
                <a:solidFill>
                  <a:srgbClr val="ffffff"/>
                </a:solidFill>
                <a:latin typeface="Comic Sans MS"/>
              </a:rPr>
              <a:t>Ciclo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990720"/>
            <a:ext cx="7904160" cy="109944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ffffff"/>
                </a:solidFill>
                <a:latin typeface="Comic Sans MS"/>
              </a:rPr>
              <a:t>Natividad de Jesú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5486400"/>
            <a:ext cx="7086600" cy="1130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  <a:ea typeface="Arial"/>
              </a:rPr>
              <a:t>ORATORIO DE NAVIDAD de J.S Bach. La música que estamos escuchando corresponde al Nº19 (9’20): </a:t>
            </a:r>
            <a:br>
              <a:rPr sz="2000"/>
            </a:br>
            <a:r>
              <a:rPr b="1" lang="ca-ES" sz="2800" spc="-1" strike="noStrike">
                <a:solidFill>
                  <a:srgbClr val="f7e647"/>
                </a:solidFill>
                <a:latin typeface="Arial"/>
                <a:ea typeface="Arial"/>
              </a:rPr>
              <a:t>“Duerme, dulce niño”</a:t>
            </a:r>
            <a:r>
              <a:rPr b="1" lang="es-ES" sz="2800" spc="-1" strike="noStrike">
                <a:solidFill>
                  <a:srgbClr val="f7e64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320040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ffff"/>
                </a:solidFill>
                <a:latin typeface="Comic Sans MS"/>
              </a:rPr>
              <a:t>Misa de la no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dorm%20dol%C3%A7%20infant19%20NADAL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981000"/>
            <a:ext cx="8443800" cy="423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s 9,1-3.5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pueblo que caminaba en tinieblas vio una luz grande; habitaban tierras       de sombras, y una luz les brill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reciste la alegría, aumentaste el gozo: se gozan en tu presenc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o gozan al segar, como se alegran al repartirse el botí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que la vara del opresor, el yugo de su carga, el bastón de su hombr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quebrantaste como el día de Madiá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que un niño nos ha nacido, un hijo se nos ha d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leva al hombro el principado, y es su nomb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ravilla de Consejero, Padre perpetuo, Príncipe de la pa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dilatar el principado con una paz sin límites, sobre el trono de Dav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sobre su re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sostenerlo y consolidarlo con la justicia y el derecho, desde ahor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y por siemp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celo del Señor lo realizar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066680"/>
            <a:ext cx="580392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180cff"/>
                </a:solidFill>
                <a:latin typeface="Comic Sans MS"/>
              </a:rPr>
              <a:t> </a:t>
            </a:r>
            <a:r>
              <a:rPr b="1" i="1" lang="es-ES_tradnl" sz="28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Hoy nos ha nacido un Salv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el Mesías, el Señor.</a:t>
            </a:r>
            <a:r>
              <a:rPr b="1" i="1" lang="es-ES" sz="2800" spc="-1" strike="noStrike">
                <a:solidFill>
                  <a:srgbClr val="180c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40080" y="4761000"/>
            <a:ext cx="7014240" cy="15562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180cff"/>
                </a:solidFill>
                <a:latin typeface="Comic Sans MS"/>
              </a:rPr>
              <a:t> </a:t>
            </a:r>
            <a:r>
              <a:rPr b="0" i="1" lang="es-ES_tradnl" sz="32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Cantad al Señor un cántico nuev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cantad al Señor, toda la tier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cantad al Señor, bendecid su nom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5720" y="152280"/>
            <a:ext cx="229716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000000"/>
                </a:solidFill>
                <a:latin typeface="Comic Sans MS"/>
              </a:rPr>
              <a:t>Salmo</a:t>
            </a:r>
            <a:r>
              <a:rPr b="1" i="1" lang="ca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609480"/>
            <a:ext cx="580392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_tradnl" sz="28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Hoy nos ha nacido un Salv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el Mesías, el Señ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3400" y="5105520"/>
            <a:ext cx="5822640" cy="1434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ES_tradnl" sz="2800" spc="-1" strike="noStrike">
                <a:solidFill>
                  <a:srgbClr val="1c36ff"/>
                </a:solidFill>
                <a:latin typeface="Comic Sans MS"/>
                <a:ea typeface="Times New Roman"/>
              </a:rPr>
              <a:t>Proclamad día tras día su victo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1c36ff"/>
                </a:solidFill>
                <a:latin typeface="Comic Sans MS"/>
                <a:ea typeface="Times New Roman"/>
              </a:rPr>
              <a:t>Contad a los pueblos su glor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1c36ff"/>
                </a:solidFill>
                <a:latin typeface="Comic Sans MS"/>
                <a:ea typeface="Times New Roman"/>
              </a:rPr>
              <a:t>sus maravillas a todas las n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52280"/>
            <a:ext cx="5803920" cy="9471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oy nos ha nacido un Salv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Mesías, el Señ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651040"/>
            <a:ext cx="6324840" cy="2226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Alégrese el cielo, goce la tierr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retumbe el mar y cuanto lo llen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itoreen los campos </a:t>
            </a:r>
            <a:br>
              <a:rPr sz="2800"/>
            </a:b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y cuanto hay en ell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aclamen los árboles del bos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-1225440"/>
            <a:ext cx="9144000" cy="897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152280"/>
            <a:ext cx="580392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1c36ff"/>
                </a:solidFill>
                <a:latin typeface="Comic Sans MS"/>
              </a:rPr>
              <a:t> </a:t>
            </a: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Hoy nos ha nacido un Salv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Mesías, el Señ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5867280"/>
            <a:ext cx="5486400" cy="794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lante del Señor, que ya llega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a llega a regir la tier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990720"/>
            <a:ext cx="8077320" cy="3872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Segunda lectura </a:t>
            </a:r>
            <a:r>
              <a:rPr b="1" i="1" lang="ca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t 2,11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parecido la gracia de Dios,que trae la salvación para todos los hombres; enseñándonos a renunciar a la vida sin religión  y a llevar ya desde ahora una vida sobria, honrada y religiosa, aguardando la dicha que esperamos: la aparición gloriosa de nuestro Salvador: Jesucristo.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se entregó para preparar un pueblo purificado, dedicado a las buenas ob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403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ucas    2,  1‑14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 aquellos días salió un decreto del emperador Augusto, ordenando hacer un censo del mundo ent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ste fue el primer censo que se hizo siendo Cirino gobernador de Siria. Y todos iban a inscribirse, cada cual a su ciu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mbién José, que era de la casa y familia de David, subió desde la ciudad de Nazaret en Galilea a la ciudad de David, que se llama Belén, para inscribirse con su esposa María, que estaba encinta. Y mientras estaban allí le llegó el tiempo del parto y dio a luz a su hijo primogénito, lo envolvió en pañales y lo acostó en un pesebre, porque no tenían sitio en la pos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 aquella región había unos pastores que pasaban la noche al aire libre, velando por turno su reba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 un ángel del Señor se les presentó: la gloria del Señor los envolvió de claridad y se llenaron de gran temor.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l ángel les dij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—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o temáis, os traigo la buena noticia, la gran alegría para todo el pueblo: hoy, en la ciudad de David, os ha nacido un Salvador: el Mesías, el Señor. Y aquí tenéis la señal: encontraréis un niño envuelto en pañales y acostado en un peseb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 pronto, en torno al ángel, apareció una legión del ejército celestial, que alababa a Dios, dicie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loria a Dios en el ciel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 en la tierra paz a los hombres que Dios 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11960" y="640080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Belén. Cueva del na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0T17:49:56Z</dcterms:created>
  <dc:creator>JOAN RAMIREZ</dc:creator>
  <dc:description/>
  <dc:language>en-US</dc:language>
  <cp:lastModifiedBy>Usuario</cp:lastModifiedBy>
  <dcterms:modified xsi:type="dcterms:W3CDTF">2009-12-21T14:50:26Z</dcterms:modified>
  <cp:revision>20</cp:revision>
  <dc:subject/>
  <dc:title>Presentación de PowerPoint</dc:title>
</cp:coreProperties>
</file>