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FEF-3C27-45BE-A65F-61A43912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2D4-1B4A-4802-81BF-864B5393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E17-7153-4216-B296-15A476E8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2C4-11B4-4163-AD9E-9EFA4FD3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1FD-621C-4443-9792-0819A164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953-8269-4C21-AAD4-55D8673B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367-74F3-416F-92E7-8870ACDC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D19-D1D8-4950-B209-18E0392E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94C-520C-48BD-A3E8-8807473F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927-5809-4ABE-84CE-84C3DE40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42C-9716-4165-B65F-6796FA8C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B2C-1ED1-48FE-9E2A-9CFD878C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BD62-111E-450B-AB44-6276C97BE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OTOS INSOLIT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ERNAN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Tuesday, 11 de December de 2007"/>
          <p:cNvPicPr/>
          <p:nvPr/>
        </p:nvPicPr>
        <p:blipFill>
          <a:blip r:embed="rId1"/>
          <a:stretch/>
        </p:blipFill>
        <p:spPr>
          <a:xfrm>
            <a:off x="3059280" y="3068640"/>
            <a:ext cx="32032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emporary_insanity_2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balkan-tv"/>
          <p:cNvPicPr/>
          <p:nvPr/>
        </p:nvPicPr>
        <p:blipFill>
          <a:blip r:embed="rId1"/>
          <a:stretch/>
        </p:blipFill>
        <p:spPr>
          <a:xfrm>
            <a:off x="1808280" y="0"/>
            <a:ext cx="5527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00288_1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onnaiss"/>
          <p:cNvPicPr/>
          <p:nvPr/>
        </p:nvPicPr>
        <p:blipFill>
          <a:blip r:embed="rId1"/>
          <a:stretch/>
        </p:blipFill>
        <p:spPr>
          <a:xfrm>
            <a:off x="1649520" y="0"/>
            <a:ext cx="584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oot_2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ndonesia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thaila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ic30106_1"/>
          <p:cNvPicPr/>
          <p:nvPr/>
        </p:nvPicPr>
        <p:blipFill>
          <a:blip r:embed="rId1"/>
          <a:stretch/>
        </p:blipFill>
        <p:spPr>
          <a:xfrm>
            <a:off x="2327400" y="0"/>
            <a:ext cx="448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kingkong"/>
          <p:cNvPicPr/>
          <p:nvPr/>
        </p:nvPicPr>
        <p:blipFill>
          <a:blip r:embed="rId1"/>
          <a:stretch/>
        </p:blipFill>
        <p:spPr>
          <a:xfrm>
            <a:off x="228600" y="69840"/>
            <a:ext cx="8763120" cy="67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otocros"/>
          <p:cNvPicPr/>
          <p:nvPr/>
        </p:nvPicPr>
        <p:blipFill>
          <a:blip r:embed="rId1"/>
          <a:stretch/>
        </p:blipFill>
        <p:spPr>
          <a:xfrm>
            <a:off x="914400" y="27000"/>
            <a:ext cx="731520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056-1-S095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ouch"/>
          <p:cNvPicPr/>
          <p:nvPr/>
        </p:nvPicPr>
        <p:blipFill>
          <a:blip r:embed="rId1"/>
          <a:stretch/>
        </p:blipFill>
        <p:spPr>
          <a:xfrm>
            <a:off x="685800" y="34920"/>
            <a:ext cx="784872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ic01842_1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08942_1"/>
          <p:cNvPicPr/>
          <p:nvPr/>
        </p:nvPicPr>
        <p:blipFill>
          <a:blip r:embed="rId1"/>
          <a:stretch/>
        </p:blipFill>
        <p:spPr>
          <a:xfrm>
            <a:off x="762120" y="14400"/>
            <a:ext cx="769608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ic09040_1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ic22648_1"/>
          <p:cNvPicPr/>
          <p:nvPr/>
        </p:nvPicPr>
        <p:blipFill>
          <a:blip r:embed="rId1"/>
          <a:stretch/>
        </p:blipFill>
        <p:spPr>
          <a:xfrm>
            <a:off x="19191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ic27446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ic24464-jpg_5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452520"/>
            <a:ext cx="9144000" cy="5952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056-2-S0955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62000" y="0"/>
            <a:ext cx="8820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2840" y="0"/>
            <a:ext cx="9056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23760"/>
            <a:ext cx="9144000" cy="680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996920" y="0"/>
            <a:ext cx="5150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366840"/>
            <a:ext cx="9144000" cy="612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77760"/>
            <a:ext cx="9144000" cy="670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84520" y="0"/>
            <a:ext cx="5573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592280" y="0"/>
            <a:ext cx="59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994040" y="0"/>
            <a:ext cx="5154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056-3-S0955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31920" y="0"/>
            <a:ext cx="8478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34920"/>
            <a:ext cx="9144000" cy="678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0019229"/>
          <p:cNvPicPr/>
          <p:nvPr/>
        </p:nvPicPr>
        <p:blipFill>
          <a:blip r:embed="rId1"/>
          <a:stretch/>
        </p:blipFill>
        <p:spPr>
          <a:xfrm>
            <a:off x="685800" y="533520"/>
            <a:ext cx="772488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0019243"/>
          <p:cNvPicPr/>
          <p:nvPr/>
        </p:nvPicPr>
        <p:blipFill>
          <a:blip r:embed="rId1"/>
          <a:stretch/>
        </p:blipFill>
        <p:spPr>
          <a:xfrm>
            <a:off x="1600200" y="1219320"/>
            <a:ext cx="62485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0019246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0019248"/>
          <p:cNvPicPr/>
          <p:nvPr/>
        </p:nvPicPr>
        <p:blipFill>
          <a:blip r:embed="rId1"/>
          <a:stretch/>
        </p:blipFill>
        <p:spPr>
          <a:xfrm>
            <a:off x="914400" y="1047600"/>
            <a:ext cx="73152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0019300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00"/>
            </a:gs>
            <a:gs pos="5000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0019314"/>
          <p:cNvPicPr/>
          <p:nvPr/>
        </p:nvPicPr>
        <p:blipFill>
          <a:blip r:embed="rId1"/>
          <a:stretch/>
        </p:blipFill>
        <p:spPr>
          <a:xfrm>
            <a:off x="762120" y="1014480"/>
            <a:ext cx="76197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056-5-S0955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47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0019316"/>
          <p:cNvPicPr/>
          <p:nvPr/>
        </p:nvPicPr>
        <p:blipFill>
          <a:blip r:embed="rId1"/>
          <a:stretch/>
        </p:blipFill>
        <p:spPr>
          <a:xfrm>
            <a:off x="2728800" y="905040"/>
            <a:ext cx="368640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6934"/>
            </a:gs>
            <a:gs pos="50000">
              <a:srgbClr val="ffcc66"/>
            </a:gs>
            <a:gs pos="100000">
              <a:srgbClr val="8369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LOZKO"/>
          <p:cNvPicPr/>
          <p:nvPr/>
        </p:nvPicPr>
        <p:blipFill>
          <a:blip r:embed="rId1"/>
          <a:stretch/>
        </p:blipFill>
        <p:spPr>
          <a:xfrm>
            <a:off x="1714680" y="1433520"/>
            <a:ext cx="5715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b5b5"/>
            </a:gs>
            <a:gs pos="50000">
              <a:srgbClr val="ccffff"/>
            </a:gs>
            <a:gs pos="100000">
              <a:srgbClr val="91b5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0019348"/>
          <p:cNvPicPr/>
          <p:nvPr/>
        </p:nvPicPr>
        <p:blipFill>
          <a:blip r:embed="rId1"/>
          <a:stretch/>
        </p:blipFill>
        <p:spPr>
          <a:xfrm>
            <a:off x="1000080" y="847800"/>
            <a:ext cx="71438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f00"/>
            </a:gs>
            <a:gs pos="50000">
              <a:srgbClr val="00ff00"/>
            </a:gs>
            <a:gs pos="100000">
              <a:srgbClr val="008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IN DE LAS FO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HORA RETORNA A LA VI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ERNAN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Tuesday, 11 de December de 2007"/>
          <p:cNvPicPr/>
          <p:nvPr/>
        </p:nvPicPr>
        <p:blipFill>
          <a:blip r:embed="rId1"/>
          <a:stretch/>
        </p:blipFill>
        <p:spPr>
          <a:xfrm>
            <a:off x="3708360" y="765000"/>
            <a:ext cx="1716120" cy="15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056-7-S0955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056-8-S0955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056-6-S095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56-4-S095529"/>
          <p:cNvPicPr/>
          <p:nvPr/>
        </p:nvPicPr>
        <p:blipFill>
          <a:blip r:embed="rId1"/>
          <a:stretch/>
        </p:blipFill>
        <p:spPr>
          <a:xfrm>
            <a:off x="1563840" y="0"/>
            <a:ext cx="601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07:07:47Z</dcterms:created>
  <dc:creator>Burlot Olivier</dc:creator>
  <dc:description/>
  <dc:language>en-US</dc:language>
  <cp:lastModifiedBy>Fernando</cp:lastModifiedBy>
  <dcterms:modified xsi:type="dcterms:W3CDTF">2011-02-04T13:00:41Z</dcterms:modified>
  <cp:revision>3</cp:revision>
  <dc:subject/>
  <dc:title>Insolite et drôle</dc:title>
</cp:coreProperties>
</file>