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0.jpeg" ContentType="image/jpeg"/>
  <Override PartName="/ppt/media/Panfluit%2012.wav" ContentType="audio/x-wav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D4C-511D-491F-AA43-4D6CEB16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934-5878-48B9-A794-05BE0FF1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9BE-2810-4235-AEA3-3B573779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2EF-F3D4-4501-8499-4112BF62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982-9550-44DA-9602-84EE231F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69A-3305-4C4E-85D9-6BB08DC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744-9064-4225-B0D6-86F82E63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64D-83E2-4B54-8EBA-04100EBE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64B-3C1C-4378-B48A-B739283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B24-406D-49A0-8670-FD32E1A3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977-B4CE-459C-91AB-378CD2B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28F-BED9-4EEB-B436-F9FBD07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FA1D-0489-4DFF-860F-DD41121F8C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nfluit%2012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1238400" y="3456000"/>
            <a:ext cx="5662440" cy="190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298600" y="4095720"/>
            <a:ext cx="5686560" cy="3219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928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Can anything made by man, even get close to beauty of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Maybe the mus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4 Rectángulo"/>
          <p:cNvSpPr/>
          <p:nvPr/>
        </p:nvSpPr>
        <p:spPr>
          <a:xfrm>
            <a:off x="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9</a:t>
            </a: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.- Dream more while you are awa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4 Rectángulo"/>
          <p:cNvSpPr/>
          <p:nvPr/>
        </p:nvSpPr>
        <p:spPr>
          <a:xfrm>
            <a:off x="0" y="540864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0.- Eat more natural foods than manufactured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7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4 Rectángulo"/>
          <p:cNvSpPr/>
          <p:nvPr/>
        </p:nvSpPr>
        <p:spPr>
          <a:xfrm>
            <a:off x="5867280" y="0"/>
            <a:ext cx="32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1.- Eat berries and nuts and drink green tea, lots of water and a glass of wine each day (make sure to make a toast to the bounty in your life, and do it with someone whose company you lo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76720" y="5714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12.- Try each day to make at least three people s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4 Rectángulo"/>
          <p:cNvSpPr/>
          <p:nvPr/>
        </p:nvSpPr>
        <p:spPr>
          <a:xfrm>
            <a:off x="6934320" y="357120"/>
            <a:ext cx="1995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3.- Eliminate disorder in your home, your car and your des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nd let new energy flow into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4 Rectángulo"/>
          <p:cNvSpPr/>
          <p:nvPr/>
        </p:nvSpPr>
        <p:spPr>
          <a:xfrm>
            <a:off x="6095880" y="0"/>
            <a:ext cx="304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4. Don’t waste your precious time gossiping or regretting the past or in negative thoughts or  in worrying about things beyond your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etter to convert your energy in that what is positive in the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0" y="5759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5. Realize that life is a school and that you are here to learn.  Problems are life lessons from which you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4 Rectángulo"/>
          <p:cNvSpPr/>
          <p:nvPr/>
        </p:nvSpPr>
        <p:spPr>
          <a:xfrm>
            <a:off x="4191120" y="548496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6. Eat breakfast like a king, lunch like a princ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inner like a beg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4 Rectángulo"/>
          <p:cNvSpPr/>
          <p:nvPr/>
        </p:nvSpPr>
        <p:spPr>
          <a:xfrm>
            <a:off x="5715000" y="28584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7. Smile and laug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4 Rectángulo"/>
          <p:cNvSpPr/>
          <p:nvPr/>
        </p:nvSpPr>
        <p:spPr>
          <a:xfrm>
            <a:off x="6248520" y="285840"/>
            <a:ext cx="253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8.- Don’t miss any opportunity to hug somebody you appre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940360" y="63817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R.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Rectángulo"/>
          <p:cNvSpPr/>
          <p:nvPr/>
        </p:nvSpPr>
        <p:spPr>
          <a:xfrm>
            <a:off x="2286000" y="21420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40 pieces of adi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Rectángulo"/>
          <p:cNvSpPr/>
          <p:nvPr/>
        </p:nvSpPr>
        <p:spPr>
          <a:xfrm>
            <a:off x="0" y="563724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alk 10 to 30 minutes every day.  And  smile while you wal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Panfluit%20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4 Rectángulo"/>
          <p:cNvSpPr/>
          <p:nvPr/>
        </p:nvSpPr>
        <p:spPr>
          <a:xfrm>
            <a:off x="5562720" y="74520"/>
            <a:ext cx="329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9.- Life is too short to waste it by hating some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4 Rectángulo"/>
          <p:cNvSpPr/>
          <p:nvPr/>
        </p:nvSpPr>
        <p:spPr>
          <a:xfrm>
            <a:off x="228600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0.- Don’t take yourself too seriously – no one else do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4 Rectángulo"/>
          <p:cNvSpPr/>
          <p:nvPr/>
        </p:nvSpPr>
        <p:spPr>
          <a:xfrm>
            <a:off x="228600" y="54100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1.- You don’t have to win every argument.  Just accept that you are not in agreement and that you can agree to dis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4 Rectángulo"/>
          <p:cNvSpPr/>
          <p:nvPr/>
        </p:nvSpPr>
        <p:spPr>
          <a:xfrm>
            <a:off x="6934320" y="214200"/>
            <a:ext cx="19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2. Make peace with your past so you won’t ruin your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4 Rectángulo"/>
          <p:cNvSpPr/>
          <p:nvPr/>
        </p:nvSpPr>
        <p:spPr>
          <a:xfrm>
            <a:off x="0" y="0"/>
            <a:ext cx="541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3.- Don’t compare yourself with others.  For always there will be greater and lesser persons than yourself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4 Rectángulo"/>
          <p:cNvSpPr/>
          <p:nvPr/>
        </p:nvSpPr>
        <p:spPr>
          <a:xfrm>
            <a:off x="0" y="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99"/>
                </a:solidFill>
                <a:latin typeface="Arial"/>
              </a:rPr>
              <a:t>24.- Only YOU are in charge of your own happ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25.- Remember that you don’t always have control over what happens, but you do have control over what you do with th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4 Rectángulo"/>
          <p:cNvSpPr/>
          <p:nvPr/>
        </p:nvSpPr>
        <p:spPr>
          <a:xfrm>
            <a:off x="357120" y="214200"/>
            <a:ext cx="299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6.- Learn something new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0" y="0"/>
            <a:ext cx="304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27.- What other people think of you is of no concern to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4 Rectángulo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8.- Love your body and resp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4 Rectángulo"/>
          <p:cNvSpPr/>
          <p:nvPr/>
        </p:nvSpPr>
        <p:spPr>
          <a:xfrm>
            <a:off x="285840" y="5484960"/>
            <a:ext cx="521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Sit in silence for at least 10 minutes every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ck yourself in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>
            <a:off x="0" y="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29.- No matter how good or bad the situation is, it wil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334120" y="4191120"/>
            <a:ext cx="3504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0.- Your work will not take care of you when you are sick. Your friends will!  Stay on good terms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4 Rectángulo"/>
          <p:cNvSpPr/>
          <p:nvPr/>
        </p:nvSpPr>
        <p:spPr>
          <a:xfrm>
            <a:off x="5181480" y="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1.- Get rid of everything that is not useful, beautiful or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4 Rectángulo"/>
          <p:cNvSpPr/>
          <p:nvPr/>
        </p:nvSpPr>
        <p:spPr>
          <a:xfrm>
            <a:off x="214200" y="0"/>
            <a:ext cx="207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2.- Envy is a waste of time.  You already have everything you will ever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4 Rectángulo"/>
          <p:cNvSpPr/>
          <p:nvPr/>
        </p:nvSpPr>
        <p:spPr>
          <a:xfrm>
            <a:off x="2133720" y="5562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3.- The best is yet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4 Rectángul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34. No matter how you feel, get up, get dressed and b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4 Rectángulo"/>
          <p:cNvSpPr/>
          <p:nvPr/>
        </p:nvSpPr>
        <p:spPr>
          <a:xfrm>
            <a:off x="5715000" y="471492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5.- Have wonderful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4 Rectángulo"/>
          <p:cNvSpPr/>
          <p:nvPr/>
        </p:nvSpPr>
        <p:spPr>
          <a:xfrm>
            <a:off x="6172200" y="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6.- Call your family often and send them messages saying that you are thinking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4 Rectángulo"/>
          <p:cNvSpPr/>
          <p:nvPr/>
        </p:nvSpPr>
        <p:spPr>
          <a:xfrm>
            <a:off x="0" y="5334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7.- Every night before going to bed, say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I give thanks f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Today I succeeded in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4 Rectángulo"/>
          <p:cNvSpPr/>
          <p:nvPr/>
        </p:nvSpPr>
        <p:spPr>
          <a:xfrm>
            <a:off x="0" y="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8.- Remember that you are too blessed to be st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4 Rectángulo"/>
          <p:cNvSpPr/>
          <p:nvPr/>
        </p:nvSpPr>
        <p:spPr>
          <a:xfrm>
            <a:off x="5486400" y="50292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. Listen to good music every day: it is true food for the spi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9.- Enjoy life – you only have one opportunity, make the best of if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40.- Send this message to someone you car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907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Life is beautiful – enjoy it while you ca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4 Rectángulo"/>
          <p:cNvSpPr/>
          <p:nvPr/>
        </p:nvSpPr>
        <p:spPr>
          <a:xfrm>
            <a:off x="0" y="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May you have a wonderful day my fri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4 Rectángulo"/>
          <p:cNvSpPr/>
          <p:nvPr/>
        </p:nvSpPr>
        <p:spPr>
          <a:xfrm>
            <a:off x="380880" y="450864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4. When you wake up each morning, say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Today my goal is _______________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4 Rectángulo"/>
          <p:cNvSpPr/>
          <p:nvPr/>
        </p:nvSpPr>
        <p:spPr>
          <a:xfrm>
            <a:off x="0" y="3049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5.- Live with the 3 E’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nthusiasm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4 Rectángulo"/>
          <p:cNvSpPr/>
          <p:nvPr/>
        </p:nvSpPr>
        <p:spPr>
          <a:xfrm>
            <a:off x="266688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. Play more games t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4 Rectángulo"/>
          <p:cNvSpPr/>
          <p:nvPr/>
        </p:nvSpPr>
        <p:spPr>
          <a:xfrm>
            <a:off x="5867280" y="50004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7.- Rea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books than 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4 Rectángulo"/>
          <p:cNvSpPr/>
          <p:nvPr/>
        </p:nvSpPr>
        <p:spPr>
          <a:xfrm>
            <a:off x="6248520" y="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8.- Look at the sky at least once a day and realize in what magnificent world you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4:20:45Z</dcterms:created>
  <dc:creator>K &amp; K</dc:creator>
  <dc:description/>
  <dc:language>en-US</dc:language>
  <cp:lastModifiedBy>Robert</cp:lastModifiedBy>
  <dcterms:modified xsi:type="dcterms:W3CDTF">2011-06-03T20:15:58Z</dcterms:modified>
  <cp:revision>27</cp:revision>
  <dc:subject/>
  <dc:title>Neat</dc:title>
</cp:coreProperties>
</file>