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0.jpeg" ContentType="image/jpeg"/>
  <Override PartName="/ppt/media/Panfluit%2012.wav" ContentType="audio/x-wav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95F-C133-4480-A38F-2549D875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A45-840D-47FB-B513-C1167020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E74-44DA-4882-AB09-EC23E4CD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ED9-6B3C-41CA-8177-3FE05DB3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106-0272-4816-B1FB-460632B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0BF-57BA-4F04-A107-78E68DDF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1C0-13F7-4B0A-9A09-DE74FC16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27D-CE98-40E6-AF36-0DA1D9D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D3A-6F4C-4673-A2A7-9CA24D68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0F3-FC2A-4A5F-A9F3-765951F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7F0-7029-4DEB-B934-50F9510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8C6-E9B3-4C49-9074-4904B3F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EF6-92B1-43DB-938A-D84B3C84A0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4 Rectángulo"/>
          <p:cNvSpPr/>
          <p:nvPr/>
        </p:nvSpPr>
        <p:spPr>
          <a:xfrm>
            <a:off x="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9</a:t>
            </a: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.- Dream more while you are awak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4 Rectángulo"/>
          <p:cNvSpPr/>
          <p:nvPr/>
        </p:nvSpPr>
        <p:spPr>
          <a:xfrm>
            <a:off x="0" y="540864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0.- Eat more natural foods than manufactured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7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4 Rectángulo"/>
          <p:cNvSpPr/>
          <p:nvPr/>
        </p:nvSpPr>
        <p:spPr>
          <a:xfrm>
            <a:off x="5867280" y="0"/>
            <a:ext cx="32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1.- Eat berries and nuts and drink green tea, lots of water and a glass of wine each day (make sure to make a toast to the bounty in your life, and do it with someone whose company you l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76720" y="571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12.- Try each day to make at least three people s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4 Rectángulo"/>
          <p:cNvSpPr/>
          <p:nvPr/>
        </p:nvSpPr>
        <p:spPr>
          <a:xfrm>
            <a:off x="6934320" y="357120"/>
            <a:ext cx="1995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3.- Eliminate disorder in your home, your car and your des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d let new energy flow into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4 Rectángulo"/>
          <p:cNvSpPr/>
          <p:nvPr/>
        </p:nvSpPr>
        <p:spPr>
          <a:xfrm>
            <a:off x="6095880" y="0"/>
            <a:ext cx="304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4. Don’t waste your precious time gossiping or regretting the past or in negative thoughts or  in worrying about things beyond your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etter to convert your energy in that what is positive in th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0" y="5759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5. Realize that life is a school and that you are here to learn.  Problems are life lessons from which you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4 Rectángulo"/>
          <p:cNvSpPr/>
          <p:nvPr/>
        </p:nvSpPr>
        <p:spPr>
          <a:xfrm>
            <a:off x="4191120" y="548496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6. Eat breakfast like a king, lunch like a princ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inner like a beg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4 Rectángulo"/>
          <p:cNvSpPr/>
          <p:nvPr/>
        </p:nvSpPr>
        <p:spPr>
          <a:xfrm>
            <a:off x="5715000" y="28584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7. Smile and laug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4 Rectángulo"/>
          <p:cNvSpPr/>
          <p:nvPr/>
        </p:nvSpPr>
        <p:spPr>
          <a:xfrm>
            <a:off x="6248520" y="285840"/>
            <a:ext cx="253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8.- Don’t miss any opportunity to hug somebody you appre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Rectángulo"/>
          <p:cNvSpPr/>
          <p:nvPr/>
        </p:nvSpPr>
        <p:spPr>
          <a:xfrm>
            <a:off x="2286000" y="2142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Arial"/>
              </a:rPr>
              <a:t>40 pieces of adi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Rectángulo"/>
          <p:cNvSpPr/>
          <p:nvPr/>
        </p:nvSpPr>
        <p:spPr>
          <a:xfrm>
            <a:off x="0" y="563724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alk 10 to 30 minutes every day.  And  smile while you wal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4 Rectángulo"/>
          <p:cNvSpPr/>
          <p:nvPr/>
        </p:nvSpPr>
        <p:spPr>
          <a:xfrm>
            <a:off x="5562720" y="7452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19.- Life is too short to waste it by hating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4 Rectángulo"/>
          <p:cNvSpPr/>
          <p:nvPr/>
        </p:nvSpPr>
        <p:spPr>
          <a:xfrm>
            <a:off x="228600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0.- Don’t take yourself too seriously – no one else do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228600" y="54100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1.- You don’t have to win every argument.  Just accept that you are not in agreement and that you can 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4 Rectángulo"/>
          <p:cNvSpPr/>
          <p:nvPr/>
        </p:nvSpPr>
        <p:spPr>
          <a:xfrm>
            <a:off x="6934320" y="214200"/>
            <a:ext cx="19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2. Make peace with your past so you won’t ruin your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4 Rectángulo"/>
          <p:cNvSpPr/>
          <p:nvPr/>
        </p:nvSpPr>
        <p:spPr>
          <a:xfrm>
            <a:off x="0" y="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3.- Don’t compare yourself with others.  For always there will be greater and lesser persons than yourself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4 Rectángulo"/>
          <p:cNvSpPr/>
          <p:nvPr/>
        </p:nvSpPr>
        <p:spPr>
          <a:xfrm>
            <a:off x="0" y="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ff99"/>
                </a:solidFill>
                <a:latin typeface="Arial"/>
              </a:rPr>
              <a:t>24.- Only YOU are in charge of your own 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-360" y="342864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25.- Remember that you don’t always have control over what happens, but you do have control over what you do with th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4 Rectángulo"/>
          <p:cNvSpPr/>
          <p:nvPr/>
        </p:nvSpPr>
        <p:spPr>
          <a:xfrm>
            <a:off x="357120" y="214200"/>
            <a:ext cx="29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6.- Learn something new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0" y="0"/>
            <a:ext cx="304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27.- What other people think of you is of no concern to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4 Rectángulo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28.- Love your body and resp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4 Rectángulo"/>
          <p:cNvSpPr/>
          <p:nvPr/>
        </p:nvSpPr>
        <p:spPr>
          <a:xfrm>
            <a:off x="285840" y="5484960"/>
            <a:ext cx="521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Sit in silence for at least 10 minutes every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ck yourself in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>
            <a:off x="0" y="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29.- No matter how good or bad the situation is, it wil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334120" y="4191120"/>
            <a:ext cx="3504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0.- Your work will not take care of you when you are sick. Your friends will!  Stay on good terms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4 Rectángulo"/>
          <p:cNvSpPr/>
          <p:nvPr/>
        </p:nvSpPr>
        <p:spPr>
          <a:xfrm>
            <a:off x="5181480" y="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1.- Get rid of everything that is not useful, beautiful or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4 Rectángulo"/>
          <p:cNvSpPr/>
          <p:nvPr/>
        </p:nvSpPr>
        <p:spPr>
          <a:xfrm>
            <a:off x="214200" y="0"/>
            <a:ext cx="207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2.- Envy is a waste of time.  You already have everything you will ever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4 Rectángulo"/>
          <p:cNvSpPr/>
          <p:nvPr/>
        </p:nvSpPr>
        <p:spPr>
          <a:xfrm>
            <a:off x="213372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3.- The best is yet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4 Rectángulo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34. No matter how you feel, get up, get dressed and be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4 Rectángulo"/>
          <p:cNvSpPr/>
          <p:nvPr/>
        </p:nvSpPr>
        <p:spPr>
          <a:xfrm>
            <a:off x="5715000" y="471492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5.- Have wonderful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4 Rectángulo"/>
          <p:cNvSpPr/>
          <p:nvPr/>
        </p:nvSpPr>
        <p:spPr>
          <a:xfrm>
            <a:off x="6172200" y="0"/>
            <a:ext cx="297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6.- Call your family often and send them messages saying that you are thinking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4 Rectángulo"/>
          <p:cNvSpPr/>
          <p:nvPr/>
        </p:nvSpPr>
        <p:spPr>
          <a:xfrm>
            <a:off x="0" y="5334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7.- Every night before going to bed, say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I give thanks for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Today I succeeded in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4 Rectángulo"/>
          <p:cNvSpPr/>
          <p:nvPr/>
        </p:nvSpPr>
        <p:spPr>
          <a:xfrm>
            <a:off x="0" y="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38.- Remember that you are too blessed to be st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4 Rectángulo"/>
          <p:cNvSpPr/>
          <p:nvPr/>
        </p:nvSpPr>
        <p:spPr>
          <a:xfrm>
            <a:off x="5486400" y="50292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. Listen to good music every day: it is true food for the spi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39.- Enjoy life – you only have one opportunity, make the best of i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40.- Send this message to someone you car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907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ife is beautiful – enjoy it while you ca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4 Rectángulo"/>
          <p:cNvSpPr/>
          <p:nvPr/>
        </p:nvSpPr>
        <p:spPr>
          <a:xfrm>
            <a:off x="0" y="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ff99"/>
                </a:solidFill>
                <a:latin typeface="Arial"/>
              </a:rPr>
              <a:t>May you have a wonderful day my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4 Rectángulo"/>
          <p:cNvSpPr/>
          <p:nvPr/>
        </p:nvSpPr>
        <p:spPr>
          <a:xfrm>
            <a:off x="380880" y="450864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4. When you wake up each morning, say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Today my goal is _______________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4 Rectángulo"/>
          <p:cNvSpPr/>
          <p:nvPr/>
        </p:nvSpPr>
        <p:spPr>
          <a:xfrm>
            <a:off x="0" y="3049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5.- Live with the 3 E’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nthusiasm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4 Rectángulo"/>
          <p:cNvSpPr/>
          <p:nvPr/>
        </p:nvSpPr>
        <p:spPr>
          <a:xfrm>
            <a:off x="266688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 Play more games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4 Rectángulo"/>
          <p:cNvSpPr/>
          <p:nvPr/>
        </p:nvSpPr>
        <p:spPr>
          <a:xfrm>
            <a:off x="5867280" y="50004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7.- Rea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books than 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4 Rectángulo"/>
          <p:cNvSpPr/>
          <p:nvPr/>
        </p:nvSpPr>
        <p:spPr>
          <a:xfrm>
            <a:off x="6248520" y="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Arial"/>
              </a:rPr>
              <a:t>8.- Look at the sky at least once a day and realize in what magnificent world you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Robert</cp:lastModifiedBy>
  <dcterms:modified xsi:type="dcterms:W3CDTF">2011-06-03T20:15:58Z</dcterms:modified>
  <cp:revision>27</cp:revision>
  <dc:subject/>
  <dc:title>Neat</dc:title>
</cp:coreProperties>
</file>