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29.jpeg" ContentType="image/jpeg"/>
  <Override PartName="/ppt/media/image1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Titanic,%20Andr%C3%A9%20Rieu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D8EC-45DE-4902-905F-87431A0C1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D6A9-A712-4E9C-8706-8CD6665A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7EB8-A07E-497B-B226-633431BDB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50AB-CE10-4C4D-9E92-DAA59EF65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F6FF-213F-4662-AC16-66AF29AC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3CC3-3386-4678-86F0-C13FFEDB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889A-B9DC-419C-AC7B-734ED37A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5E8D-55F0-4D49-9B3B-29B6EB5D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4D75-3926-4E84-8E3E-70EF4A87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03A3-9EC3-472C-AB01-896CDE6A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C1C6-1E2D-4A77-9705-8B3630C4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8915-BD83-4E43-9CB8-7397476D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4105-A574-43F9-BA31-112B35AA9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itanic,%20Andr&#233;%20Rieu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81120" y="0"/>
            <a:ext cx="598176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  <p:sndAc>
      <p:stSnd>
        <p:snd r:embed="rId2" name="Titanic,%20Andr%C3%A9%20Rieu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11508" t="0" r="0" b="0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4531" t="0" r="6976" b="0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6646" t="0" r="456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5256" t="0" r="595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3543" t="0" r="274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1150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14520" y="0"/>
            <a:ext cx="611676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2744" t="0" r="512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7484" t="0" r="354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11508" b="0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2744" t="0" r="274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1890" t="0" r="263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4323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382840" y="0"/>
            <a:ext cx="43783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85960" y="0"/>
            <a:ext cx="7372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876320" y="0"/>
            <a:ext cx="539136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90680" y="0"/>
            <a:ext cx="456264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487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66840"/>
            <a:ext cx="9144000" cy="61243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0" r="274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5122" t="0" r="354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0" t="0" r="10878" b="0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1018" r="0" b="10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912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0" t="2546" r="0" b="25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87656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504720"/>
            <a:ext cx="9144000" cy="58485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752400"/>
            <a:ext cx="9144000" cy="53532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00:17:54Z</dcterms:created>
  <dc:creator/>
  <dc:description/>
  <dc:language>en-US</dc:language>
  <cp:lastModifiedBy>Francisco</cp:lastModifiedBy>
  <dcterms:modified xsi:type="dcterms:W3CDTF">2010-02-24T01:24:50Z</dcterms:modified>
  <cp:revision>2</cp:revision>
  <dc:subject/>
  <dc:title/>
</cp:coreProperties>
</file>