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Titanic,%20Andr%C3%A9%20Rieu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620-508A-4A61-96F0-4A187795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E9B-8818-4047-A368-615E5AD4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0E9-D365-4A55-8412-6F95EC65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93F-40CB-4654-B4C7-F199B2E5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52D-CC12-4779-AD4A-73B478E8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6D8-11D8-4FEA-B8DC-EE515953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AEE-F72A-4D48-BDBF-2D36A788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E79-97B3-4645-A56A-8C2631DE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411-53CF-43B8-91C7-66FCB61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F8E-EBF0-45EF-ABE4-AAFE111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FCF-8CD4-4C7F-B824-CBE56F31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F83-4899-48CD-B9DA-1B1B34A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21DD-F3D7-4E72-A21E-773918CD0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tanic,%20Andr&#233;%20Ri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  <p:sndAc>
      <p:stSnd>
        <p:snd r:embed="rId2" name="Titanic,%20Andr%C3%A9%20Rie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1508" t="0" r="0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531" t="0" r="69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6646" t="0" r="45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256" t="0" r="59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543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4520" y="0"/>
            <a:ext cx="6116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744" t="0" r="5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7484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890" t="0" r="26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32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122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018" r="0" b="10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2546" r="0" b="2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0:17:54Z</dcterms:created>
  <dc:creator/>
  <dc:description/>
  <dc:language>en-US</dc:language>
  <cp:lastModifiedBy>Francisco</cp:lastModifiedBy>
  <dcterms:modified xsi:type="dcterms:W3CDTF">2010-02-24T01:24:50Z</dcterms:modified>
  <cp:revision>2</cp:revision>
  <dc:subject/>
  <dc:title/>
</cp:coreProperties>
</file>