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Levando%20anclas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2AA5-3DE0-4E43-9A1A-E6474698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A40-FEAC-4A5E-846D-B935F439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F93-F3B2-435C-A665-C61D43C1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9D9-B935-42C8-89F4-B91898B7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9BF-DD46-4DF8-BDCA-A7A34C19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95A-5C05-4971-AC1E-65E30D85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94B-A324-4E0A-8790-16EADA3C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991-12B0-42D5-9237-14227C69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753-D363-4952-82EF-EC53491B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59A-36B5-467E-980D-29F21FFB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557-1910-4D0D-804D-EAFC5355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4C6-59A3-4F60-9007-DA7A6770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33A3-7747-42E5-ABD5-15B24FDE3591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Levando%20ancla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3 Imagen" descr="0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4 Rectángulo" descr=""/>
          <p:cNvPicPr/>
          <p:nvPr/>
        </p:nvPicPr>
        <p:blipFill>
          <a:blip r:embed="rId2"/>
          <a:stretch/>
        </p:blipFill>
        <p:spPr>
          <a:xfrm>
            <a:off x="-6480" y="1652760"/>
            <a:ext cx="9156960" cy="31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3 Marcador de contenido" descr="Imagen1.jpg"/>
          <p:cNvPicPr/>
          <p:nvPr/>
        </p:nvPicPr>
        <p:blipFill>
          <a:blip r:embed="rId1"/>
          <a:stretch/>
        </p:blipFill>
        <p:spPr>
          <a:xfrm>
            <a:off x="-3240" y="-7920"/>
            <a:ext cx="9147240" cy="6865920"/>
          </a:xfrm>
          <a:prstGeom prst="rect">
            <a:avLst/>
          </a:prstGeom>
          <a:ln w="0">
            <a:noFill/>
          </a:ln>
        </p:spPr>
      </p:pic>
      <p:sp>
        <p:nvSpPr>
          <p:cNvPr id="71" name="4 CuadroTexto"/>
          <p:cNvSpPr/>
          <p:nvPr/>
        </p:nvSpPr>
        <p:spPr>
          <a:xfrm>
            <a:off x="500040" y="2643120"/>
            <a:ext cx="8143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 Black"/>
              </a:rPr>
              <a:t>Consejo dado a los pilotos de la RAF durante la segunda guerra mundial: "Cuando la caída sea inevitable, intente chocar con el objeto más blando y barato que haya en las proximidades, y tan lenta y suavemente como sea posible."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 Black"/>
              </a:rPr>
              <a:t>"Si algo no se ha roto ya en tu helicóptero, es que está a punto de hacerlo.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(Anónim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 Black"/>
              </a:rPr>
              <a:t>Reglas básicas para pilotos: "Trata de permanecer en medio del aire. No te acerques a sus límites. Los límites de aire puden reconocerse por su apariencia de tierra, edificios, mar, árboles o espacio interestelar. Es mucho más difícil volar en esos lugares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4 Rectángulo"/>
          <p:cNvSpPr/>
          <p:nvPr/>
        </p:nvSpPr>
        <p:spPr>
          <a:xfrm>
            <a:off x="0" y="0"/>
            <a:ext cx="9144000" cy="7000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5 Cinta hacia arriba"/>
          <p:cNvSpPr/>
          <p:nvPr/>
        </p:nvSpPr>
        <p:spPr>
          <a:xfrm>
            <a:off x="714240" y="2000160"/>
            <a:ext cx="7786800" cy="3286080"/>
          </a:xfrm>
          <a:custGeom>
            <a:avLst/>
            <a:gdLst>
              <a:gd name="textAreaLeft" fmla="*/ 1946520 w 7786800"/>
              <a:gd name="textAreaRight" fmla="*/ 5840280 w 7786800"/>
              <a:gd name="textAreaTop" fmla="*/ 0 h 3286080"/>
              <a:gd name="textAreaBottom" fmla="*/ 2738520 h 32860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6 Rectángulo" descr=""/>
          <p:cNvPicPr/>
          <p:nvPr/>
        </p:nvPicPr>
        <p:blipFill>
          <a:blip r:embed="rId1"/>
          <a:stretch/>
        </p:blipFill>
        <p:spPr>
          <a:xfrm>
            <a:off x="-6480" y="2395440"/>
            <a:ext cx="91569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3 Marcador de contenido" descr="01 lanzador.jpg"/>
          <p:cNvPicPr/>
          <p:nvPr/>
        </p:nvPicPr>
        <p:blipFill>
          <a:blip r:embed="rId1"/>
          <a:stretch/>
        </p:blipFill>
        <p:spPr>
          <a:xfrm>
            <a:off x="-792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47" name="3 CuadroTexto"/>
          <p:cNvSpPr/>
          <p:nvPr/>
        </p:nvSpPr>
        <p:spPr>
          <a:xfrm>
            <a:off x="285840" y="3286080"/>
            <a:ext cx="8501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Una pieza mal cuidada podría hacer que su lanzagranadas M203 se disparase inesperadamente. Esto le haría a usted muy impopular entre los que quedasen vivos de su unidad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Folleto de mantenimiento preventivo de la U.S. Army)  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Apunte hacia el enemigo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Instrucción impresa en un lanzacohetes de la U.S. Army)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Cuando se le quita el seguro, la Sra. Granada deja de ser nuestra amiga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Manual de adiestramiento de los Marin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3 Marcador de contenido" descr="02 eyeccion.jpg"/>
          <p:cNvPicPr/>
          <p:nvPr/>
        </p:nvPicPr>
        <p:blipFill>
          <a:blip r:embed="rId1"/>
          <a:stretch/>
        </p:blipFill>
        <p:spPr>
          <a:xfrm>
            <a:off x="-792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50" name="3 CuadroTexto"/>
          <p:cNvSpPr/>
          <p:nvPr/>
        </p:nvSpPr>
        <p:spPr>
          <a:xfrm>
            <a:off x="214200" y="3571920"/>
            <a:ext cx="8715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Si el enemigo está dentro de alcance, tu también lo está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Revista de Infantería U.S.A.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Normalmente no es recomendable eyectarse directamente sobre la zona que acaba usted de bombardear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Manual de adiestramiento de pilotos de la U.S. Air Forc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Quien diga que la pluma es más poderosa que la espada, evidentemente nunca vio armas automáticas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General MacArthu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3 Marcador de contenido" descr="03 espoleta.jpg"/>
          <p:cNvPicPr/>
          <p:nvPr/>
        </p:nvPicPr>
        <p:blipFill>
          <a:blip r:embed="rId1"/>
          <a:stretch/>
        </p:blipFill>
        <p:spPr>
          <a:xfrm>
            <a:off x="-792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509760" y="3286080"/>
            <a:ext cx="8429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Trata de parecer insignificante; puede que el enemigo esté escaso de munición."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Revista de Infantería U.S.A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Las espoletas de cinco segundos sólo tardan tres segundos en actuar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Revista de Infantería U.S.A.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El valor consiste en ser el único que sabe que estás asustado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David Hackworth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3 Marcador de contenido" descr="04 mi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3 CuadroTexto"/>
          <p:cNvSpPr/>
          <p:nvPr/>
        </p:nvSpPr>
        <p:spPr>
          <a:xfrm>
            <a:off x="214200" y="4000680"/>
            <a:ext cx="8715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Si tu ataque se está desarrollando bien, es que vas camino de una emboscada."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Revista de Infantería U.S.A.)  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Cualquier buque puede ser dragaminas... una sola vez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No atraigas el fuego enemigo; eso irrita a la gente que está a tu alrededor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3 Marcador de contenido" descr="06 avion hund..jpg"/>
          <p:cNvPicPr/>
          <p:nvPr/>
        </p:nvPicPr>
        <p:blipFill>
          <a:blip r:embed="rId1"/>
          <a:stretch/>
        </p:blipFill>
        <p:spPr>
          <a:xfrm>
            <a:off x="-792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59" name="3 CuadroTexto"/>
          <p:cNvSpPr/>
          <p:nvPr/>
        </p:nvSpPr>
        <p:spPr>
          <a:xfrm>
            <a:off x="285840" y="3500280"/>
            <a:ext cx="8501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Si ves correr a un desactivador de explosivos, síguelo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USAF Ammo Troop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La única ocasión en que te sobra combustible es cuando tu avión está ardiendo."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Jofn Westle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Axioma aeronaval: hay más aviones en el océano que submarinos en el cielo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Revista "Proceedings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3 Marcador de contenido" descr="09 caza.jpg"/>
          <p:cNvPicPr/>
          <p:nvPr/>
        </p:nvPicPr>
        <p:blipFill>
          <a:blip r:embed="rId1"/>
          <a:stretch/>
        </p:blipFill>
        <p:spPr>
          <a:xfrm>
            <a:off x="-792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62" name="3 CuadroTexto"/>
          <p:cNvSpPr/>
          <p:nvPr/>
        </p:nvSpPr>
        <p:spPr>
          <a:xfrm>
            <a:off x="357120" y="2286000"/>
            <a:ext cx="8358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Si ves que las alas van más veloces que el fuselaje, probablemente es que estás en un helicóptero y, consecuentemente, inseguro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84807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Si te falla una turbina en un avión de dos, siempre te quedará potencia suficiente para llegar al lugar del batac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84807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¿En qué se parece un controlador aéreo a un piloto? Si el piloto la caga, el piloto muere; si el controlador la caga, el piloto muere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84807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3 Marcador de contenido" descr="10 meteo.jpg"/>
          <p:cNvPicPr/>
          <p:nvPr/>
        </p:nvPicPr>
        <p:blipFill>
          <a:blip r:embed="rId1"/>
          <a:stretch/>
        </p:blipFill>
        <p:spPr>
          <a:xfrm>
            <a:off x="-792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65" name="3 CuadroTexto"/>
          <p:cNvSpPr/>
          <p:nvPr/>
        </p:nvSpPr>
        <p:spPr>
          <a:xfrm>
            <a:off x="285840" y="3357720"/>
            <a:ext cx="8429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Nunca cambies suerte por pericia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Las tres expresiones más comunes (o famosas últimas palabras) en aviación son: "¿Por qué hace esto?", "¿Dónde demonios estamos?" y "¡Oh, mierda!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Las predicciones meteorológicas son horóscopos con números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3 Marcador de contenido" descr="zzz.jpg"/>
          <p:cNvPicPr/>
          <p:nvPr/>
        </p:nvPicPr>
        <p:blipFill>
          <a:blip r:embed="rId1"/>
          <a:stretch/>
        </p:blipFill>
        <p:spPr>
          <a:xfrm>
            <a:off x="-14400" y="-11160"/>
            <a:ext cx="9158400" cy="6869160"/>
          </a:xfrm>
          <a:prstGeom prst="rect">
            <a:avLst/>
          </a:prstGeom>
          <a:ln w="0">
            <a:noFill/>
          </a:ln>
        </p:spPr>
      </p:pic>
      <p:sp>
        <p:nvSpPr>
          <p:cNvPr id="68" name="3 CuadroTexto"/>
          <p:cNvSpPr/>
          <p:nvPr/>
        </p:nvSpPr>
        <p:spPr>
          <a:xfrm>
            <a:off x="500040" y="357120"/>
            <a:ext cx="814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Las linternas son contenedores metálicos tubulares, metidos en una bolsa con el propósito de guardar en ellos baterías descargadas."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Mantener el avión en vuelo es más importante que comunicar tu problema a una persona en tierra incapaz de entenderlo o de darle solución."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Recuerda siempre: si te estrellas a causa del mal tiempo, tu funeral se celebrará un día soleado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0:46:44Z</dcterms:created>
  <dc:creator>Paco</dc:creator>
  <dc:description/>
  <dc:language>en-US</dc:language>
  <cp:lastModifiedBy>Paco</cp:lastModifiedBy>
  <dcterms:modified xsi:type="dcterms:W3CDTF">2008-08-15T16:09:49Z</dcterms:modified>
  <cp:revision>7</cp:revision>
  <dc:subject/>
  <dc:title>Diapositiva 1</dc:title>
</cp:coreProperties>
</file>