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Levando%20anclas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C38-9D9D-439D-B2EA-91A4AFA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E55-9B93-4176-A719-F55D3CE4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F1D-7DE6-4875-93DC-E9DCA663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286-7FFE-44ED-BF76-499620F0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F07-5E03-4948-9281-4698E527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12C-74D6-460C-85CA-C1C70AD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224-1BC8-4FBA-91C3-27D5E066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5D4-69C8-45EA-8979-E027BEEF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C00-ADE9-4A8C-A0E4-144658B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2B3-6D02-4452-84E5-DB16C79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33D-565F-4309-8728-09B5A2E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00C-C74F-4B43-AEC9-86B194B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906E-405B-4EBE-BF6E-87CB012D0D26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Levando%20ancla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3 Imagen" descr="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2"/>
          <a:stretch/>
        </p:blipFill>
        <p:spPr>
          <a:xfrm>
            <a:off x="-6480" y="1652760"/>
            <a:ext cx="9156960" cy="31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3 Marcador de contenido" descr="Imagen1.jpg"/>
          <p:cNvPicPr/>
          <p:nvPr/>
        </p:nvPicPr>
        <p:blipFill>
          <a:blip r:embed="rId1"/>
          <a:stretch/>
        </p:blipFill>
        <p:spPr>
          <a:xfrm>
            <a:off x="-3240" y="-7920"/>
            <a:ext cx="914724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4 CuadroTexto"/>
          <p:cNvSpPr/>
          <p:nvPr/>
        </p:nvSpPr>
        <p:spPr>
          <a:xfrm>
            <a:off x="500040" y="2643120"/>
            <a:ext cx="814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Consejo dado a los pilotos de la RAF durante la segunda guerra mundial: "Cuando la caída sea inevitable, intente chocar con el objeto más blando y barato que haya en las proximidades, y tan lenta y suavemente como sea posible."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"Si algo no se ha roto ya en tu helicóptero, es que está a punto de hacerlo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 Black"/>
              </a:rPr>
              <a:t>Reglas básicas para pilotos: "Trata de permanecer en medio del aire. No te acerques a sus límites. Los límites de aire puden reconocerse por su apariencia de tierra, edificios, mar, árboles o espacio interestelar. Es mucho más difícil volar en esos lugares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0" y="0"/>
            <a:ext cx="9144000" cy="7000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5 Cinta hacia arriba"/>
          <p:cNvSpPr/>
          <p:nvPr/>
        </p:nvSpPr>
        <p:spPr>
          <a:xfrm>
            <a:off x="714240" y="2000160"/>
            <a:ext cx="7786800" cy="3286080"/>
          </a:xfrm>
          <a:custGeom>
            <a:avLst/>
            <a:gdLst>
              <a:gd name="textAreaLeft" fmla="*/ 1946520 w 7786800"/>
              <a:gd name="textAreaRight" fmla="*/ 5840280 w 7786800"/>
              <a:gd name="textAreaTop" fmla="*/ 0 h 3286080"/>
              <a:gd name="textAreaBottom" fmla="*/ 2738520 h 32860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6 Rectángulo" descr=""/>
          <p:cNvPicPr/>
          <p:nvPr/>
        </p:nvPicPr>
        <p:blipFill>
          <a:blip r:embed="rId1"/>
          <a:stretch/>
        </p:blipFill>
        <p:spPr>
          <a:xfrm>
            <a:off x="-6480" y="239544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3 Marcador de contenido" descr="01 lanzador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47" name="3 CuadroTexto"/>
          <p:cNvSpPr/>
          <p:nvPr/>
        </p:nvSpPr>
        <p:spPr>
          <a:xfrm>
            <a:off x="285840" y="3286080"/>
            <a:ext cx="8501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Una pieza mal cuidada podría hacer que su lanzagranadas M203 se disparase inesperadamente. Esto le haría a usted muy impopular entre los que quedasen vivos de su unidad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Folleto de mantenimiento preventivo de la U.S. Army)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Apunte hacia el enemigo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Instrucción impresa en un lanzacohetes de la U.S. Army)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Cuando se le quita el seguro, la Sra. Granada deja de ser nuestra amiga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Manual de adiestramiento de los Marin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3 Marcador de contenido" descr="02 eyeccion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3 CuadroTexto"/>
          <p:cNvSpPr/>
          <p:nvPr/>
        </p:nvSpPr>
        <p:spPr>
          <a:xfrm>
            <a:off x="214200" y="357192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el enemigo está dentro de alcance, tu también lo está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Revista de Infantería U.S.A.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Normalmente no es recomendable eyectarse directamente sobre la zona que acaba usted de bombardear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Manual de adiestramiento de pilotos de la U.S. Air Forc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Quien diga que la pluma es más poderosa que la espada, evidentemente nunca vio armas automática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General MacArthu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3 Marcador de contenido" descr="03 espoleta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509760" y="3286080"/>
            <a:ext cx="842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Trata de parecer insignificante; puede que el enemigo esté escaso de munición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de Infantería U.S.A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s espoletas de cinco segundos sólo tardan tres segundos en actuar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de Infantería U.S.A.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El valor consiste en ser el único que sabe que estás asustad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David Hackworth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3 Marcador de contenido" descr="04 m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3 CuadroTexto"/>
          <p:cNvSpPr/>
          <p:nvPr/>
        </p:nvSpPr>
        <p:spPr>
          <a:xfrm>
            <a:off x="214200" y="400068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tu ataque se está desarrollando bien, es que vas camino de una emboscada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Revista de Infantería U.S.A.)  </a:t>
            </a: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Cualquier buque puede ser dragaminas... una sola vez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No atraigas el fuego enemigo; eso irrita a la gente que está a tu alrededor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3 Marcador de contenido" descr="06 avion hund.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285840" y="350028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Si ves correr a un desactivador de explosivos, síguel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USAF Ammo Troop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 única ocasión en que te sobra combustible es cuando tu avión está ardiendo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Jofn Westl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Axioma aeronaval: hay más aviones en el océano que submarinos en el ciel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Revista "Proceedings"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3 Marcador de contenido" descr="09 caza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62" name="3 CuadroTexto"/>
          <p:cNvSpPr/>
          <p:nvPr/>
        </p:nvSpPr>
        <p:spPr>
          <a:xfrm>
            <a:off x="357120" y="2286000"/>
            <a:ext cx="83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ves que las alas van más veloces que el fuselaje, probablemente es que estás en un helicóptero y, consecuentemente, insegur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Si te falla una turbina en un avión de dos, siempre te quedará potencia suficiente para llegar al lugar del batac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¿En qué se parece un controlador aéreo a un piloto? Si el piloto la caga, el piloto muere; si el controlador la caga, el piloto mue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3 Marcador de contenido" descr="10 meteo.jpg"/>
          <p:cNvPicPr/>
          <p:nvPr/>
        </p:nvPicPr>
        <p:blipFill>
          <a:blip r:embed="rId1"/>
          <a:stretch/>
        </p:blipFill>
        <p:spPr>
          <a:xfrm>
            <a:off x="-7920" y="-648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3 CuadroTexto"/>
          <p:cNvSpPr/>
          <p:nvPr/>
        </p:nvSpPr>
        <p:spPr>
          <a:xfrm>
            <a:off x="285840" y="3357720"/>
            <a:ext cx="842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Nunca cambies suerte por pericia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Las tres expresiones más comunes (o famosas últimas palabras) en aviación son: "¿Por qué hace esto?", "¿Dónde demonios estamos?" y "¡Oh, mierda!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"Las predicciones meteorológicas son horóscopos con números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3 Marcador de contenido" descr="zzz.jpg"/>
          <p:cNvPicPr/>
          <p:nvPr/>
        </p:nvPicPr>
        <p:blipFill>
          <a:blip r:embed="rId1"/>
          <a:stretch/>
        </p:blipFill>
        <p:spPr>
          <a:xfrm>
            <a:off x="-14400" y="-11160"/>
            <a:ext cx="9158400" cy="6869160"/>
          </a:xfrm>
          <a:prstGeom prst="rect">
            <a:avLst/>
          </a:prstGeom>
          <a:ln w="0">
            <a:noFill/>
          </a:ln>
        </p:spPr>
      </p:pic>
      <p:sp>
        <p:nvSpPr>
          <p:cNvPr id="68" name="3 CuadroTexto"/>
          <p:cNvSpPr/>
          <p:nvPr/>
        </p:nvSpPr>
        <p:spPr>
          <a:xfrm>
            <a:off x="500040" y="35712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Las linternas son contenedores metálicos tubulares, metidos en una bolsa con el propósito de guardar en ellos baterías descargadas.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Mantener el avión en vuelo es más importante que comunicar tu problema a una persona en tierra incapaz de entenderlo o de darle solución."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"Recuerda siempre: si te estrellas a causa del mal tiempo, tu funeral se celebrará un día soleado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 Black"/>
              </a:rPr>
              <a:t>(Anónim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0:46:44Z</dcterms:created>
  <dc:creator>Paco</dc:creator>
  <dc:description/>
  <dc:language>en-US</dc:language>
  <cp:lastModifiedBy>Paco</cp:lastModifiedBy>
  <dcterms:modified xsi:type="dcterms:W3CDTF">2008-08-15T16:09:49Z</dcterms:modified>
  <cp:revision>7</cp:revision>
  <dc:subject/>
  <dc:title>Diapositiva 1</dc:title>
</cp:coreProperties>
</file>