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5.jpeg" ContentType="image/jpeg"/>
  <Override PartName="/ppt/media/image26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70C1E-88FE-4AEB-9D9B-237267B96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569A9-E9F7-43FC-95E5-9FBECB6BB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D1EE4-1945-488A-970A-6B5368DF5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B91B1-D0D3-4651-9140-928A4B20D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F77B0-06BC-4D34-86EC-9F770C70D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DD75C-5D79-4274-AFA0-9069CF57B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C76BB-4682-4772-BB24-4D280288A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A7E95-056F-49DA-A2DD-B9E3712FC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6FC7C-3A13-429D-9607-F67676D90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DA78F-2837-4FEF-BD21-2BB3D91D1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8A65B-55D6-4AE7-863E-43768C26D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544CA-B2EE-4D4E-8188-C5FEFDF78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DB383-92AE-4AC4-B1FE-9923DBCCF8DD}" type="slidenum">
              <a:rPr b="0" lang="zh-TW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371520"/>
            <a:ext cx="9144000" cy="61149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380880"/>
            <a:ext cx="9144000" cy="60962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0" y="384120"/>
            <a:ext cx="9144000" cy="60897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0" y="450720"/>
            <a:ext cx="9144000" cy="59565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387360"/>
            <a:ext cx="9144000" cy="608328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291960"/>
            <a:ext cx="9144000" cy="627228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0" y="819000"/>
            <a:ext cx="9144000" cy="52182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0" y="2271600"/>
            <a:ext cx="9144000" cy="23148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0" y="482760"/>
            <a:ext cx="9144000" cy="58910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0" y="338040"/>
            <a:ext cx="9144000" cy="61801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069920" y="0"/>
            <a:ext cx="700236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33200" y="0"/>
            <a:ext cx="88758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0" y="4680"/>
            <a:ext cx="9144000" cy="68468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503280"/>
            <a:ext cx="9144000" cy="58514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0" y="365040"/>
            <a:ext cx="9144000" cy="61261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388800"/>
            <a:ext cx="9144000" cy="60804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306360"/>
            <a:ext cx="9144000" cy="624528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447840"/>
            <a:ext cx="9144000" cy="59623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466560"/>
            <a:ext cx="9144000" cy="592488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4280" y="0"/>
            <a:ext cx="905364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282600"/>
            <a:ext cx="9144000" cy="62913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447840"/>
            <a:ext cx="9144000" cy="596088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482760"/>
            <a:ext cx="9144000" cy="58910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379440"/>
            <a:ext cx="9144000" cy="60991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279360"/>
            <a:ext cx="9144000" cy="629928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378000"/>
            <a:ext cx="9144000" cy="6102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546120"/>
            <a:ext cx="9144000" cy="57643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382680"/>
            <a:ext cx="9144000" cy="60926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406440"/>
            <a:ext cx="9144000" cy="604368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374760"/>
            <a:ext cx="9144000" cy="610848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4T05:59:38Z</dcterms:created>
  <dc:creator>陳玉鳳</dc:creator>
  <dc:description/>
  <dc:language>en-US</dc:language>
  <cp:lastModifiedBy>陳玉鳳</cp:lastModifiedBy>
  <dcterms:modified xsi:type="dcterms:W3CDTF">2007-07-04T06:03:53Z</dcterms:modified>
  <cp:revision>1</cp:revision>
  <dc:subject/>
  <dc:title>投影片 1</dc:title>
</cp:coreProperties>
</file>