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F21-FE2C-491B-BD70-32F79B4F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FF4-8C54-4FC3-8E66-4D4951B3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005-314B-4188-B1E1-7BA43A3B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C27-CA0F-4A6B-9C92-76FB2088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F4A-39A4-4179-B480-A7FC9D3A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B15-7E9A-41BA-81B2-D0CA50A4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9AF-2733-47F6-B85B-6CFEDF73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6C6-C8A7-4B3C-89AA-1D7DD80B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7FC-6315-4796-B7BB-EB273F76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84D-ABAC-4A5B-9226-2107B6D2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4D6-37C6-42E5-91DA-6F2CF0B8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1E7-A426-4E24-93C0-01CFF81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A5B0-7447-4678-835F-4F6DC8C32C8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71520"/>
            <a:ext cx="9144000" cy="611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50720"/>
            <a:ext cx="9144000" cy="595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7360"/>
            <a:ext cx="9144000" cy="6083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91960"/>
            <a:ext cx="9144000" cy="6272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19000"/>
            <a:ext cx="9144000" cy="5218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271600"/>
            <a:ext cx="9144000" cy="2314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2760"/>
            <a:ext cx="9144000" cy="589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8040"/>
            <a:ext cx="9144000" cy="6180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9920" y="0"/>
            <a:ext cx="7002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" y="0"/>
            <a:ext cx="8875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680"/>
            <a:ext cx="9144000" cy="6846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03280"/>
            <a:ext cx="9144000" cy="585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65040"/>
            <a:ext cx="9144000" cy="6126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6360"/>
            <a:ext cx="9144000" cy="624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7840"/>
            <a:ext cx="9144000" cy="596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66560"/>
            <a:ext cx="9144000" cy="5924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" y="0"/>
            <a:ext cx="9053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82600"/>
            <a:ext cx="9144000" cy="629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7840"/>
            <a:ext cx="9144000" cy="596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2760"/>
            <a:ext cx="9144000" cy="589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9360"/>
            <a:ext cx="9144000" cy="629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78000"/>
            <a:ext cx="9144000" cy="610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6120"/>
            <a:ext cx="9144000" cy="5764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06440"/>
            <a:ext cx="9144000" cy="604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4760"/>
            <a:ext cx="9144000" cy="610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5:59:38Z</dcterms:created>
  <dc:creator>陳玉鳳</dc:creator>
  <dc:description/>
  <dc:language>en-US</dc:language>
  <cp:lastModifiedBy>陳玉鳳</cp:lastModifiedBy>
  <dcterms:modified xsi:type="dcterms:W3CDTF">2007-07-04T06:03:53Z</dcterms:modified>
  <cp:revision>1</cp:revision>
  <dc:subject/>
  <dc:title>投影片 1</dc:title>
</cp:coreProperties>
</file>