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12F-4D51-4D75-B15B-9255D192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0A8-DE0D-46B2-8663-E10F620D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F76-48A9-40FA-B5D4-F126CD57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351-EEBD-43A7-99ED-8305FCC7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46CF-F1A4-423C-AE61-7C81FD41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E6A4-EBE1-44F4-BBBE-5E75722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9A72-4344-4D5F-9644-83CE0200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201A-709C-42E7-96AC-66635F61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F124-41D8-4C14-9FD5-26D7932A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74DF-2087-49A5-AB09-DFF62F58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AD5E-295C-4698-A65E-098880D5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23A-D8B0-4E99-8E42-290BA0CE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07EC-29FA-4AE0-A4CE-EA9D6572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157A-1BAE-4C54-A1E8-FC41773A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8311-E5B7-4AFB-841C-EE146087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36B-0A3A-4EA8-95D2-89957797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5520-2F05-45DE-8158-72B57D2E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635-8A53-46FA-A95E-CC8047F3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4C4-532D-4DAF-8B84-C6BC6920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57F-0BF2-49DB-887B-80FC86BA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835-F6CC-4644-89E3-C0CF6443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B52-1DC9-4824-BC1B-7B531407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3F7-19FD-4A4C-BA48-DE870E9D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F6C-E068-4461-9E23-5F777615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E0A6-7D27-4D51-A6B5-E34BA10F17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158B-B456-4434-BBDE-B2637E80C85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357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eec94"/>
                </a:solidFill>
                <a:latin typeface="Times New Roman"/>
              </a:rPr>
              <a:t>HOTELICOPTERO</a:t>
            </a:r>
            <a:br>
              <a:rPr sz="7200"/>
            </a:br>
            <a:r>
              <a:rPr b="1" lang="pt-BR" sz="7200" spc="-1" strike="noStrike">
                <a:solidFill>
                  <a:srgbClr val="feec94"/>
                </a:solidFill>
                <a:latin typeface="Times New Roman"/>
              </a:rPr>
              <a:t>SOVIÉTICO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85560" y="5786280"/>
            <a:ext cx="749916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867280" y="632952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ff"/>
                </a:solidFill>
                <a:latin typeface="Cordia New"/>
              </a:rPr>
              <a:t>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Hotelicopter_flight1_sm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468360" y="630864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Courier New"/>
              </a:rPr>
              <a:t>SU ORIGEN ES RUSIA, CUYA INDUSTRIA AERONÁUTICA ESTÁ ESPECIALIZADA EN LA CONSTRUCCIÓN DE AERONAVES DE GRAN PORTE DONDE SE DESTACA EL ANTONO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AR" sz="1400" spc="-1" strike="noStrike">
              <a:solidFill>
                <a:srgbClr val="feec94"/>
              </a:solidFill>
              <a:latin typeface="Courier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AR" sz="1400" spc="-1" strike="noStrike">
              <a:solidFill>
                <a:srgbClr val="ffffff"/>
              </a:solidFill>
              <a:latin typeface="Courier New"/>
            </a:endParaRPr>
          </a:p>
        </p:txBody>
      </p:sp>
      <p:pic>
        <p:nvPicPr>
          <p:cNvPr id="125" name="Picture 4" descr="hotelicopter-grande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904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214200" y="6334200"/>
            <a:ext cx="872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L HOTELICOPTERO ES UN GIGANTESCO MIL V-12 DE LA ERA SOVIÉTICA, TRANSFORMADO EN    UN CONFORTABLE HOTEL 5 ESTRELLAS. EL VUELO INAGURAL SERÁ EN 201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hotelicopter_hangar "/>
          <p:cNvPicPr/>
          <p:nvPr/>
        </p:nvPicPr>
        <p:blipFill>
          <a:blip r:embed="rId1"/>
          <a:stretch/>
        </p:blipFill>
        <p:spPr>
          <a:xfrm>
            <a:off x="395280" y="260280"/>
            <a:ext cx="8494560" cy="6050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4640" y="6323040"/>
            <a:ext cx="807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l primer vuelo será de New York para las Bahamas, con escalas en Jamaica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República Dominicana y Miami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eec94"/>
                </a:solidFill>
                <a:latin typeface="Times New Roman"/>
              </a:rPr>
              <a:t>O HELICOPTERO ..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Floor1-hallway-a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857160" y="6143760"/>
            <a:ext cx="776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L CORREDOR CENTRAL QUE DIVIDE LOS VARIOS COMPARTIMIENTOS DE LA AERONAVE ES DE FÁCIL ACCESO A LOS DORMITORIOS Y SALAS DE EST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Bathroom-standard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7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2031120" y="6467400"/>
            <a:ext cx="50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SUS INSTALACIONES SON PRÁCTICAS Y CONFORT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hotelicopter-spa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093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85880" y="6286680"/>
            <a:ext cx="786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APOSENTOS CON MINI BAR,TV Flat Screen, TELÉFONO Y OTROS EQUIPAMIENTOS PARA EL CONFORT DE LOS VIAJAN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Queen-suite-bed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905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4680" y="6119640"/>
            <a:ext cx="913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L INTERIOR ESTA PREPARADO PARA 18 DEPARTAMENTOS CON CAMA MATRIMONIAL TIE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SISTEMA ANTIRUIDO Y CLIMATIZACIÓN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Room-standard-desk"/>
          <p:cNvPicPr/>
          <p:nvPr/>
        </p:nvPicPr>
        <p:blipFill>
          <a:blip r:embed="rId1"/>
          <a:stretch/>
        </p:blipFill>
        <p:spPr>
          <a:xfrm>
            <a:off x="395280" y="260280"/>
            <a:ext cx="8362800" cy="5988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000080" y="6334200"/>
            <a:ext cx="769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TODAS LAS POSIBILIDADES DE COMUNICACIÓN VÍA INTERNET Y TV EN LOS DORMITOR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AR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Hotelicopter_flight2_sm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975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500040" y="6286680"/>
            <a:ext cx="836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ff"/>
                </a:solidFill>
                <a:latin typeface="Courier New"/>
              </a:rPr>
              <a:t>ESTÁ EQUIPADA CON UNA MODERNA SALA DE JUEGOS PARA LA DIVERSIÓN DE TODOS LOS PASAJE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04:41:40Z</dcterms:created>
  <dc:creator/>
  <dc:description/>
  <dc:language>en-US</dc:language>
  <cp:lastModifiedBy>GTI</cp:lastModifiedBy>
  <dcterms:modified xsi:type="dcterms:W3CDTF">2010-04-21T21:27:22Z</dcterms:modified>
  <cp:revision>34</cp:revision>
  <dc:subject/>
  <dc:title>Slide 1</dc:title>
</cp:coreProperties>
</file>