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1304-52A6-4AC5-8401-4CFC3B47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FE46-4305-4954-8C6B-CC26C830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1151-8847-4387-8DCE-89093E17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5FD-828D-4475-9253-B7C7E0B6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52DF-C98D-4D02-BB29-FDC43C1D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A685-DA2B-4756-B925-40F72F72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1F52-0477-42C1-ABFC-7CD2F372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6716-2EE1-4889-93A7-E925E028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66BF-E07F-497F-823D-C403697E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547B-EDE6-44DD-8FFA-7F34E6AB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3C5D-EABF-440B-BE5B-E7F64C9F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2CB7-16EA-4069-ABE4-83F491D2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87B9-E23D-4AA7-B9C3-9B21818B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F19C-02DB-4316-AD1C-072DD34F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CD51-AC20-4E2F-93F8-C9A0B7BB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8731-676F-495B-88FF-112A729A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95E4-B253-4E72-BEA2-589D82A8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650-C6AA-493A-AC4B-3726037B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500C-A5A7-4832-BA57-9B8BB5C6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6ED7-AAC5-4497-A9D3-22D02166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905-174C-4E02-AB02-3887B0D5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02F-4C0F-47FF-ACB8-ADFB0616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485-FCD4-40B2-8366-E5A1E350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55ED-B352-45EC-B996-2F3C89D3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471F-6F10-47F2-B99E-B5C863B7FE6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805B-0C41-4AA2-8EF4-AE41FFA6AEFC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357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feec94"/>
                </a:solidFill>
                <a:latin typeface="Times New Roman"/>
              </a:rPr>
              <a:t>HOTELICOPTERO</a:t>
            </a:r>
            <a:br>
              <a:rPr sz="7200"/>
            </a:br>
            <a:r>
              <a:rPr b="1" lang="pt-BR" sz="7200" spc="-1" strike="noStrike">
                <a:solidFill>
                  <a:srgbClr val="feec94"/>
                </a:solidFill>
                <a:latin typeface="Times New Roman"/>
              </a:rPr>
              <a:t>SOVIÉTICO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85560" y="5786280"/>
            <a:ext cx="749916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867280" y="6329520"/>
            <a:ext cx="30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rdia New"/>
              </a:rPr>
              <a:t>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AR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4" descr="Hotelicopter_flight1_sm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9770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468360" y="6308640"/>
            <a:ext cx="80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Courier New"/>
              </a:rPr>
              <a:t>SU ORIGEN ES RUSIA, CUYA INDUSTRIA AERONÁUTICA ESTÁ ESPECIALIZADA EN LA CONSTRUCCIÓN DE AERONAVES DE GRAN PORTE DONDE SE DESTACA EL ANTONOV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AR" sz="1400" spc="-1" strike="noStrike">
              <a:solidFill>
                <a:srgbClr val="feec94"/>
              </a:solidFill>
              <a:latin typeface="Courier Ne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AR" sz="1400" spc="-1" strike="noStrike">
              <a:solidFill>
                <a:srgbClr val="ffffff"/>
              </a:solidFill>
              <a:latin typeface="Courier New"/>
            </a:endParaRPr>
          </a:p>
        </p:txBody>
      </p:sp>
      <p:pic>
        <p:nvPicPr>
          <p:cNvPr id="125" name="Picture 4" descr="hotelicopter-grande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904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214200" y="6334200"/>
            <a:ext cx="872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Courier New"/>
              </a:rPr>
              <a:t>EL HOTELICOPTERO ES UN GIGANTESCO MIL V-12 DE LA ERA SOVIÉTICA, TRANSFORMADO EN    UN CONFORTABLE HOTEL 5 ESTRELLAS. EL VUELO INAGURAL SERÁ EN 201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AR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hotelicopter_hangar "/>
          <p:cNvPicPr/>
          <p:nvPr/>
        </p:nvPicPr>
        <p:blipFill>
          <a:blip r:embed="rId1"/>
          <a:stretch/>
        </p:blipFill>
        <p:spPr>
          <a:xfrm>
            <a:off x="395280" y="260280"/>
            <a:ext cx="8494560" cy="60501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64640" y="6323040"/>
            <a:ext cx="807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Courier New"/>
              </a:rPr>
              <a:t>El primer vuelo será de New York para las Bahamas, con escalas en Jamaica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Courier New"/>
              </a:rPr>
              <a:t>República Dominicana y Miami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eec94"/>
                </a:solidFill>
                <a:latin typeface="Times New Roman"/>
              </a:rPr>
              <a:t>O HELICOPTERO ..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Floor1-hallway-a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759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857160" y="6143760"/>
            <a:ext cx="776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Courier New"/>
              </a:rPr>
              <a:t>EL CORREDOR CENTRAL QUE DIVIDE LOS VARIOS COMPARTIMIENTOS DE LA AERONAVE ES DE FÁCIL ACCESO A LOS DORMITORIOS Y SALAS DE EST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AR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Bathroom-standard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174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2031120" y="6467400"/>
            <a:ext cx="50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Courier New"/>
              </a:rPr>
              <a:t>SUS INSTALACIONES SON PRÁCTICAS Y CONFORTAB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AR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hotelicopter-spa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093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785880" y="6286680"/>
            <a:ext cx="786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Courier New"/>
              </a:rPr>
              <a:t>APOSENTOS CON MINI BAR,TV Flat Screen, TELÉFONO Y OTROS EQUIPAMIENTOS PARA EL CONFORT DE LOS VIAJAN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AR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4" descr="Queen-suite-bed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905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4680" y="6119640"/>
            <a:ext cx="913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pt-BR" sz="1400" spc="-1" strike="noStrike">
                <a:solidFill>
                  <a:srgbClr val="ffffff"/>
                </a:solidFill>
                <a:latin typeface="Courier New"/>
              </a:rPr>
              <a:t>EL INTERIOR ESTA PREPARADO PARA 18 DEPARTAMENTOS CON CAMA MATRIMONIAL TIE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Courier New"/>
              </a:rPr>
              <a:t>SISTEMA ANTIRUIDO Y CLIMATIZACIÓN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AR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Room-standard-desk"/>
          <p:cNvPicPr/>
          <p:nvPr/>
        </p:nvPicPr>
        <p:blipFill>
          <a:blip r:embed="rId1"/>
          <a:stretch/>
        </p:blipFill>
        <p:spPr>
          <a:xfrm>
            <a:off x="395280" y="260280"/>
            <a:ext cx="8362800" cy="5988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1000080" y="6334200"/>
            <a:ext cx="769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Courier New"/>
              </a:rPr>
              <a:t>TODAS LAS POSIBILIDADES DE COMUNICACIÓN VÍA INTERNET Y TV EN LOS DORMITORI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AR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Hotelicopter_flight2_sm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59752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500040" y="6286680"/>
            <a:ext cx="836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Courier New"/>
              </a:rPr>
              <a:t>ESTÁ EQUIPADA CON UNA MODERNA SALA DE JUEGOS PARA LA DIVERSIÓN DE TODOS LOS PASAJER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1T04:41:40Z</dcterms:created>
  <dc:creator/>
  <dc:description/>
  <dc:language>en-US</dc:language>
  <cp:lastModifiedBy>GTI</cp:lastModifiedBy>
  <dcterms:modified xsi:type="dcterms:W3CDTF">2010-04-21T21:27:22Z</dcterms:modified>
  <cp:revision>34</cp:revision>
  <dc:subject/>
  <dc:title>Slide 1</dc:title>
</cp:coreProperties>
</file>