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Beatles_AHardDaysNight.wav" ContentType="audio/x-wav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522E-7FBD-4832-B33F-D34F46FADB4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A9DB-6B7E-443A-8CBF-46119229369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FEE0-18F9-47F0-A62C-740561283D5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CB59-B619-4758-B1DB-7654E1BA714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1FBF-996F-40E3-9651-C4266347101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4673-842F-4906-8EC4-424AA068A33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8B3B-5A42-49A9-9730-72C3177A136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5319-D6B1-4602-839A-471B5145B01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DD55-2860-4558-A6D6-1525E160459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1BB6-7C1C-4042-8B55-6DB79E8A786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F5B5-8199-4BAA-A9C2-CC3E336CF1D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27BE-EDC3-47C7-ABA8-DB1FF650710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B220-2AF9-4B8A-BE2B-D5A33716670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166-F450-4803-8042-2C5098EFB2B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16F5-8A09-4500-B906-CFA6BB1B453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F453-6698-4386-A2C6-DD5B6C5E6C0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B719-993A-4D24-BDE9-2560321756C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18AB-F262-4124-AC5F-4D82BE01F76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5966-9261-478C-B3EB-7F1941E5680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1100-1DF0-428F-A8FC-58476079780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9DA3-2C12-4D8D-A162-DFE34A486E9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E1F0-4961-4779-B5CA-19C15A4516C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8BCF-6DAE-49FB-B292-292CD887763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F4F-4D95-4F10-8E6E-3B78C3D0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1F9-D196-499D-92AA-A010A9C5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832-8FC6-4A40-A65E-939D19A7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EAB-E900-4269-B926-8499CF78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C0F-2D22-4D69-8E8D-0226B3D3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74E-A2E7-4D69-8340-57A8AE92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3EB-8B95-4021-9A23-6C281794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21E-9CE5-4E5C-9A89-B17A9041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2CB-312D-4707-98D2-B915C4BB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13E-ADD9-41E6-A937-743923B5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FE0-1F23-4DDF-AB6B-8CDE5FE8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F85-DDA0-4CB7-9007-FD66B5ED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6201-896E-43FE-9198-9C379A761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eatles_AHardDaysNight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100123-c-johnson-griffith.jpg"/>
          <p:cNvPicPr/>
          <p:nvPr/>
        </p:nvPicPr>
        <p:blipFill>
          <a:blip r:embed="rId1"/>
          <a:stretch/>
        </p:blipFill>
        <p:spPr>
          <a:xfrm>
            <a:off x="857160" y="0"/>
            <a:ext cx="7556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100123-c-eastwood.jpg"/>
          <p:cNvPicPr/>
          <p:nvPr/>
        </p:nvPicPr>
        <p:blipFill>
          <a:blip r:embed="rId1"/>
          <a:stretch/>
        </p:blipFill>
        <p:spPr>
          <a:xfrm>
            <a:off x="12859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100123-c-elvis2.jpg"/>
          <p:cNvPicPr/>
          <p:nvPr/>
        </p:nvPicPr>
        <p:blipFill>
          <a:blip r:embed="rId1"/>
          <a:stretch/>
        </p:blipFill>
        <p:spPr>
          <a:xfrm>
            <a:off x="190656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 Imagen" descr="100123-c-curtis-lemmon.jpg"/>
          <p:cNvPicPr/>
          <p:nvPr/>
        </p:nvPicPr>
        <p:blipFill>
          <a:blip r:embed="rId1"/>
          <a:stretch/>
        </p:blipFill>
        <p:spPr>
          <a:xfrm>
            <a:off x="2268360" y="0"/>
            <a:ext cx="4643640" cy="687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100123-c-cher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100123-c-clooney.jpg"/>
          <p:cNvPicPr/>
          <p:nvPr/>
        </p:nvPicPr>
        <p:blipFill>
          <a:blip r:embed="rId1"/>
          <a:stretch/>
        </p:blipFill>
        <p:spPr>
          <a:xfrm>
            <a:off x="1214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100123-c-john.jpg"/>
          <p:cNvPicPr/>
          <p:nvPr/>
        </p:nvPicPr>
        <p:blipFill>
          <a:blip r:embed="rId1"/>
          <a:stretch/>
        </p:blipFill>
        <p:spPr>
          <a:xfrm>
            <a:off x="185724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100123-c-angelina-voit.jpg"/>
          <p:cNvPicPr/>
          <p:nvPr/>
        </p:nvPicPr>
        <p:blipFill>
          <a:blip r:embed="rId1"/>
          <a:stretch/>
        </p:blipFill>
        <p:spPr>
          <a:xfrm>
            <a:off x="1214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100123-c-chaplin-dietrich.jpg"/>
          <p:cNvPicPr/>
          <p:nvPr/>
        </p:nvPicPr>
        <p:blipFill>
          <a:blip r:embed="rId1"/>
          <a:stretch/>
        </p:blipFill>
        <p:spPr>
          <a:xfrm>
            <a:off x="21114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 Imagen" descr="100123-c-connery.jpg"/>
          <p:cNvPicPr/>
          <p:nvPr/>
        </p:nvPicPr>
        <p:blipFill>
          <a:blip r:embed="rId1"/>
          <a:stretch/>
        </p:blipFill>
        <p:spPr>
          <a:xfrm>
            <a:off x="216864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b2b2b2"/>
                </a:solidFill>
                <a:latin typeface="Rage Italic"/>
              </a:rPr>
              <a:t>Fotos de arquivo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Beatles_AHardDaysNight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Imagen" descr="100123-c-brando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Imagen" descr="ATT00002.jpg"/>
          <p:cNvPicPr/>
          <p:nvPr/>
        </p:nvPicPr>
        <p:blipFill>
          <a:blip r:embed="rId1"/>
          <a:stretch/>
        </p:blipFill>
        <p:spPr>
          <a:xfrm>
            <a:off x="2143080" y="0"/>
            <a:ext cx="50068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2 Imagen" descr="100123-c-fonda.jpg"/>
          <p:cNvPicPr/>
          <p:nvPr/>
        </p:nvPicPr>
        <p:blipFill>
          <a:blip r:embed="rId2"/>
          <a:stretch/>
        </p:blipFill>
        <p:spPr>
          <a:xfrm>
            <a:off x="2000160" y="0"/>
            <a:ext cx="5280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 Imagen" descr="ATT00002.jpg"/>
          <p:cNvPicPr/>
          <p:nvPr/>
        </p:nvPicPr>
        <p:blipFill>
          <a:blip r:embed="rId1"/>
          <a:stretch/>
        </p:blipFill>
        <p:spPr>
          <a:xfrm>
            <a:off x="211464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 Imagen" descr="ATT00001.jpg"/>
          <p:cNvPicPr/>
          <p:nvPr/>
        </p:nvPicPr>
        <p:blipFill>
          <a:blip r:embed="rId1"/>
          <a:stretch/>
        </p:blipFill>
        <p:spPr>
          <a:xfrm>
            <a:off x="30240" y="243000"/>
            <a:ext cx="9156600" cy="650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b2b2b2"/>
                </a:solidFill>
                <a:latin typeface="Rage Italic"/>
              </a:rPr>
              <a:t>Fi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 Imagen" descr="100123-c-seymour-mercury.jpg"/>
          <p:cNvPicPr/>
          <p:nvPr/>
        </p:nvPicPr>
        <p:blipFill>
          <a:blip r:embed="rId1"/>
          <a:stretch/>
        </p:blipFill>
        <p:spPr>
          <a:xfrm>
            <a:off x="121428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8429760" y="66420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Arial"/>
              </a:rPr>
              <a:t>PRG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100123-c-star-war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100123-c-lee.jpg"/>
          <p:cNvPicPr/>
          <p:nvPr/>
        </p:nvPicPr>
        <p:blipFill>
          <a:blip r:embed="rId1"/>
          <a:stretch/>
        </p:blipFill>
        <p:spPr>
          <a:xfrm>
            <a:off x="2209680" y="0"/>
            <a:ext cx="4903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 Imagen" descr="100123-c-madonna.jpg"/>
          <p:cNvPicPr/>
          <p:nvPr/>
        </p:nvPicPr>
        <p:blipFill>
          <a:blip r:embed="rId1"/>
          <a:stretch/>
        </p:blipFill>
        <p:spPr>
          <a:xfrm>
            <a:off x="2108160" y="0"/>
            <a:ext cx="4977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100123-c-minnelli-garland.jpg"/>
          <p:cNvPicPr/>
          <p:nvPr/>
        </p:nvPicPr>
        <p:blipFill>
          <a:blip r:embed="rId1"/>
          <a:stretch/>
        </p:blipFill>
        <p:spPr>
          <a:xfrm>
            <a:off x="428760" y="0"/>
            <a:ext cx="82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 Imagen" descr="100123-c-jfk-monroe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1 Imagen" descr="100123-c-monroe-queen.jpg"/>
          <p:cNvPicPr/>
          <p:nvPr/>
        </p:nvPicPr>
        <p:blipFill>
          <a:blip r:embed="rId2"/>
          <a:stretch/>
        </p:blipFill>
        <p:spPr>
          <a:xfrm>
            <a:off x="1214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2 Imagen" descr="100123-c-jfk-monroe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12:22:25Z</dcterms:created>
  <dc:creator>Usuario</dc:creator>
  <dc:description/>
  <dc:language>en-US</dc:language>
  <cp:lastModifiedBy>Usuario</cp:lastModifiedBy>
  <dcterms:modified xsi:type="dcterms:W3CDTF">2010-05-08T12:38:07Z</dcterms:modified>
  <cp:revision>3</cp:revision>
  <dc:subject/>
  <dc:title>Slide 1</dc:title>
</cp:coreProperties>
</file>