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Beatles_AHardDaysNight.wav" ContentType="audio/x-wav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C9C4-F944-4FE8-A93A-F2917D8A8C7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0C4-A852-411F-BD60-2A5842AD1A1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4243-5E56-42C2-A23E-0026804ECA2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F1D0-BFB3-48EB-9D32-FEA5C44C7C8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0D8A-A4DC-45CD-83E6-D86905CA88B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53CA-D7AA-4457-A0C8-BFC1CABD5F4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3D87-9AF9-46F4-BDEF-915BC7AB40A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5290-B4F1-42C9-B072-8C89D95FDD8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3615-0C57-4E17-90E0-8978F8F47A1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2630-43A1-4930-B3D4-ED285598B04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9C0B-D001-4821-B9A1-107CD167F22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4231-3102-4DDD-8B03-011E074F586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40FD-3EE3-46A1-BFCE-60851705FE4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C263-25DA-4A86-8860-8BCD3EA5B08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4313-2FC1-47DD-9C7E-C4F78761027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2376-A8EE-4146-AFA4-06743631C2C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F4E8-DB80-4EF7-9705-55962976EAB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0F9D-9B2B-47E8-99B6-2918C8A6FB6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CCAF-6BCF-4BEE-965D-DFC1BB82B89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3BFF-86DE-4661-9ABB-02E7C8625F4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D1F6-3C99-4A3B-82C7-090196E51A1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7511-EBBF-4456-8D1F-1A74E923B1F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DF0A-25AB-48EA-A9C3-32E793379FB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7F5-1542-4976-8EB4-172C7CD6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F8A-F35A-4A59-9E58-EACA549B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8D3-6431-4E22-B456-5F6D0F64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0B8-EBD1-4C1C-8706-F32D4D74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B91-16C7-47B6-8B49-1007838A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BA4-FB17-4E5E-AB30-D412FAC1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569-A5BB-403C-8696-071CC630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2E9-581F-41D8-AB42-8420A743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630-95AC-4644-B5A0-30E02548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4C5-B07D-4021-B5F3-CB388755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CB6-0B96-4D1A-9E28-1B1F3CC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199-0D1C-490E-872F-132226D9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15B2-186B-49C5-A17F-D90517B42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eatles_AHardDaysNight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100123-c-johnson-griffith.jpg"/>
          <p:cNvPicPr/>
          <p:nvPr/>
        </p:nvPicPr>
        <p:blipFill>
          <a:blip r:embed="rId1"/>
          <a:stretch/>
        </p:blipFill>
        <p:spPr>
          <a:xfrm>
            <a:off x="857160" y="0"/>
            <a:ext cx="7556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100123-c-eastwood.jpg"/>
          <p:cNvPicPr/>
          <p:nvPr/>
        </p:nvPicPr>
        <p:blipFill>
          <a:blip r:embed="rId1"/>
          <a:stretch/>
        </p:blipFill>
        <p:spPr>
          <a:xfrm>
            <a:off x="12859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100123-c-elvis2.jpg"/>
          <p:cNvPicPr/>
          <p:nvPr/>
        </p:nvPicPr>
        <p:blipFill>
          <a:blip r:embed="rId1"/>
          <a:stretch/>
        </p:blipFill>
        <p:spPr>
          <a:xfrm>
            <a:off x="190656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 Imagen" descr="100123-c-curtis-lemmon.jpg"/>
          <p:cNvPicPr/>
          <p:nvPr/>
        </p:nvPicPr>
        <p:blipFill>
          <a:blip r:embed="rId1"/>
          <a:stretch/>
        </p:blipFill>
        <p:spPr>
          <a:xfrm>
            <a:off x="2268360" y="0"/>
            <a:ext cx="4643640" cy="687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100123-c-cher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100123-c-clooney.jpg"/>
          <p:cNvPicPr/>
          <p:nvPr/>
        </p:nvPicPr>
        <p:blipFill>
          <a:blip r:embed="rId1"/>
          <a:stretch/>
        </p:blipFill>
        <p:spPr>
          <a:xfrm>
            <a:off x="1214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100123-c-john.jpg"/>
          <p:cNvPicPr/>
          <p:nvPr/>
        </p:nvPicPr>
        <p:blipFill>
          <a:blip r:embed="rId1"/>
          <a:stretch/>
        </p:blipFill>
        <p:spPr>
          <a:xfrm>
            <a:off x="1857240" y="0"/>
            <a:ext cx="5435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100123-c-angelina-voit.jpg"/>
          <p:cNvPicPr/>
          <p:nvPr/>
        </p:nvPicPr>
        <p:blipFill>
          <a:blip r:embed="rId1"/>
          <a:stretch/>
        </p:blipFill>
        <p:spPr>
          <a:xfrm>
            <a:off x="1214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100123-c-chaplin-dietrich.jpg"/>
          <p:cNvPicPr/>
          <p:nvPr/>
        </p:nvPicPr>
        <p:blipFill>
          <a:blip r:embed="rId1"/>
          <a:stretch/>
        </p:blipFill>
        <p:spPr>
          <a:xfrm>
            <a:off x="21114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 Imagen" descr="100123-c-connery.jpg"/>
          <p:cNvPicPr/>
          <p:nvPr/>
        </p:nvPicPr>
        <p:blipFill>
          <a:blip r:embed="rId1"/>
          <a:stretch/>
        </p:blipFill>
        <p:spPr>
          <a:xfrm>
            <a:off x="216864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b2b2b2"/>
                </a:solidFill>
                <a:latin typeface="Rage Italic"/>
              </a:rPr>
              <a:t>Fotos de arquivo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1" name="Beatles_AHardDaysNight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Imagen" descr="100123-c-brando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Imagen" descr="ATT00002.jpg"/>
          <p:cNvPicPr/>
          <p:nvPr/>
        </p:nvPicPr>
        <p:blipFill>
          <a:blip r:embed="rId1"/>
          <a:stretch/>
        </p:blipFill>
        <p:spPr>
          <a:xfrm>
            <a:off x="2143080" y="0"/>
            <a:ext cx="50068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2 Imagen" descr="100123-c-fonda.jpg"/>
          <p:cNvPicPr/>
          <p:nvPr/>
        </p:nvPicPr>
        <p:blipFill>
          <a:blip r:embed="rId2"/>
          <a:stretch/>
        </p:blipFill>
        <p:spPr>
          <a:xfrm>
            <a:off x="2000160" y="0"/>
            <a:ext cx="5280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 Imagen" descr="ATT00002.jpg"/>
          <p:cNvPicPr/>
          <p:nvPr/>
        </p:nvPicPr>
        <p:blipFill>
          <a:blip r:embed="rId1"/>
          <a:stretch/>
        </p:blipFill>
        <p:spPr>
          <a:xfrm>
            <a:off x="211464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 Imagen" descr="ATT00001.jpg"/>
          <p:cNvPicPr/>
          <p:nvPr/>
        </p:nvPicPr>
        <p:blipFill>
          <a:blip r:embed="rId1"/>
          <a:stretch/>
        </p:blipFill>
        <p:spPr>
          <a:xfrm>
            <a:off x="30240" y="243000"/>
            <a:ext cx="9156600" cy="650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b2b2b2"/>
                </a:solidFill>
                <a:latin typeface="Rage Italic"/>
              </a:rPr>
              <a:t>Fi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 Imagen" descr="100123-c-seymour-mercury.jpg"/>
          <p:cNvPicPr/>
          <p:nvPr/>
        </p:nvPicPr>
        <p:blipFill>
          <a:blip r:embed="rId1"/>
          <a:stretch/>
        </p:blipFill>
        <p:spPr>
          <a:xfrm>
            <a:off x="121428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8429760" y="66420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Arial"/>
              </a:rPr>
              <a:t>PRG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100123-c-star-war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100123-c-lee.jpg"/>
          <p:cNvPicPr/>
          <p:nvPr/>
        </p:nvPicPr>
        <p:blipFill>
          <a:blip r:embed="rId1"/>
          <a:stretch/>
        </p:blipFill>
        <p:spPr>
          <a:xfrm>
            <a:off x="2209680" y="0"/>
            <a:ext cx="4903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 Imagen" descr="100123-c-madonna.jpg"/>
          <p:cNvPicPr/>
          <p:nvPr/>
        </p:nvPicPr>
        <p:blipFill>
          <a:blip r:embed="rId1"/>
          <a:stretch/>
        </p:blipFill>
        <p:spPr>
          <a:xfrm>
            <a:off x="2108160" y="0"/>
            <a:ext cx="4977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100123-c-minnelli-garland.jpg"/>
          <p:cNvPicPr/>
          <p:nvPr/>
        </p:nvPicPr>
        <p:blipFill>
          <a:blip r:embed="rId1"/>
          <a:stretch/>
        </p:blipFill>
        <p:spPr>
          <a:xfrm>
            <a:off x="428760" y="0"/>
            <a:ext cx="82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 Imagen" descr="100123-c-jfk-monroe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1 Imagen" descr="100123-c-monroe-queen.jpg"/>
          <p:cNvPicPr/>
          <p:nvPr/>
        </p:nvPicPr>
        <p:blipFill>
          <a:blip r:embed="rId2"/>
          <a:stretch/>
        </p:blipFill>
        <p:spPr>
          <a:xfrm>
            <a:off x="1214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2 Imagen" descr="100123-c-jfk-monroe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12:22:25Z</dcterms:created>
  <dc:creator>Usuario</dc:creator>
  <dc:description/>
  <dc:language>en-US</dc:language>
  <cp:lastModifiedBy>Usuario</cp:lastModifiedBy>
  <dcterms:modified xsi:type="dcterms:W3CDTF">2010-05-08T12:38:07Z</dcterms:modified>
  <cp:revision>3</cp:revision>
  <dc:subject/>
  <dc:title>Slide 1</dc:title>
</cp:coreProperties>
</file>