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E8D-6295-4F8D-AAEC-FB897F92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611-6070-4E04-BC0E-2ECDF885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E9F-A3A8-4E2C-89E7-1D2A8958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FF1-6208-48E4-B0E8-597C0F71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D6A2-D870-4AA6-983C-3DFA35A6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E02A-18AD-4F0D-870C-55821B13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35DD-41D5-4495-97EC-EA502D21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FBF0-89B0-4271-90E0-262A12A3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9B3F-19CB-4AC8-ADD8-3E813662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5046-4619-4FC6-888A-1E1F9098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AF0B-8382-4AA4-BD89-5CA80690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215-3B50-42D7-93D1-19DC3638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A67E-A164-4038-8CAF-BA67E84A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5EA0-3769-4397-BE23-F53AAD25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040A-6324-4530-ADC5-C9746741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C420-34A0-475C-85D8-F784464E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B973-E7ED-4C8C-915F-EDE83B84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F8E1-D89C-417A-AEA9-1D21C74C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C823-064F-489D-ABA6-9FD3A5F5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5698-776A-41EE-841D-A3E25142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F637-C125-4BC6-8893-380FBB23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2161-CF87-423E-930B-4CE4C6AF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DFA-CA67-48CA-B920-EEE9F971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1152-92AE-47DF-81A0-E71B13CA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6DB4-2D5C-4186-B7BD-6704CE97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95A72-3600-4B6C-9E2A-DFDD7513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E8B6-5B57-44B1-A7A2-047DE364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68FF-8B4B-4A9B-8962-67634A5F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B338-2D1F-4798-A8A4-AD2D2055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F28D-72FE-4ACA-A448-EE831A6F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9815F-38C3-4E60-86D2-0AB168A1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6437-4673-4408-8EE3-A4010E6D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BA7F-B44B-47AF-8F53-AB19876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807-DB74-481B-B8B5-DF7664CB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663F-AEA2-4E58-B4F9-A90DB576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02EF-AA8C-4C4C-B1EC-0A11B232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BFCE0-7C97-4621-BA94-DD0C6F31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2AF4-51E0-498E-BC44-F7009AFA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FB17-AFF6-4938-B67D-E17859A6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2052-C822-4A27-B22D-5F37064B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E909-78AB-4692-9E62-677E266D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C5D9-8EA2-4FAC-8F3B-1DE11A9F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2D1D-141D-48BD-83BD-27C1C83A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537-C548-4785-8668-599AC46E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4E8-1580-4D29-AA18-8FAEB3D3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0DD-783C-4BEF-9A6E-CEFE7CFA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C8F-C931-462B-944D-485869A5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FA6-6644-4136-BE9B-F943EB57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9FFE-1DC7-4C50-A35B-00AF099AE864}" type="slidenum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55A6-7AC5-416B-82FB-3EF2C2360F93}" type="slidenum"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14CC-EA8B-436A-BD7E-F5AB9D658FA9}" type="slidenum">
              <a:rPr b="0" lang="es-PE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6CCB-0F76-47CF-AAE9-2C4AFFED1291}" type="slidenum">
              <a:rPr b="0" lang="es-PE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ffff"/>
                </a:solidFill>
                <a:latin typeface="Constantia"/>
              </a:rPr>
              <a:t>En la historia reciente se han efectuado varios  asesinatos en los que quien lo ejecuta es Fan del fallecid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3 Rectángulo" descr=""/>
          <p:cNvPicPr/>
          <p:nvPr/>
        </p:nvPicPr>
        <p:blipFill>
          <a:blip r:embed="rId1"/>
          <a:stretch/>
        </p:blipFill>
        <p:spPr>
          <a:xfrm>
            <a:off x="2054160" y="378000"/>
            <a:ext cx="5035680" cy="1116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t0.gstatic.com/images?q=tbn:ANd9GcSzKF7EQaZG7r0RdNxa8u-8N4Qgei6WqTUQCT2cbI_3TuGQ8JasEQ"/>
          <p:cNvPicPr/>
          <p:nvPr/>
        </p:nvPicPr>
        <p:blipFill>
          <a:blip r:embed="rId2"/>
          <a:stretch/>
        </p:blipFill>
        <p:spPr>
          <a:xfrm>
            <a:off x="3708360" y="1403280"/>
            <a:ext cx="1935360" cy="1927440"/>
          </a:xfrm>
          <a:prstGeom prst="rect">
            <a:avLst/>
          </a:prstGeom>
          <a:ln w="0">
            <a:noFill/>
          </a:ln>
        </p:spPr>
      </p:pic>
      <p:sp>
        <p:nvSpPr>
          <p:cNvPr id="199" name="5 CuadroTexto"/>
          <p:cNvSpPr/>
          <p:nvPr/>
        </p:nvSpPr>
        <p:spPr>
          <a:xfrm>
            <a:off x="611280" y="3429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onstantia"/>
              </a:rPr>
              <a:t>Fue asesinado por su Fan, Mark Chapma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http://1.bp.blogspot.com/_Yo3P-24EfJY/TD0DtJnBH8I/AAAAAAAAA10/TU3kTsivotc/s1600/Lennon_04_16_01_09.jpg"/>
          <p:cNvPicPr/>
          <p:nvPr/>
        </p:nvPicPr>
        <p:blipFill>
          <a:blip r:embed="rId3"/>
          <a:stretch/>
        </p:blipFill>
        <p:spPr>
          <a:xfrm>
            <a:off x="3684600" y="4149720"/>
            <a:ext cx="17748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1 Rectángulo" descr=""/>
          <p:cNvPicPr/>
          <p:nvPr/>
        </p:nvPicPr>
        <p:blipFill>
          <a:blip r:embed="rId1"/>
          <a:stretch/>
        </p:blipFill>
        <p:spPr>
          <a:xfrm>
            <a:off x="3071880" y="304920"/>
            <a:ext cx="3004920" cy="1116000"/>
          </a:xfrm>
          <a:prstGeom prst="rect">
            <a:avLst/>
          </a:prstGeom>
          <a:ln w="0">
            <a:noFill/>
          </a:ln>
        </p:spPr>
      </p:pic>
      <p:sp>
        <p:nvSpPr>
          <p:cNvPr id="202" name="3 CuadroTexto"/>
          <p:cNvSpPr/>
          <p:nvPr/>
        </p:nvSpPr>
        <p:spPr>
          <a:xfrm>
            <a:off x="611280" y="3429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onstantia"/>
              </a:rPr>
              <a:t>Fue asesinada por la Presidenta de su Club de Fans, Yolanda Saldíva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http://t1.gstatic.com/images?q=tbn:ANd9GcS7ibYctnJobIx8EwAHgxSTBRubMt5wazlDLMAt1DoYfDKe2Qbm"/>
          <p:cNvPicPr/>
          <p:nvPr/>
        </p:nvPicPr>
        <p:blipFill>
          <a:blip r:embed="rId2"/>
          <a:stretch/>
        </p:blipFill>
        <p:spPr>
          <a:xfrm>
            <a:off x="3524400" y="1247760"/>
            <a:ext cx="2095200" cy="2181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://t3.gstatic.com/images?q=tbn:ANd9GcQXOEc9tF57YmCkplEJaIYTXsi-1tnqrvPl1oK_A0KOyypjaOwX"/>
          <p:cNvPicPr/>
          <p:nvPr/>
        </p:nvPicPr>
        <p:blipFill>
          <a:blip r:embed="rId3"/>
          <a:stretch/>
        </p:blipFill>
        <p:spPr>
          <a:xfrm>
            <a:off x="3562200" y="4653000"/>
            <a:ext cx="2019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3 Rectángulo" descr=""/>
          <p:cNvPicPr/>
          <p:nvPr/>
        </p:nvPicPr>
        <p:blipFill>
          <a:blip r:embed="rId1"/>
          <a:stretch/>
        </p:blipFill>
        <p:spPr>
          <a:xfrm>
            <a:off x="1731960" y="378000"/>
            <a:ext cx="5668920" cy="1116000"/>
          </a:xfrm>
          <a:prstGeom prst="rect">
            <a:avLst/>
          </a:prstGeom>
          <a:ln w="0">
            <a:noFill/>
          </a:ln>
        </p:spPr>
      </p:pic>
      <p:sp>
        <p:nvSpPr>
          <p:cNvPr id="206" name="4 CuadroTexto"/>
          <p:cNvSpPr/>
          <p:nvPr/>
        </p:nvSpPr>
        <p:spPr>
          <a:xfrm>
            <a:off x="611280" y="3429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Constantia"/>
              </a:rPr>
              <a:t>Fue asesinado por su Fan, Andrew Cunana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http://upload.wikimedia.org/wikipedia/commons/thumb/a/ae/Andrew_Cunanan_FBI_Photo_-_cropped.jpg/220px-Andrew_Cunanan_FBI_Photo_-_cropped.jpg"/>
          <p:cNvPicPr/>
          <p:nvPr/>
        </p:nvPicPr>
        <p:blipFill>
          <a:blip r:embed="rId2"/>
          <a:stretch/>
        </p:blipFill>
        <p:spPr>
          <a:xfrm>
            <a:off x="3708360" y="4152960"/>
            <a:ext cx="1766880" cy="2282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t1.gstatic.com/images?q=tbn:ANd9GcQ6Pf-Db4j-Pd4mnB6gm2vKC49yFJMmiSVngQCCjAjhnKeCVIPo"/>
          <p:cNvPicPr/>
          <p:nvPr/>
        </p:nvPicPr>
        <p:blipFill>
          <a:blip r:embed="rId3"/>
          <a:stretch/>
        </p:blipFill>
        <p:spPr>
          <a:xfrm>
            <a:off x="3924360" y="1373040"/>
            <a:ext cx="136836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t3.gstatic.com/images?q=tbn:ANd9GcSvQHgFsDk0tbJ_JbYqNSWyrcCX4cf_Ttv6ZthyPLAIuqOchpN3yw"/>
          <p:cNvPicPr/>
          <p:nvPr/>
        </p:nvPicPr>
        <p:blipFill>
          <a:blip r:embed="rId1"/>
          <a:stretch/>
        </p:blipFill>
        <p:spPr>
          <a:xfrm>
            <a:off x="2940120" y="2349360"/>
            <a:ext cx="3287520" cy="3829320"/>
          </a:xfrm>
          <a:prstGeom prst="rect">
            <a:avLst/>
          </a:prstGeom>
          <a:ln w="0">
            <a:noFill/>
          </a:ln>
        </p:spPr>
      </p:pic>
      <p:pic>
        <p:nvPicPr>
          <p:cNvPr id="211" name="3 Rectángulo" descr=""/>
          <p:cNvPicPr/>
          <p:nvPr/>
        </p:nvPicPr>
        <p:blipFill>
          <a:blip r:embed="rId2"/>
          <a:stretch/>
        </p:blipFill>
        <p:spPr>
          <a:xfrm>
            <a:off x="85680" y="365040"/>
            <a:ext cx="9009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2:48:25Z</dcterms:created>
  <dc:creator>Pablo Tabini</dc:creator>
  <dc:description/>
  <dc:language>en-US</dc:language>
  <cp:lastModifiedBy>Pablo Tabini</cp:lastModifiedBy>
  <dcterms:modified xsi:type="dcterms:W3CDTF">2011-04-19T03:32:05Z</dcterms:modified>
  <cp:revision>5</cp:revision>
  <dc:subject/>
  <dc:title>Diapositiva 1</dc:title>
</cp:coreProperties>
</file>