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5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1B73-132A-4470-B332-19B5ADC41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452E-389F-47B3-BCA1-1027D4D89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9C9B-1ADA-46DE-ACFC-73DE488E1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F942-B325-4801-846C-BF38F28E5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C66E4-E7B5-49EC-ABAE-4FBDEADE2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CE670-923F-425B-93CC-770FFF557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E6614-DBDC-4690-92FB-F8AB77915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D77BB-220A-4392-9392-52BCB712A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4C1A4-B331-44A9-BD50-372C2B10F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8FD3F-EE67-49F4-BB7F-9832AFB68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DF1EB-2DF9-4DB8-876E-1041C948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A1A4-02FA-49EF-8AA2-5BE6AE252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A510D-D874-48D1-89DB-CB8F4116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888CF-985D-49C5-8D20-3AB7FB2CB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06F30-0DB2-4D11-8F75-607EA515B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B88AF-2883-4658-B3DC-11835749F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2FD0B-0051-4AD5-8AE7-F4E7D6A14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F43F4-5736-4B0C-A14C-B03F2DE73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8B1EA-8870-433C-8434-F31EC4633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3D37C-B3F7-4887-9849-132F055AE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A139D-6876-46F8-B5AF-A6B48BC89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A3BE7-1174-4841-BD37-59834DDEF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B988-1CC4-472E-9613-F034A6FD6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A19E5-D3D4-408F-8CE4-6E17DD6D8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731D1-27DB-4A76-8653-D8C87402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62EE6-8741-4886-A2FE-992BF26C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C027C-FDA3-4929-BAA7-F723C6E1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71F07-A700-4E58-9345-FF17FC65E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2B5E5-F88E-4947-960C-02B0F2CE6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07729-5E9D-434C-9315-789E3AFEC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FD923-D25F-4F40-B6D5-1948AC5AB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32A1D-AB6C-48C4-828F-FE7EF0FA2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46AFE-BA3E-4CA2-B507-2AEB3C253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63C2-B6A2-4F35-BEC5-9B9F94582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CE522-0404-4355-95F7-73301705A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7136F-A6EC-4C0C-A51E-7AEDA572E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C76EE-AF23-4CF7-808D-D186DF393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BAF77-F267-4DAF-9581-56C6E3064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E9873-CB0D-459D-BBEB-FE0A6CD5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DEF36-0CD6-4125-AA34-A81E04EA0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546D8-CE4E-4AED-8D87-24096E744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DD8A2-04E8-49AE-B00F-FD62C377F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CF078-4F95-4E4C-80BF-58A5726F2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AC99-0A28-4C69-BD6F-C928B125E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A11D-BE79-4CE3-B054-4FAC95554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7E5F-627F-4B52-9BEE-6FC5A87A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B2B1-8F48-4960-A522-A9F333237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E8DF-F34D-4224-8FBD-396A08E2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CE5B4-147F-4633-B981-7BFC183CCE3D}" type="slidenum">
              <a:rPr b="0" lang="es-PE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52891-C8D2-4FA5-B531-1A1F53348AAA}" type="slidenum">
              <a:rPr b="0" lang="es-PE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3BA9C-AC53-4677-8CED-A084A3952BB9}" type="slidenum">
              <a:rPr b="0" lang="es-PE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8E93F-4730-435E-8E7A-40BF2F6F9308}" type="slidenum">
              <a:rPr b="0" lang="es-PE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1 Título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ffffff"/>
                </a:solidFill>
                <a:latin typeface="Constantia"/>
              </a:rPr>
              <a:t>En la historia reciente se han efectuado varios  asesinatos en los que quien lo ejecuta es Fan del fallecido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3 Rectángulo" descr=""/>
          <p:cNvPicPr/>
          <p:nvPr/>
        </p:nvPicPr>
        <p:blipFill>
          <a:blip r:embed="rId1"/>
          <a:stretch/>
        </p:blipFill>
        <p:spPr>
          <a:xfrm>
            <a:off x="2054160" y="378000"/>
            <a:ext cx="5035680" cy="1116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" descr="http://t0.gstatic.com/images?q=tbn:ANd9GcSzKF7EQaZG7r0RdNxa8u-8N4Qgei6WqTUQCT2cbI_3TuGQ8JasEQ"/>
          <p:cNvPicPr/>
          <p:nvPr/>
        </p:nvPicPr>
        <p:blipFill>
          <a:blip r:embed="rId2"/>
          <a:stretch/>
        </p:blipFill>
        <p:spPr>
          <a:xfrm>
            <a:off x="3708360" y="1403280"/>
            <a:ext cx="1935360" cy="1927440"/>
          </a:xfrm>
          <a:prstGeom prst="rect">
            <a:avLst/>
          </a:prstGeom>
          <a:ln w="0">
            <a:noFill/>
          </a:ln>
        </p:spPr>
      </p:pic>
      <p:sp>
        <p:nvSpPr>
          <p:cNvPr id="199" name="5 CuadroTexto"/>
          <p:cNvSpPr/>
          <p:nvPr/>
        </p:nvSpPr>
        <p:spPr>
          <a:xfrm>
            <a:off x="611280" y="3429000"/>
            <a:ext cx="77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Constantia"/>
              </a:rPr>
              <a:t>Fue asesinado por su Fan, Mark Chapman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0" name="Picture 4" descr="http://1.bp.blogspot.com/_Yo3P-24EfJY/TD0DtJnBH8I/AAAAAAAAA10/TU3kTsivotc/s1600/Lennon_04_16_01_09.jpg"/>
          <p:cNvPicPr/>
          <p:nvPr/>
        </p:nvPicPr>
        <p:blipFill>
          <a:blip r:embed="rId3"/>
          <a:stretch/>
        </p:blipFill>
        <p:spPr>
          <a:xfrm>
            <a:off x="3684600" y="4149720"/>
            <a:ext cx="177480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1 Rectángulo" descr=""/>
          <p:cNvPicPr/>
          <p:nvPr/>
        </p:nvPicPr>
        <p:blipFill>
          <a:blip r:embed="rId1"/>
          <a:stretch/>
        </p:blipFill>
        <p:spPr>
          <a:xfrm>
            <a:off x="3071880" y="304920"/>
            <a:ext cx="3004920" cy="1116000"/>
          </a:xfrm>
          <a:prstGeom prst="rect">
            <a:avLst/>
          </a:prstGeom>
          <a:ln w="0">
            <a:noFill/>
          </a:ln>
        </p:spPr>
      </p:pic>
      <p:sp>
        <p:nvSpPr>
          <p:cNvPr id="202" name="3 CuadroTexto"/>
          <p:cNvSpPr/>
          <p:nvPr/>
        </p:nvSpPr>
        <p:spPr>
          <a:xfrm>
            <a:off x="611280" y="3429000"/>
            <a:ext cx="79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Constantia"/>
              </a:rPr>
              <a:t>Fue asesinada por la Presidenta de su Club de Fans, Yolanda Saldívar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3" name="Picture 2" descr="http://t1.gstatic.com/images?q=tbn:ANd9GcS7ibYctnJobIx8EwAHgxSTBRubMt5wazlDLMAt1DoYfDKe2Qbm"/>
          <p:cNvPicPr/>
          <p:nvPr/>
        </p:nvPicPr>
        <p:blipFill>
          <a:blip r:embed="rId2"/>
          <a:stretch/>
        </p:blipFill>
        <p:spPr>
          <a:xfrm>
            <a:off x="3524400" y="1247760"/>
            <a:ext cx="2095200" cy="21812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" descr="http://t3.gstatic.com/images?q=tbn:ANd9GcQXOEc9tF57YmCkplEJaIYTXsi-1tnqrvPl1oK_A0KOyypjaOwX"/>
          <p:cNvPicPr/>
          <p:nvPr/>
        </p:nvPicPr>
        <p:blipFill>
          <a:blip r:embed="rId3"/>
          <a:stretch/>
        </p:blipFill>
        <p:spPr>
          <a:xfrm>
            <a:off x="3562200" y="4653000"/>
            <a:ext cx="20196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3 Rectángulo" descr=""/>
          <p:cNvPicPr/>
          <p:nvPr/>
        </p:nvPicPr>
        <p:blipFill>
          <a:blip r:embed="rId1"/>
          <a:stretch/>
        </p:blipFill>
        <p:spPr>
          <a:xfrm>
            <a:off x="1731960" y="378000"/>
            <a:ext cx="5668920" cy="1116000"/>
          </a:xfrm>
          <a:prstGeom prst="rect">
            <a:avLst/>
          </a:prstGeom>
          <a:ln w="0">
            <a:noFill/>
          </a:ln>
        </p:spPr>
      </p:pic>
      <p:sp>
        <p:nvSpPr>
          <p:cNvPr id="206" name="4 CuadroTexto"/>
          <p:cNvSpPr/>
          <p:nvPr/>
        </p:nvSpPr>
        <p:spPr>
          <a:xfrm>
            <a:off x="611280" y="3429000"/>
            <a:ext cx="79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Constantia"/>
              </a:rPr>
              <a:t>Fue asesinado por su Fan, Andrew Cunanan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2" descr="http://upload.wikimedia.org/wikipedia/commons/thumb/a/ae/Andrew_Cunanan_FBI_Photo_-_cropped.jpg/220px-Andrew_Cunanan_FBI_Photo_-_cropped.jpg"/>
          <p:cNvPicPr/>
          <p:nvPr/>
        </p:nvPicPr>
        <p:blipFill>
          <a:blip r:embed="rId2"/>
          <a:stretch/>
        </p:blipFill>
        <p:spPr>
          <a:xfrm>
            <a:off x="3708360" y="4152960"/>
            <a:ext cx="1766880" cy="22827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" descr="http://t1.gstatic.com/images?q=tbn:ANd9GcQ6Pf-Db4j-Pd4mnB6gm2vKC49yFJMmiSVngQCCjAjhnKeCVIPo"/>
          <p:cNvPicPr/>
          <p:nvPr/>
        </p:nvPicPr>
        <p:blipFill>
          <a:blip r:embed="rId3"/>
          <a:stretch/>
        </p:blipFill>
        <p:spPr>
          <a:xfrm>
            <a:off x="3924360" y="1373040"/>
            <a:ext cx="1368360" cy="20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http://t3.gstatic.com/images?q=tbn:ANd9GcSvQHgFsDk0tbJ_JbYqNSWyrcCX4cf_Ttv6ZthyPLAIuqOchpN3yw"/>
          <p:cNvPicPr/>
          <p:nvPr/>
        </p:nvPicPr>
        <p:blipFill>
          <a:blip r:embed="rId1"/>
          <a:stretch/>
        </p:blipFill>
        <p:spPr>
          <a:xfrm>
            <a:off x="2940120" y="2349360"/>
            <a:ext cx="3287520" cy="3829320"/>
          </a:xfrm>
          <a:prstGeom prst="rect">
            <a:avLst/>
          </a:prstGeom>
          <a:ln w="0">
            <a:noFill/>
          </a:ln>
        </p:spPr>
      </p:pic>
      <p:pic>
        <p:nvPicPr>
          <p:cNvPr id="211" name="3 Rectángulo" descr=""/>
          <p:cNvPicPr/>
          <p:nvPr/>
        </p:nvPicPr>
        <p:blipFill>
          <a:blip r:embed="rId2"/>
          <a:stretch/>
        </p:blipFill>
        <p:spPr>
          <a:xfrm>
            <a:off x="85680" y="365040"/>
            <a:ext cx="900900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02:48:25Z</dcterms:created>
  <dc:creator>Pablo Tabini</dc:creator>
  <dc:description/>
  <dc:language>en-US</dc:language>
  <cp:lastModifiedBy>Pablo Tabini</cp:lastModifiedBy>
  <dcterms:modified xsi:type="dcterms:W3CDTF">2011-04-19T03:32:05Z</dcterms:modified>
  <cp:revision>5</cp:revision>
  <dc:subject/>
  <dc:title>Diapositiva 1</dc:title>
</cp:coreProperties>
</file>