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OPIN_ValsOp69n1_18-12_2'02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030-AFEE-47CA-A9BD-BB53AD4E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42D-69A5-484B-AD83-F442088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B9F-A419-4E8F-89FC-3E347A54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CFC-1A12-4CCA-BAEC-AA863DB1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28A-2AD1-4DA0-A2F8-2962DEC6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F6B-0BFD-4BC1-A9C3-F3546856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BFC-2EE0-4154-A845-8790889A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210-974D-4D51-B2D7-E81A719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67B-1C8C-4D2D-BA1B-E5B117B2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F27-6E92-4F7F-B260-FF9558A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F3D-9C7E-4F0B-B266-A7462B0B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583-9F1C-4264-9C3A-B52E233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452-C34E-4881-8D9F-5865D2846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PIN_ValsOp69n1_18-12_2&apos;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ncarbol"/>
          <p:cNvPicPr/>
          <p:nvPr/>
        </p:nvPicPr>
        <p:blipFill>
          <a:blip r:embed="rId1"/>
          <a:stretch/>
        </p:blipFill>
        <p:spPr>
          <a:xfrm>
            <a:off x="1209600" y="287280"/>
            <a:ext cx="6720120" cy="5040360"/>
          </a:xfrm>
          <a:prstGeom prst="rect">
            <a:avLst/>
          </a:prstGeom>
          <a:ln w="0">
            <a:noFill/>
          </a:ln>
        </p:spPr>
      </p:pic>
      <p:sp>
        <p:nvSpPr>
          <p:cNvPr id="42" name="9 Rectángulo"/>
          <p:cNvSpPr/>
          <p:nvPr/>
        </p:nvSpPr>
        <p:spPr>
          <a:xfrm>
            <a:off x="2643120" y="5715000"/>
            <a:ext cx="3571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Poema de </a:t>
            </a:r>
            <a:br>
              <a:rPr sz="1800"/>
            </a:b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í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escrito en el S.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588721"/>
          <p:cNvPicPr/>
          <p:nvPr/>
        </p:nvPicPr>
        <p:blipFill>
          <a:blip r:embed="rId1"/>
          <a:stretch/>
        </p:blipFill>
        <p:spPr>
          <a:xfrm>
            <a:off x="720720" y="287280"/>
            <a:ext cx="7656480" cy="464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714240" y="5214960"/>
            <a:ext cx="771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que acaricies un perr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mentes a un pájaro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oigas a un jilguero erguir triunfante su canto matinal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que de esta maner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ntirás bien por 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1488599"/>
          <p:cNvPicPr/>
          <p:nvPr/>
        </p:nvPicPr>
        <p:blipFill>
          <a:blip r:embed="rId1"/>
          <a:srcRect l="1582" t="2622" r="3541" b="0"/>
          <a:stretch/>
        </p:blipFill>
        <p:spPr>
          <a:xfrm>
            <a:off x="720720" y="287280"/>
            <a:ext cx="771048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14240" y="5214960"/>
            <a:ext cx="771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eo también que plantes una semill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 más minúscula que se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la acompañes en su crecimient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ra que descubras de cuántas vid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á hecho un árbo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540951"/>
          <p:cNvPicPr/>
          <p:nvPr/>
        </p:nvPicPr>
        <p:blipFill>
          <a:blip r:embed="rId1"/>
          <a:srcRect l="3744" t="4640" r="2863" b="4640"/>
          <a:stretch/>
        </p:blipFill>
        <p:spPr>
          <a:xfrm>
            <a:off x="843120" y="287280"/>
            <a:ext cx="7443720" cy="4608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785880" y="492912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, además, que tengas diner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que es necesario ser práctic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que por lo menos una vez por año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ngas algo de ese dinero frente a ti y digas: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"Esto es mío”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ólo para que quede cla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ién es el dueño de quié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403516"/>
          <p:cNvPicPr/>
          <p:nvPr/>
        </p:nvPicPr>
        <p:blipFill>
          <a:blip r:embed="rId1"/>
          <a:stretch/>
        </p:blipFill>
        <p:spPr>
          <a:xfrm>
            <a:off x="720720" y="287280"/>
            <a:ext cx="7718400" cy="4537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755640" y="5072040"/>
            <a:ext cx="7817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también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ninguno de tus afectos muer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o que si muere alguno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uedas llorar sin lamentarte y sufrir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sentirte culp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916166"/>
          <p:cNvPicPr/>
          <p:nvPr/>
        </p:nvPicPr>
        <p:blipFill>
          <a:blip r:embed="rId1"/>
          <a:srcRect l="9169" t="10021" r="10704" b="11820"/>
          <a:stretch/>
        </p:blipFill>
        <p:spPr>
          <a:xfrm>
            <a:off x="888840" y="287280"/>
            <a:ext cx="7326360" cy="4537080"/>
          </a:xfrm>
          <a:prstGeom prst="rect">
            <a:avLst/>
          </a:prstGeom>
          <a:ln w="0">
            <a:noFill/>
          </a:ln>
        </p:spPr>
      </p:pic>
      <p:sp>
        <p:nvSpPr>
          <p:cNvPr id="68" name="5 Rectángulo"/>
          <p:cNvSpPr/>
          <p:nvPr/>
        </p:nvSpPr>
        <p:spPr>
          <a:xfrm>
            <a:off x="714240" y="4786200"/>
            <a:ext cx="77155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por fin que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endo hombre, tengas una buena mujer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siendo mujer, tengas un buen hombre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ñana y al día siguiente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cuando estén exhaustos y sonrient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blen sobre amor para recomen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2286000" y="306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 todas estas cosas llegaran a pasar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tengo más nada que dese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palmasblancas1"/>
          <p:cNvPicPr/>
          <p:nvPr/>
        </p:nvPicPr>
        <p:blipFill>
          <a:blip r:embed="rId1"/>
          <a:stretch/>
        </p:blipFill>
        <p:spPr>
          <a:xfrm>
            <a:off x="720720" y="287280"/>
            <a:ext cx="7358040" cy="432432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0" y="4896000"/>
            <a:ext cx="91440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primero que am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amando, también seas amad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, de no ser así, seas breve en olvidar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después de olvidar, no guardes rencore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eo, pues, que no sea así, pero que si 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pas ser sin desespe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almasblancas"/>
          <p:cNvPicPr/>
          <p:nvPr/>
        </p:nvPicPr>
        <p:blipFill>
          <a:blip r:embed="rId1"/>
          <a:stretch/>
        </p:blipFill>
        <p:spPr>
          <a:xfrm>
            <a:off x="720720" y="287280"/>
            <a:ext cx="73580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5 Rectángulo"/>
          <p:cNvSpPr/>
          <p:nvPr/>
        </p:nvSpPr>
        <p:spPr>
          <a:xfrm>
            <a:off x="0" y="514368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también que tengas amigo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, incluso malos e inconsecuente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an valientes y fieles, y que por lo men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ya uno en quien confiar sin du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ropino1"/>
          <p:cNvPicPr/>
          <p:nvPr/>
        </p:nvPicPr>
        <p:blipFill>
          <a:blip r:embed="rId1"/>
          <a:srcRect l="1999" t="4808" r="1999" b="9484"/>
          <a:stretch/>
        </p:blipFill>
        <p:spPr>
          <a:xfrm>
            <a:off x="928800" y="287280"/>
            <a:ext cx="7215120" cy="4183200"/>
          </a:xfrm>
          <a:prstGeom prst="rect">
            <a:avLst/>
          </a:prstGeom>
          <a:ln w="0">
            <a:noFill/>
          </a:ln>
        </p:spPr>
      </p:pic>
      <p:sp>
        <p:nvSpPr>
          <p:cNvPr id="48" name="5 Rectángulo"/>
          <p:cNvSpPr/>
          <p:nvPr/>
        </p:nvSpPr>
        <p:spPr>
          <a:xfrm>
            <a:off x="2286000" y="4643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porque la vida es así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también que tengas enemigo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 muchos ni pocos, en la medida exact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que, algunas veces, te cuestione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us propias certezas. Y que entre ello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ya por lo menos uno que sea just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que no te sientas demasiado seg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ielo4ultimo"/>
          <p:cNvPicPr/>
          <p:nvPr/>
        </p:nvPicPr>
        <p:blipFill>
          <a:blip r:embed="rId1"/>
          <a:srcRect l="8053" t="7612" r="6542" b="16335"/>
          <a:stretch/>
        </p:blipFill>
        <p:spPr>
          <a:xfrm>
            <a:off x="720720" y="287280"/>
            <a:ext cx="7307280" cy="4537080"/>
          </a:xfrm>
          <a:prstGeom prst="rect">
            <a:avLst/>
          </a:prstGeom>
          <a:ln w="0">
            <a:noFill/>
          </a:ln>
        </p:spPr>
      </p:pic>
      <p:sp>
        <p:nvSpPr>
          <p:cNvPr id="50" name="5 Rectángulo"/>
          <p:cNvSpPr/>
          <p:nvPr/>
        </p:nvSpPr>
        <p:spPr>
          <a:xfrm>
            <a:off x="22860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además que seas útil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ás no insustituible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en los momentos malo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no quede más nad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a utilidad sea suficient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mantenerte en p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1924939"/>
          <p:cNvPicPr/>
          <p:nvPr/>
        </p:nvPicPr>
        <p:blipFill>
          <a:blip r:embed="rId1"/>
          <a:srcRect l="2980" t="2296" r="1787" b="4089"/>
          <a:stretch/>
        </p:blipFill>
        <p:spPr>
          <a:xfrm>
            <a:off x="720720" y="287280"/>
            <a:ext cx="7664400" cy="3924360"/>
          </a:xfrm>
          <a:prstGeom prst="rect">
            <a:avLst/>
          </a:prstGeom>
          <a:ln w="0">
            <a:noFill/>
          </a:ln>
        </p:spPr>
      </p:pic>
      <p:sp>
        <p:nvSpPr>
          <p:cNvPr id="52" name="5 Rectángulo"/>
          <p:cNvSpPr/>
          <p:nvPr/>
        </p:nvSpPr>
        <p:spPr>
          <a:xfrm>
            <a:off x="785880" y="4643280"/>
            <a:ext cx="75722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gualmente, te deseo que seas tolerante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con los que se equivocan poc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que eso es fácil, sino con los qu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equivocan mucho e irremediablemente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haciendo buen uso de esa toleranci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rvas de ejemplo a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lancomuelles"/>
          <p:cNvPicPr/>
          <p:nvPr/>
        </p:nvPicPr>
        <p:blipFill>
          <a:blip r:embed="rId1"/>
          <a:stretch/>
        </p:blipFill>
        <p:spPr>
          <a:xfrm>
            <a:off x="866880" y="287280"/>
            <a:ext cx="741996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785880" y="4929120"/>
            <a:ext cx="7715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que siendo joven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madures demasiado de pris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que ya maduro, no insistas en rejuvenecer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que siendo viejo no te dediques al desespero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que cada edad tiene su place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su dolor y es necesario deja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fluyan entre nos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950172"/>
          <p:cNvPicPr/>
          <p:nvPr/>
        </p:nvPicPr>
        <p:blipFill>
          <a:blip r:embed="rId1"/>
          <a:stretch/>
        </p:blipFill>
        <p:spPr>
          <a:xfrm>
            <a:off x="720720" y="287280"/>
            <a:ext cx="7691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684360" y="5084640"/>
            <a:ext cx="767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de paso que seas triste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todo el año, sino apenas un dí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o que en ese día descubr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la risa diaria es buen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la risa habitual es sosa y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risa constante es mals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503501"/>
          <p:cNvPicPr/>
          <p:nvPr/>
        </p:nvPicPr>
        <p:blipFill>
          <a:blip r:embed="rId1"/>
          <a:stretch/>
        </p:blipFill>
        <p:spPr>
          <a:xfrm>
            <a:off x="720720" y="287280"/>
            <a:ext cx="7691400" cy="4753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684360" y="5157720"/>
            <a:ext cx="7715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que descubras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urgencia máxim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 encima y a pesar de todo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xisten, y que te rodean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res oprim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ratados con injusticia y personas infel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8:07:29Z</dcterms:created>
  <dc:creator>Alberto L.G.</dc:creator>
  <dc:description/>
  <dc:language>en-US</dc:language>
  <cp:lastModifiedBy>.</cp:lastModifiedBy>
  <dcterms:modified xsi:type="dcterms:W3CDTF">2007-12-22T20:38:48Z</dcterms:modified>
  <cp:revision>0</cp:revision>
  <dc:subject/>
  <dc:title>Te deseo, escrito por Victor Hugo</dc:title>
</cp:coreProperties>
</file>