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6E4-5C6B-485B-A376-35356C88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4E3-E899-4AFD-8895-DCABAC4E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297-F5D6-4671-B31A-EF1F1946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910-D468-4DB2-BF05-A6AACC9B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3F1-FBD0-4F5E-AFBB-49254DE1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27F-FF80-4E48-BC60-5308BA5E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2BB-8D1B-4139-B1A4-B2A7B945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E82-0E60-478A-B4B7-9CC6C979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89A-476E-4275-817E-42C29EBB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681-86A9-4A06-8940-5322D460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393-1E61-4F52-BEE3-97889C5B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5F9-3BAB-46AB-A406-25FC2D74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74B2-8C5C-4EEC-A133-BCE9A8123AA5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0C9D-B779-44D6-995A-ED440C0BFE6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324000" y="189000"/>
            <a:ext cx="84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99"/>
                </a:solidFill>
                <a:latin typeface="Arial"/>
                <a:ea typeface="Arial"/>
              </a:rPr>
              <a:t>Hola 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99"/>
                </a:solidFill>
                <a:latin typeface="Arial"/>
                <a:ea typeface="Arial"/>
              </a:rPr>
              <a:t>Les mando esta presentación para que ustedes vean el fenómeno que se presento en nuestro puerto el día del temblor que sufrió Japón y después el tsunami… Ese día a la hora que dijeron las autoridades que llegaría el tsunami a costas mexicanas se manifestó este magnifico espectáculo en nuestras playas acapulqueñ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 Imagen" descr="Imagen12.jpg"/>
          <p:cNvPicPr/>
          <p:nvPr/>
        </p:nvPicPr>
        <p:blipFill>
          <a:blip r:embed="rId1"/>
          <a:stretch/>
        </p:blipFill>
        <p:spPr>
          <a:xfrm>
            <a:off x="1187280" y="1989000"/>
            <a:ext cx="709308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Mis imágenes\ACAPULCO\ESCOGIDAS\Imagen21.jpg"/>
          <p:cNvPicPr/>
          <p:nvPr/>
        </p:nvPicPr>
        <p:blipFill>
          <a:blip r:embed="rId1"/>
          <a:stretch/>
        </p:blipFill>
        <p:spPr>
          <a:xfrm>
            <a:off x="-36360" y="260280"/>
            <a:ext cx="9185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Mis imágenes\ACAPULCO\Fotos Acapulco Tomadas por mi\Vista_Marina3__Juev_2_ 2010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539640" y="189000"/>
            <a:ext cx="80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Las orillas de las playas de Acapulco estuvieron ese fin de semana lleno de masas de pescados en tal cantidad que parecían una mancha de aceite mirándolos por enc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4 Grupo"/>
          <p:cNvGrpSpPr/>
          <p:nvPr/>
        </p:nvGrpSpPr>
        <p:grpSpPr>
          <a:xfrm>
            <a:off x="1476360" y="1773360"/>
            <a:ext cx="6191280" cy="4343400"/>
            <a:chOff x="1476360" y="1773360"/>
            <a:chExt cx="6191280" cy="4343400"/>
          </a:xfrm>
        </p:grpSpPr>
        <p:pic>
          <p:nvPicPr>
            <p:cNvPr id="45" name="2 Imagen" descr="article-1365538-0D940A72000005DC-776_634x456.jpg"/>
            <p:cNvPicPr/>
            <p:nvPr/>
          </p:nvPicPr>
          <p:blipFill>
            <a:blip r:embed="rId1"/>
            <a:stretch/>
          </p:blipFill>
          <p:spPr>
            <a:xfrm>
              <a:off x="1620000" y="1773360"/>
              <a:ext cx="603756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3 Rectángulo"/>
            <p:cNvSpPr/>
            <p:nvPr/>
          </p:nvSpPr>
          <p:spPr>
            <a:xfrm>
              <a:off x="1476360" y="5950080"/>
              <a:ext cx="6191280" cy="1443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611280" y="189000"/>
            <a:ext cx="82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Miles de sardinas, anchoas, lubina y caballa aumentó poco a poco a todo lo largo de la costa del nuestro bello Acapulco en un evento vinculado al devastador tsunami japon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 Imagen" descr="article-1365538-0D942CB4000005DC-756_634x400.jpg"/>
          <p:cNvPicPr/>
          <p:nvPr/>
        </p:nvPicPr>
        <p:blipFill>
          <a:blip r:embed="rId1"/>
          <a:stretch/>
        </p:blipFill>
        <p:spPr>
          <a:xfrm>
            <a:off x="684360" y="1413000"/>
            <a:ext cx="79405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324000" y="33336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Encantados los pescadores se apresuraron en embarcaciones a motor de madera, abandonando sus cañas y redes y simplemente sacando el pescado con cubos y hasta con las 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2 Imagen" descr="article-1365538-0D943A4D000005DC-260_634x422.jpg"/>
          <p:cNvPicPr/>
          <p:nvPr/>
        </p:nvPicPr>
        <p:blipFill>
          <a:blip r:embed="rId1"/>
          <a:stretch/>
        </p:blipFill>
        <p:spPr>
          <a:xfrm>
            <a:off x="1332000" y="1557360"/>
            <a:ext cx="6740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article-1365538-0D943BF9000005DC-136_634x422.jpg"/>
          <p:cNvPicPr/>
          <p:nvPr/>
        </p:nvPicPr>
        <p:blipFill>
          <a:blip r:embed="rId1"/>
          <a:stretch/>
        </p:blipFill>
        <p:spPr>
          <a:xfrm>
            <a:off x="1120680" y="1131840"/>
            <a:ext cx="6902640" cy="459432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971640" y="189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Un espectáculo único, yo en mis 36 años de radicar en este bello puerto jamás había visto algo ig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article-1365538-0D943B6D000005DC-69_634x421.jpg"/>
          <p:cNvPicPr/>
          <p:nvPr/>
        </p:nvPicPr>
        <p:blipFill>
          <a:blip r:embed="rId1"/>
          <a:stretch/>
        </p:blipFill>
        <p:spPr>
          <a:xfrm>
            <a:off x="1258920" y="1844640"/>
            <a:ext cx="6742080" cy="4476960"/>
          </a:xfrm>
          <a:prstGeom prst="rect">
            <a:avLst/>
          </a:prstGeom>
          <a:ln w="0">
            <a:noFill/>
          </a:ln>
        </p:spPr>
      </p:pic>
      <p:sp>
        <p:nvSpPr>
          <p:cNvPr id="54" name="2 CuadroTexto"/>
          <p:cNvSpPr/>
          <p:nvPr/>
        </p:nvSpPr>
        <p:spPr>
          <a:xfrm>
            <a:off x="971640" y="18900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Los turistas estaban sorprendidos, algunos asustados y no se atrevían a meterse al mar, otros se dieron gusto y hasta sacaron a manos llenas las sardinas, anchoas o lubinas que caían en las manos de los alegres pes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article-1365538-0D9436CD000005DC-209_634x383.jpg"/>
          <p:cNvPicPr/>
          <p:nvPr/>
        </p:nvPicPr>
        <p:blipFill>
          <a:blip r:embed="rId1"/>
          <a:stretch/>
        </p:blipFill>
        <p:spPr>
          <a:xfrm>
            <a:off x="1258920" y="1916280"/>
            <a:ext cx="6742080" cy="40734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900000" y="333360"/>
            <a:ext cx="712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Ya mas confiados se acercaban maravillados a ver lo que muy pocos ojos humanos han visto Imagínense la cantidad de pescados para que se ennegrecieran las aguas tal como se ve en esta foto… ¡Eran miles y mil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144360" y="7920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99"/>
                </a:solidFill>
                <a:latin typeface="Arial"/>
                <a:ea typeface="Arial"/>
              </a:rPr>
              <a:t>Sin duda alguna que pasan maravillosas cosas en nuestro hermoso y bello planeta, cada vez y a cada momento la naturaleza nos da lecciones de la grandiosidad de la creación haciéndonos sentir lo pequeños que somos… Observen esta espectacular foto del puerto de mis amores …Sencillamente b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 Imagen" descr="Imagen3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042920" y="1557360"/>
            <a:ext cx="72788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Mis imágenes\ACAPULCO\ACAPULCO 6\Imagen34.jpg"/>
          <p:cNvPicPr/>
          <p:nvPr/>
        </p:nvPicPr>
        <p:blipFill>
          <a:blip r:embed="rId1"/>
          <a:stretch/>
        </p:blipFill>
        <p:spPr>
          <a:xfrm>
            <a:off x="0" y="1170000"/>
            <a:ext cx="9252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8:45:58Z</dcterms:created>
  <dc:creator>carlos Vazquez y Salas</dc:creator>
  <dc:description/>
  <dc:language>en-US</dc:language>
  <cp:lastModifiedBy>OEM</cp:lastModifiedBy>
  <dcterms:modified xsi:type="dcterms:W3CDTF">2011-05-04T12:23:22Z</dcterms:modified>
  <cp:revision>11</cp:revision>
  <dc:subject/>
  <dc:title>Diapositiva 1</dc:title>
</cp:coreProperties>
</file>