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Bebo%20pra%20carai-Part%202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4FF-15DE-44F0-9205-7BC52AEC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68E-43D1-4245-8387-8FA1971F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39C-8422-4BD0-8C2D-19558893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089-A51E-4A25-81B7-3DAFA5F5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C02-A0DC-43CF-8107-D2A88A27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EF0-9D6A-47FD-A48B-B3D7D589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187-1011-4BA9-A802-6821024E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83E-B3D2-41DF-B8C9-A2BD8F32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69C-A3EC-4110-B2CF-2067BB83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205-AE54-43EF-8C22-80F93B7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CC0-9E87-4718-997C-9BE73D28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21C-9DC3-4811-A7C7-605886E2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A35D-C505-4470-94E2-8EEB6FE75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audio" Target="../media/Bebo%20pra%20carai-Part%202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"/>
          <p:cNvSpPr/>
          <p:nvPr/>
        </p:nvSpPr>
        <p:spPr>
          <a:xfrm>
            <a:off x="0" y="857160"/>
            <a:ext cx="907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Aviso a mis amigos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E:\G I F S\RISOS +CARETAS\001 (616).gif"/>
          <p:cNvPicPr/>
          <p:nvPr/>
        </p:nvPicPr>
        <p:blipFill>
          <a:blip r:embed="rId2"/>
          <a:stretch/>
        </p:blipFill>
        <p:spPr>
          <a:xfrm>
            <a:off x="2714760" y="3500280"/>
            <a:ext cx="3510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O U T U B R O\CLAUDIO\7.jpg"/>
          <p:cNvPicPr/>
          <p:nvPr/>
        </p:nvPicPr>
        <p:blipFill>
          <a:blip r:embed="rId2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03acf.gif"/>
          <p:cNvPicPr/>
          <p:nvPr/>
        </p:nvPicPr>
        <p:blipFill>
          <a:blip r:embed="rId2"/>
          <a:stretch/>
        </p:blipFill>
        <p:spPr>
          <a:xfrm>
            <a:off x="1000080" y="428760"/>
            <a:ext cx="28926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03ac5.gif"/>
          <p:cNvPicPr/>
          <p:nvPr/>
        </p:nvPicPr>
        <p:blipFill>
          <a:blip r:embed="rId3"/>
          <a:stretch/>
        </p:blipFill>
        <p:spPr>
          <a:xfrm>
            <a:off x="0" y="2571840"/>
            <a:ext cx="8643960" cy="85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03ac5.gif"/>
          <p:cNvPicPr/>
          <p:nvPr/>
        </p:nvPicPr>
        <p:blipFill>
          <a:blip r:embed="rId4"/>
          <a:stretch/>
        </p:blipFill>
        <p:spPr>
          <a:xfrm flipH="1">
            <a:off x="285480" y="3857760"/>
            <a:ext cx="8643960" cy="8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203acf.gif"/>
          <p:cNvPicPr/>
          <p:nvPr/>
        </p:nvPicPr>
        <p:blipFill>
          <a:blip r:embed="rId5"/>
          <a:stretch/>
        </p:blipFill>
        <p:spPr>
          <a:xfrm>
            <a:off x="5286240" y="4714920"/>
            <a:ext cx="2892600" cy="171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465300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En el bar al que iba antes, siempre me traían la cerveza calient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  <p:sndAc>
      <p:stSnd>
        <p:snd r:embed="rId6" name="Bebo%20pra%20carai-Part%20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G I F S\RISOS +CARETAS\001 (616).gif"/>
          <p:cNvPicPr/>
          <p:nvPr/>
        </p:nvPicPr>
        <p:blipFill>
          <a:blip r:embed="rId2"/>
          <a:stretch/>
        </p:blipFill>
        <p:spPr>
          <a:xfrm>
            <a:off x="2714760" y="3500280"/>
            <a:ext cx="3510000" cy="242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79640" y="1628640"/>
            <a:ext cx="53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mbié de Bar 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90760" y="476280"/>
            <a:ext cx="61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iero informarles que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O U T U B R O\CLAUDIO\1.jpg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O U T U B R O\CLAUDIO\2.jpg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O U T U B R O\CLAUDIO\3.jpg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O U T U B R O\CLAUDIO\4.jpg"/>
          <p:cNvPicPr/>
          <p:nvPr/>
        </p:nvPicPr>
        <p:blipFill>
          <a:blip r:embed="rId2"/>
          <a:stretch/>
        </p:blipFill>
        <p:spPr>
          <a:xfrm>
            <a:off x="-396720" y="-2700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O U T U B R O\CLAUDIO\5.jpg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O U T U B R O\CLAUDIO\6.jpg"/>
          <p:cNvPicPr/>
          <p:nvPr/>
        </p:nvPicPr>
        <p:blipFill>
          <a:blip r:embed="rId2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O U T U B R O\CLAUDIO\8.jpg"/>
          <p:cNvPicPr/>
          <p:nvPr/>
        </p:nvPicPr>
        <p:blipFill>
          <a:blip r:embed="rId2"/>
          <a:stretch/>
        </p:blipFill>
        <p:spPr>
          <a:xfrm>
            <a:off x="-361800" y="0"/>
            <a:ext cx="954216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3:55:22Z</dcterms:created>
  <dc:creator>CAP</dc:creator>
  <dc:description/>
  <dc:language>en-US</dc:language>
  <cp:lastModifiedBy>ROB</cp:lastModifiedBy>
  <dcterms:modified xsi:type="dcterms:W3CDTF">2008-05-05T01:46:06Z</dcterms:modified>
  <cp:revision>3</cp:revision>
  <dc:subject/>
  <dc:title>Slide 1</dc:title>
</cp:coreProperties>
</file>