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ndlesslov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CA1-BF00-4239-A635-BECD2C47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83A-0804-427F-8BC4-218C4CDF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B8F-7FA4-473C-B941-89A49408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1BD-F369-4E4F-9809-4FF74B51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FE3-E432-4C5A-915D-D069B6C2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C3B-5B9F-4E62-AFB5-DD609400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58A-B8EE-407B-89E2-AAB97410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515-98BA-4C3D-8FC0-CE21CFC6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300-4EF6-4CEC-88B3-FD3D9990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431-9AC3-43C0-A2C0-349CE328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C4A-ACE6-45A9-992A-10486890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0ED-9634-42D1-A08A-99A7903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36E0-B66F-48FE-B3F3-59CE2EA67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dlesslov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omic Sans MS"/>
              </a:rPr>
              <a:t>EL BOMBERO DE ARIZO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10080" y="57909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Endlesslo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E DIA, MAS TARDE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LA SE DIRIGIÓ A L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TACIÓN DE BOMBERO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 PHOENIX, ARIZO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LLÍ CONOCIO AL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BOMBERO BOB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 HOMBRE CON UN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RAZÓN GRAND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MO PHOENIX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LA LE EXPLICO EL 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ÚLTIMO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SEO DE SU HIJ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 LE PREGUNTO SI ERA POSIBLE DARLE A SU HIJO DE SEIS AÑOS UN PASEO ALREDEDOR DE LA CUADRA EN  UN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AMIÓN BOMBE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BOMBERO BOB DIJO: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“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MIRE, PODEMOS HACER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LGO MEJOR QUE ESO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”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ENGA A SU HIJO LIST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MIÉRCOLES A LA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7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N PUNTO DE LA MAÑAN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 LO HAREMOS UN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BOMBERO HONORARIO“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URANTE TODO EL DI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É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 PUEDE VENIR CON NOSOTROS AQUÍ A LA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TACIÓN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MER CON NOSOTROS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ALIR CON NOSOTROS CUANDO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RECIBAMOS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LAMADAS DE INCENDIOS, POR TODO LO ANCH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 SI USTED NOS DA SUS MEDIDAS,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E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NSEGUIREMOS UN VERDADERO UNIFORME DE BOMBERO, CON UN SOMBRERO VERDADERO QUE LLEVE EL EMBLEMA DE LA ESTACIÓN DE BOMBERO DE PHOENIX,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NO UNO DE JUGUETE, SINO EL EMBLEMA AMARILLO QUE NOSOTROS LLEVAMOS Y SUS BOTAS DE HU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ODO ESO ES HECHO AQUÍ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N PHOENIX, ASÍ QUE NO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 FÁCIL CONSEGUIRLO BASTANTE RÁPID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RES DÍAS MÁS TARDE EL BOMBERO BOB RECOGIÓ A BILLY, LE PUSO SU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IFORME DE BOMBER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 LO CONDUJO DESD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CAMA DEL HOSPITAL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ASTA EL CAMIÓN BOMBE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BILLY TUVO QUE SENTARS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N LA PARTE DE ATRÁ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L CAMIÓN Y AYUDAR A CONDUCIRLO DE REGRES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 LA ESTACIÓN.</a:t>
            </a:r>
            <a:br>
              <a:rPr sz="4000"/>
            </a:b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É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 SE SENTÍA COM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N EL CIEL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5000" spc="-1" strike="noStrike">
                <a:solidFill>
                  <a:srgbClr val="000080"/>
                </a:solidFill>
                <a:latin typeface="Comic Sans MS"/>
              </a:rPr>
              <a:t>¿ </a:t>
            </a:r>
            <a:r>
              <a:rPr b="0" lang="es-ES" sz="5000" spc="-1" strike="noStrike">
                <a:solidFill>
                  <a:srgbClr val="000080"/>
                </a:solidFill>
                <a:latin typeface="Comic Sans MS"/>
              </a:rPr>
              <a:t>QU</a:t>
            </a:r>
            <a:r>
              <a:rPr b="0" lang="es-GT" sz="5000" spc="-1" strike="noStrike">
                <a:solidFill>
                  <a:srgbClr val="000080"/>
                </a:solidFill>
                <a:latin typeface="Comic Sans MS"/>
              </a:rPr>
              <a:t>É</a:t>
            </a:r>
            <a:r>
              <a:rPr b="0" lang="es-ES" sz="5000" spc="-1" strike="noStrike">
                <a:solidFill>
                  <a:srgbClr val="000080"/>
                </a:solidFill>
                <a:latin typeface="Comic Sans MS"/>
              </a:rPr>
              <a:t> QUIERES SER</a:t>
            </a:r>
            <a:r>
              <a:rPr b="0" lang="es-GT" sz="5000" spc="-1" strike="noStrike">
                <a:solidFill>
                  <a:srgbClr val="000080"/>
                </a:solidFill>
                <a:latin typeface="Comic Sans MS"/>
              </a:rPr>
              <a:t>,</a:t>
            </a:r>
            <a:r>
              <a:rPr b="0" lang="es-ES" sz="5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5000"/>
            </a:br>
            <a:r>
              <a:rPr b="0" lang="es-ES" sz="5000" spc="-1" strike="noStrike">
                <a:solidFill>
                  <a:srgbClr val="000080"/>
                </a:solidFill>
                <a:latin typeface="Comic Sans MS"/>
              </a:rPr>
              <a:t>CUANDO SEAS GRANDE 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UBO TRES LLAMADAS EN PHOENIX ESE DIA Y BILLY TUVO QUE SALIR EN LAS TRES LLAMADAS.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FUE EN TRES CAMIONES DIFERENTES.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FUE EN EL MICROBÚS PARAMÉDICO Y TAMBIÉN EN EL CARRO DEL JEFE DE BOMBERO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AMBIÉN LE TOMARON VIDEOS PARA LAS NO TICIAS LOCALE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 TELEVIS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ABIENDO HECHO REALIDAD SU SUEÑO Y CON TODO EL AMOR Y LA ATENCIÓN QUE LE FUE DADA, BILLY FUE TOCADO TAN PROFUNDAMENTE EN SU CORAZÓN, QUE LOGRÓ VIVIR TRES MESES MAS DE LO QUE CUALQUIER MÉDICO PENSÓ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QUE VIVIRÍ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A NOCHE TODAS SUS SEÑALES VITALES COMENZARON A DECAER DRAMÁTICAMENTE Y EL JEFE DE ENFERMERÍA, QUE CREÍA EN EL CONCEPTO HOSPICIAL QUE NADIE DEBE MORIR SOLO, COMENZÓ A LLAMAR A LOS MIEMBROS DE LA FAMILIA PARA QUE VINIERAN AL HOSPITA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UEGO, RECORDÓ EL DIA EN QUE BILLY HABÍA PASADO COMO SI FUERA UN BOMBERO, ASÍ QUE LLAMO AL JEFE DE LA ESTACIÓN Y LE PREGUNT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Ó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SI ERA POSIBLE QUE ENVIARA A UN "BOMBERO" UNIFORMADO AL HOSPITAL PARA QUE ESTUVIERA CON BILLY MIENTRAS ENTREGABA SU ALM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JEFE LE DIJO:</a:t>
            </a:r>
            <a:br>
              <a:rPr sz="4000"/>
            </a:b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“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AREMOS ALGO MEJOR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”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TAREMOS ALLÍ EN CINCO MINUTO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¿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ME HARÁ UN FAVOR?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UANDO OIGAN LAS SIRENAS SONANDO Y LAS LUCES CENTELLEANDO, PODRÍA ANUNCIAR POR LOS ALTOPARLANTES QU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NO HAY NINGÚN INCENDIO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INO QUE ES EL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PARTAMENTO DE BOMBEROS QUE VA A VER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 UNO DE SU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MAS FINOS MIEMBRO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A VEZ MAS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,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POR FAVOR, PODRÍA ABRIR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VENTANA DE SU CUARTO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MO CINCO MINUTOS MÁS TARDE, UN GANCHO Y LA ESCALERA DEL CARRO BOMBERO, LLEGARON AL HOSPITAL, Y SE EXTENDIERON HASTA EL TERCER PISO DONDE ESTABA LA VENTANA ABIERTA DEL CUARTO DE BILLY Y 16 "BOMBEROS" SUBIERON POR ELLA Y ENTRARON AL CUART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N EL PERMISO DE SU MAMA, CADA UNO DE ELLOS LO ABRAZO Y LO ARRULLABAN DICIÉNDOLE CUANTO LO AMABA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MADRE DE 26 AÑO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E QUED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Ó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ABSORBID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MIRANDO A SU HIJ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QUE MORÍA D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EUCEMIA TERMINA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N ALIENTO AGONIZANTE, BILLY MIRO AL JEFE DE LOS BOMBEROS Y DIJO:</a:t>
            </a: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JEFE,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¿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OY VERDADERAMENT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 BOMBERO AHORA?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JEFE LE RESPONDIÓ: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SI, BILLY, LO ERES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N ESAS PALABRAS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BILLY SONRIÓ Y CERRÓ SUS OJOS POR ULTIMA V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RECORDEMOS QUE LO QUE LOS SERES HUMANOS NECESITAMOS ES EL CONOCIMIENTO Y EL AMOR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E DIOS MANIFESTADOS A TRAVÉS DE NUESTROS SEMEJAN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POR FAVOR, PASE ESTO A CUATRO PERSONAS QUE USTED DESEE QUE SEAN BENDECID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ESTA ORACIÓN ES PODEROSA Y NO HAY NADA ADJUNTO,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NO ROMPA ESTE PATRÓN,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LA ORACIÓN ES UNO DE LOS MEJORES REGALOS QUE RECIBIMOS.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NO TIENE COSTO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,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SINO MUCHA RECOMPENSA.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CONTINUEMOS ORANDO EL UNO POR EL OTRO.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¡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IOS LOS BENDIGA Y QUE TENGAN UN BUEN DIA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"PADRE, TE RUEGO BENDECID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A MIS AMIGOS PARIENTES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Y HERMANOS DE ESTA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LISTA DE CORREO QUE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LEEN ESTO AHORA.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 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MUÉSTRALES UNA NUEVA REVELACIÓN DE TU AMOR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Y PO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ESPÍRITU SANTO, TE SUPLICO QUE MINISTRES SUS ESPÍRITUS EN ESTE MOM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ONDE HAY DOLOR,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ALES TU PAZ Y TU MISERICORDIA.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ONDE HAY DUDAS, DALES UNA CONFIANZA RENOVADA POR MEDIO DE TU GRACIA.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AMEN"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UNQUE SU CORAZÓN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TABA AGOBIAD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POR LA TRISTEZA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AMBIÉN 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ELLA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ENI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 FUERTE SENTIDO DE DETERMINACIÓ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¡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CUÍDENSE MUCHO QUE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IOS LOS BENDIGA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P.D.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: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CON GRAN ORGULLO Y GRACIAS A DIOS TENGO A MAS DE 4 PERSONAS PARA ENVIARLES ESTE MENSAJ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MO CUALQUIER MADRE, DESEABA QUE SU HIJ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RECIERA Y REALIZAR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ODOS SUS SUEÑOS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,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PERO AHORA ESO NO ERA POSIBLE PARA SU HIJO.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LEUCEMIA NO SE LO PERMITIRÍ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PERO AUN ASÍ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LA TODAVÍA QUERÍ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QUE LOS SUEÑOS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 SU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IJO SE REALIZARAN.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..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LA TOMO LA MANO D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U HIJO Y LE PREGUNTO: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BILLY, 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¿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LGUNA VEZ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PENSASTE EN LO QUE QUERÍAS SER CUANDO 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C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RECIERAS?,</a:t>
            </a: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¿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OÑASTE ALGUNA VEZ Y PENSASTE EN LO QUE HARÍAS CON TU VIDA?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MAMI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IEMPRE QUIS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ER UN BOMBER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UANDO CRECIERA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MADRE SE SONRIÓ Y DIJO: "VEAMOS SI PODEMOS HACER REALIDAD TU SUEÑO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6:19:37Z</dcterms:created>
  <dc:creator>Ing. Carlos Esquivel</dc:creator>
  <dc:description/>
  <dc:language>en-US</dc:language>
  <cp:lastModifiedBy>juan.perez</cp:lastModifiedBy>
  <dcterms:modified xsi:type="dcterms:W3CDTF">2006-05-30T00:11:51Z</dcterms:modified>
  <cp:revision>12</cp:revision>
  <dc:subject/>
  <dc:title>EL BOMBERO DE ARIZONA</dc:title>
</cp:coreProperties>
</file>