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dlesslov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D97-B7D3-47AA-8DB9-CAF6F5B8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BF3-166E-4399-8C6F-D5CB0CB6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3AA-457F-4C36-A8DC-A84A604A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ED0-7894-465A-8B2A-A4C6789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62D-B0DE-4BDB-A004-009546D5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CF8-A9EA-4176-9A90-B9A0437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7C2-0820-4190-8EB1-680655F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A79-B404-42DB-AF7A-2B96D1BF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31C-F281-405E-8E60-6DA22E4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251-1106-4F4B-B8AB-4D6CAD4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614-6D62-473E-B754-16A2404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995-0AFD-4313-8117-0EF8D2C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E7ED-369D-4A69-B522-445808C46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dlesslov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80"/>
                </a:solidFill>
                <a:latin typeface="Comic Sans MS"/>
              </a:rPr>
              <a:t>EL BOMBERO DE ARIZO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5790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Endless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E DIA, MAS TARDE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SE DIRIGIÓ A L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CIÓN DE BOMBER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PHOENIX, ARIZO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LÍ CONOCIO A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OMBERO BOB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HOMBRE CON UN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RAZÓN GRAN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PHOENIX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LE EXPLICO EL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ÚLTIMO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SEO DE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E PREGUNTO SI ERA POSIBLE DARLE A SU HIJO DE SEIS AÑOS UN PASEO ALREDEDOR DE LA CUADRA EN  UN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AMIÓN BOMB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BOMBERO BOB DIJO: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“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IRE, PODEMOS HACER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GO MEJOR QUE ES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”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ENGA A SU HIJO LIST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MIÉRCOLES A LA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7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PUNTO DE LA MAÑAN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O HAREMOS UN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BOMBERO HONORARIO“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URANTE TODO EL DI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 PUEDE VENIR CON NOSOTROS AQUÍ A LA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CIÓN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ER CON NOSOTROS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ALIR CON NOSOTROS CUAND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RECIBAM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LAMADAS DE INCENDIOS, POR TODO LO ANCH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SI USTED NOS DA SUS MEDIDAS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E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SEGUIREMOS UN VERDADERO UNIFORME DE BOMBERO, CON UN SOMBRERO VERDADERO QUE LLEVE EL EMBLEMA DE LA ESTACIÓN DE BOMBERO DE PHOENIX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NO UNO DE JUGUETE, SINO EL EMBLEMA AMARILLO QUE NOSOTROS LLEVAMOS Y SUS BOTAS DE HU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ODO ESO ES HECHO AQUÍ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PHOENIX, ASÍ QUE N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 FÁCIL CONSEGUIRLO BASTANTE RÁPID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RES DÍAS MÁS TARDE EL BOMBERO BOB RECOGIÓ A BILLY, LE PUSO SU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IFORME DE BOMBER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 LO CONDUJO DES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CAMA DEL HOSPITA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STA EL CAMIÓN BOMB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ILLY TUVO QUE SENTARS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LA PARTE DE ATRÁ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L CAMIÓN Y AYUDAR A CONDUCIRLO DE REGRES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 LA ESTACIÓN.</a:t>
            </a:r>
            <a:br>
              <a:rPr sz="4000"/>
            </a:b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 SE SENTÍA COM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N EL CIEL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¿ 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QU</a:t>
            </a: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É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 QUIERES SER</a:t>
            </a:r>
            <a:r>
              <a:rPr b="0" lang="es-GT" sz="5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5000"/>
            </a:br>
            <a:r>
              <a:rPr b="0" lang="es-ES" sz="5000" spc="-1" strike="noStrike">
                <a:solidFill>
                  <a:srgbClr val="000080"/>
                </a:solidFill>
                <a:latin typeface="Comic Sans MS"/>
              </a:rPr>
              <a:t>CUANDO SEAS GRANDE 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UBO TRES LLAMADAS EN PHOENIX ESE DIA Y BILLY TUVO QUE SALIR EN LAS TRES LLAMADAS.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FUE EN TRES CAMIONES DIFERENTES.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FUE EN EL MICROBÚS PARAMÉDICO Y TAMBIÉN EN EL CARRO DEL JEFE DE BOMBERO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AMBIÉN LE TOMARON VIDEOS PARA LAS NO TICIAS LOCALE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TELEVIS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BIENDO HECHO REALIDAD SU SUEÑO Y CON TODO EL AMOR Y LA ATENCIÓN QUE LE FUE DADA, BILLY FUE TOCADO TAN PROFUNDAMENTE EN SU CORAZÓN, QUE LOGRÓ VIVIR TRES MESES MAS DE LO QUE CUALQUIER MÉDICO PENSÓ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VIVIR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A NOCHE TODAS SUS SEÑALES VITALES COMENZARON A DECAER DRAMÁTICAMENTE Y EL JEFE DE ENFERMERÍA, QUE CREÍA EN EL CONCEPTO HOSPICIAL QUE NADIE DEBE MORIR SOLO, COMENZÓ A LLAMAR A LOS MIEMBROS DE LA FAMILIA PARA QUE VINIERAN AL HOSPIT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UEGO, RECORDÓ EL DIA EN QUE BILLY HABÍA PASADO COMO SI FUERA UN BOMBERO, ASÍ QUE LLAMO AL JEFE DE LA ESTACIÓN Y LE PREGUNT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Ó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SI ERA POSIBLE QUE ENVIARA A UN "BOMBERO" UNIFORMADO AL HOSPITAL PARA QUE ESTUVIERA CON BILLY MIENTRAS ENTREGABA SU ALM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JEFE LE DIJO:</a:t>
            </a:r>
            <a:br>
              <a:rPr sz="4000"/>
            </a:b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“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AREMOS ALGO MEJO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”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REMOS ALLÍ EN CINCO MINUTO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E HARÁ UN FAVOR?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UANDO OIGAN LAS SIRENAS SONANDO Y LAS LUCES CENTELLEANDO, PODRÍA ANUNCIAR POR LOS ALTOPARLANTES QU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NO HAY NINGÚN INCENDI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INO QUE ES EL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PARTAMENTO DE BOMBEROS QUE VA A VE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 UNO DE SU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AS FINOS MIEMBR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A VEZ MA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Y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POR FAVOR, PODRÍA ABRIR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VENTANA DE SU CUARTO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CINCO MINUTOS MÁS TARDE, UN GANCHO Y LA ESCALERA DEL CARRO BOMBERO, LLEGARON AL HOSPITAL, Y SE EXTENDIERON HASTA EL TERCER PISO DONDE ESTABA LA VENTANA ABIERTA DEL CUARTO DE BILLY Y 16 "BOMBEROS" SUBIERON POR ELLA Y ENTRARON AL CUART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EL PERMISO DE SU MAMA, CADA UNO DE ELLOS LO ABRAZO Y LO ARRULLABAN DICIÉNDOLE CUANTO LO AMABA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MADRE DE 26 AÑOS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E QUED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Ó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ABSORBID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MIRANDO A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MORÍA 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EUCEMIA TERMIN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ALIENTO AGONIZANTE, BILLY MIRO AL JEFE DE LOS BOMBEROS Y DIJO: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JEFE,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OY VERDADERAMENT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BOMBERO AHORA?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 JEFE LE RESPONDIÓ: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SI, BILLY, LO ERES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N ESAS PALABRAS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BILLY SONRIÓ Y CERRÓ SUS OJOS POR ULTIMA V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RECORDEMOS QUE LO QUE LOS SERES HUMANOS NECESITAMOS ES EL CONOCIMIENTO Y EL AMOR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E DIOS MANIFESTADOS A TRAVÉS DE NUESTROS SEMEJAN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POR FAVOR, PASE ESTO A CUATRO PERSONAS QUE USTED DESEE QUE SEAN BENDECID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ESTA ORACIÓN ES PODEROSA Y NO HAY NADA ADJUNTO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NO ROMPA ESTE PATRÓN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A ORACIÓN ES UNO DE LOS MEJORES REGALOS QUE RECIBIMOS.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NO TIENE COSTO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SINO MUCHA RECOMPENSA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ONTINUEMOS ORANDO EL UNO POR EL OTRO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¡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IOS LOS BENDIGA Y QUE TENGAN UN BUEN DIA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"PADRE, TE RUEGO BENDECID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A MIS AMIGOS PARIENTES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Y HERMANOS DE ESTA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ISTA DE CORREO QUE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LEEN ESTO AHORA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 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MUÉSTRALES UNA NUEVA REVELACIÓN DE TU AMOR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Y PO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ESPÍRITU SANTO, TE SUPLICO QUE MINISTRES SUS ESPÍRITUS EN ESTE MOM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ONDE HAY DOLOR,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ALES TU PAZ Y TU MISERICORDIA.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ONDE HAY DUDAS, DALES UNA CONFIANZA RENOVADA POR MEDIO DE TU GRACIA.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AMEN"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UNQUE SU CORAZÓN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STABA AGOBIAD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OR LA TRISTEZA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AMBIÉN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ELLA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ENI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UN FUERTE SENTIDO DE DETERMINACIÓ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¡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UÍDENSE MUCHO QUE </a:t>
            </a:r>
            <a:br>
              <a:rPr sz="4400"/>
            </a:b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DIOS LOS BENDIGA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P.D.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: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GT" sz="4400" spc="-1" strike="noStrike">
                <a:solidFill>
                  <a:srgbClr val="000080"/>
                </a:solidFill>
                <a:latin typeface="Comic Sans MS"/>
              </a:rPr>
              <a:t>  </a:t>
            </a:r>
            <a:r>
              <a:rPr b="0" lang="es-ES" sz="4400" spc="-1" strike="noStrike">
                <a:solidFill>
                  <a:srgbClr val="000080"/>
                </a:solidFill>
                <a:latin typeface="Comic Sans MS"/>
              </a:rPr>
              <a:t>CON GRAN ORGULLO Y GRACIAS A DIOS TENGO A MAS DE 4 PERSONAS PARA ENVIARLES ESTE MENSAJ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OMO CUALQUIER MADRE, DESEABA QUE SU HIJ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RECIERA Y REALIZAR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TODOS SUS SUEÑ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,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RO AHORA ESO NO ERA POSIBLE PARA SU HIJO.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LEUCEMIA NO SE LO PERMITIR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RO AUN ASÍ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TODAVÍA QUERÍA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QUE LOS SUEÑOS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DE SU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HIJO SE REALIZARAN.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..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ELLA TOMO LA MANO D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U HIJO Y LE PREGUNTO: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BILLY,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ALGUNA VEZ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PENSASTE EN LO QUE QUERÍAS SER CUANDO </a:t>
            </a: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C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RECIERAS?,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s-GT" sz="4000" spc="-1" strike="noStrike">
                <a:solidFill>
                  <a:srgbClr val="000080"/>
                </a:solidFill>
                <a:latin typeface="Comic Sans MS"/>
              </a:rPr>
              <a:t>¿</a:t>
            </a: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OÑASTE ALGUNA VEZ Y PENSASTE EN LO QUE HARÍAS CON TU VIDA?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"MAMI,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IEMPRE QUISE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SER UN BOMBERO </a:t>
            </a:r>
            <a:br>
              <a:rPr sz="4000"/>
            </a:b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CUANDO CRECIERA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80"/>
                </a:solidFill>
                <a:latin typeface="Comic Sans MS"/>
              </a:rPr>
              <a:t>LA MADRE SE SONRIÓ Y DIJO: "VEAMOS SI PODEMOS HACER REALIDAD TU SUEÑO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19:37Z</dcterms:created>
  <dc:creator>Ing. Carlos Esquivel</dc:creator>
  <dc:description/>
  <dc:language>en-US</dc:language>
  <cp:lastModifiedBy>juan.perez</cp:lastModifiedBy>
  <dcterms:modified xsi:type="dcterms:W3CDTF">2006-05-30T00:11:51Z</dcterms:modified>
  <cp:revision>12</cp:revision>
  <dc:subject/>
  <dc:title>EL BOMBERO DE ARIZONA</dc:title>
</cp:coreProperties>
</file>