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ENDELSSOHN%20Concierto%20Viol%C3%ADn%20CD1%20-No10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649-B337-4924-AF76-55FAECEE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D33-F5A2-4EDA-8B7D-1D85F34D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4D0-4B6C-4A52-A6AD-75916D2F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F6B-5F1B-4D5F-A028-F34EC231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D51-2445-499E-86E7-FE7B2D54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F04-70A4-4E50-8980-39D8BBA4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4E1-A8CD-4706-8D61-6F27A453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393-588C-43F2-9833-0166E261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9FA-3020-4236-8EB6-93F60F06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E4E-D399-46DE-8E7A-CD34914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381-76CC-4090-BFBD-51635E32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7EA-743F-443C-83F0-49C86CE8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1CB0-D32B-40F6-A567-6831BFB060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ENDELSSOHN%20Concierto%20Viol&#237;n%20CD1%20-No1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5120" y="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El Camino de Jesús es una senda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que nos conducirá a la libertad: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la libertad radical que nos permite participar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en la Gran Obra de Arte de Dios 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de manera libre, espontánea y creativa...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y para todos juntos.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Monotype Corsiva"/>
              </a:rPr>
              <a:t>Albert No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71500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cos 8, 27-3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4 domingo –B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3 septiembr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MENDELSSOHN%20Concierto%20Viol%C3%ADn%20CD1%20-No10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3400" y="304920"/>
            <a:ext cx="801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000000"/>
                </a:solidFill>
                <a:latin typeface="Georgia"/>
              </a:rPr>
              <a:t>35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Porque el que quiera salvar su vida, la perderá, pero el que pierda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u vida por mí y por la buena noticia, la salvará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0384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Salvar la vida”, es ceder a la tentación de instalarse en el sistema. 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 “Perder la vida”, afirmarla en su verdadero sentido: la vida como don, como entrega. Es como si nos dijera: “A quien venga conmigo voy a llevarle a la </a:t>
            </a:r>
            <a:r>
              <a:rPr b="0" i="1" lang="es-ES" sz="1800" spc="-1" strike="noStrike">
                <a:solidFill>
                  <a:srgbClr val="ff9900"/>
                </a:solidFill>
                <a:latin typeface="Comic Sans MS"/>
              </a:rPr>
              <a:t>ganancia</a:t>
            </a: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 por el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“extraño” camino de la </a:t>
            </a:r>
            <a:r>
              <a:rPr b="0" i="1" lang="es-ES" sz="1800" spc="-1" strike="noStrike">
                <a:solidFill>
                  <a:srgbClr val="ff9900"/>
                </a:solidFill>
                <a:latin typeface="Comic Sans MS"/>
              </a:rPr>
              <a:t>pérdida</a:t>
            </a: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, que es el camino mío y no conozco otro. 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La única condición que pongo es estar dispuest@ a fiarse de mí y de mi manera de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salvar su vida, que sea capaz de confiármela, como yo la confío a Aquel de quien la recibo. La suya será siempre una vida sin garantía y sin pruebas, en el asombro siempre renovado de la plena confianza.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 Por eso no pueda dar más motivos que el de: por la “Buena Noticia”, “por mi caus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AMINO%20capebryonlight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81280" y="152280"/>
            <a:ext cx="5562720" cy="66776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lquier día, en cualquier moment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 tiempo o a destiempo, sin previo avis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nzas tu pregun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tú, ¿quién dices que soy y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yo me quedo a medio camin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tre lo correcto y lo que sient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orque no me atrevo a correr riesg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tú me preguntas as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séñame como tú sab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lévame a tu ritmo por los caminos del Padr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por esas sendas marginales que tanto te atra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orrígeme, cáns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vuelve a explicarme tus proyectos y quereres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quién e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en tu vida toda encuentre el sentid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ara los trozos de mi vida rota;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en tu sufrimiento y en tu cruz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descubra el valor de todas las cruces;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haga de tu causa mi causa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ya no busque salvarm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ino perderme en tus querer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tonces, Jesús, vuelve a preguntar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tú, ¿quién dices que soy y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Monotype Corsiva"/>
              </a:rPr>
              <a:t>Ulibarri F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609480"/>
            <a:ext cx="20862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3366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Quién eres,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3366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3366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eñor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3366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1362400">
            <a:off x="4191120" y="1066320"/>
            <a:ext cx="4724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texto nos sitúa en el centro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l Evangelio de Mar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stá colocado entre las dos grandes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tapas de la actividad de Jesús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y en él aparece la pregunta que el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vangelista quiere hacer a sus lector@s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 misma que él intenta responder relatando lo que Jesús dijo e hi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00600" y="3809880"/>
            <a:ext cx="3543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 vosotros,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cc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quién decís que soy yo?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cc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marcos%20evangelista" descr=""/>
          <p:cNvPicPr/>
          <p:nvPr/>
        </p:nvPicPr>
        <p:blipFill>
          <a:blip r:embed="rId2"/>
          <a:stretch/>
        </p:blipFill>
        <p:spPr>
          <a:xfrm>
            <a:off x="331920" y="1371600"/>
            <a:ext cx="353196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8600" y="228600"/>
            <a:ext cx="814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esús salió con sus discípulos hacia las aldeas de Cesarea de Filip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por el camino les preguntó: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–¿Quién dice la gente que soy y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18148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odo sucede “por el camino”, en la vida diaria. Ahí se juega todo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Jesús toma la iniciativa y pregunta por la idea que tienen de él quienes le han visto y oído. Se interesa por lo que la gente piensa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s discípulos acaban de regresar de su tarea evangelizadora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a cuestión también es: ¿qué testimonio habéis dado de mí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000" y="457200"/>
            <a:ext cx="90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Arial"/>
              </a:rPr>
              <a:t>28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 Ellos le contestaron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–</a:t>
            </a:r>
            <a:r>
              <a:rPr b="0" i="1" lang="en-US" sz="2000" spc="-1" strike="noStrike">
                <a:solidFill>
                  <a:srgbClr val="336600"/>
                </a:solidFill>
                <a:latin typeface="Arial"/>
              </a:rPr>
              <a:t>Unos, que Juan el Bautista; otros, que Elías; y otros, que uno de los profetas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41008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gún la respuesta, las personas vinculan a Jesús a la línea profética. Ninguna mención a un pretendido mesianismo político y poderoso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Para la gente Jesús está dentro de la tradición profética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s una percepción interes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24280" y="228600"/>
            <a:ext cx="329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9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El siguió preguntándole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Y vosotros,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¿quién decís que soy y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7339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a segunda pregunta es la verdaderamente importante, la que ahora nos dirige Jesús a cada un@ de nosotr@s. Ya no se trata de saber cosas acerca de Él, sino de saber quién es Él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mí es Camino seguro, Verdad auténtica, Vida verdadera. Es la persona en quien puedo conocer a Abbá. El que vive el más ambicioso de los sueños, el Reino. El que se fía de mí para que ayude a construirlo, el que me da talentos para que sirva mejor y me va liberando de mis “demonios”, de todo lo que me estorba para alcanzar la felicidad total, la de dentro, la indestructible. El que me enseña a ver a Dios en todas las cosas, en todas las personas y en todas las circunstancias , y que vivir como él es vivir de acuerdo con Dios, lo que supone una vida más auténtic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ás libre y más feli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0"/>
            <a:ext cx="60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Pedro le respondió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–Tú eres el Mesías</a:t>
            </a:r>
            <a:br>
              <a:rPr sz="2000"/>
            </a:b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30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Entonces Jesús les prohibió terminantement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que hablaran a nadie acerca de é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724280"/>
            <a:ext cx="8763120" cy="2288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Pedro contesta correctamente, pero su idea de mesianismo, político, poderoso y triunfador,  no coincide con la de Jesús, ni con lo que piensa Jesús de sí mismo ni con lo que Dios quiere de él.</a:t>
            </a:r>
            <a:br>
              <a:rPr sz="1800"/>
            </a:b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Pedro desea un líder político que se haga con el poder. Jesús ha descubierto y siente que los caminos de Dios van por otros derroteros.</a:t>
            </a:r>
            <a:br>
              <a:rPr sz="1800"/>
            </a:b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Una de las tentaciones que siempre han tenido los seres humanos es la de tratar </a:t>
            </a:r>
            <a:br>
              <a:rPr sz="1800"/>
            </a:b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de apropiarse el poder de Dios, marcarle la ru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7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304920"/>
            <a:ext cx="670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31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Jesús empezó a enseñarles que el Hijo del hombre debía padecer mucho, que sería rechazado por los ancianos, los jefes de los sacerdotes y los maestros de la ley;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que lo matarían, y a los tres días resucitaría. </a:t>
            </a:r>
            <a:br>
              <a:rPr sz="2000"/>
            </a:b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32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Les hablaba con toda cla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72428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El primer anuncio de la pasión y resurrección supone para los discípulos una enseñanza nueva. Jesús "empieza" a enseñarles la verdadera naturaleza de su mesianismo. 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Pretende incorporar a los discípulos no sólo a su misión, sino también a su destino, logrando que no caminemos hacia la muerte definitiva, sino hacia la plenitud de la vida. Como É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IÑO%20DETRÁS%20PADRE%20daddy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4064040" cy="5211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04920"/>
            <a:ext cx="655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Entonces Pedro lo tomó aparte </a:t>
            </a:r>
            <a:br>
              <a:rPr sz="2000"/>
            </a:b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y se puso a increparlo.</a:t>
            </a:r>
            <a:br>
              <a:rPr sz="2000"/>
            </a:b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 </a:t>
            </a:r>
            <a:r>
              <a:rPr b="0" lang="en-US" sz="2000" spc="-1" strike="noStrike" baseline="30000">
                <a:solidFill>
                  <a:srgbClr val="ffcc99"/>
                </a:solidFill>
                <a:latin typeface="Georgia"/>
              </a:rPr>
              <a:t>33</a:t>
            </a: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 Pero Jesús se volvió y, </a:t>
            </a:r>
            <a:br>
              <a:rPr sz="2000"/>
            </a:b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mirando a sus discípulos, </a:t>
            </a:r>
            <a:br>
              <a:rPr sz="2000"/>
            </a:b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reprendió a Pedro, diciéndole:</a:t>
            </a:r>
            <a:br>
              <a:rPr sz="2000"/>
            </a:br>
            <a:r>
              <a:rPr b="0" i="1" lang="en-US" sz="2000" spc="-1" strike="noStrike">
                <a:solidFill>
                  <a:srgbClr val="ffcc99"/>
                </a:solidFill>
                <a:latin typeface="Georgia"/>
              </a:rPr>
              <a:t>–¡Ponte detrás de mí, Satanás!, </a:t>
            </a:r>
            <a:br>
              <a:rPr sz="2000"/>
            </a:br>
            <a:r>
              <a:rPr b="0" i="1" lang="en-US" sz="2000" spc="-1" strike="noStrike">
                <a:solidFill>
                  <a:srgbClr val="ffcc99"/>
                </a:solidFill>
                <a:latin typeface="Georgia"/>
              </a:rPr>
              <a:t>porque tus pensamientos </a:t>
            </a:r>
            <a:br>
              <a:rPr sz="2000"/>
            </a:br>
            <a:r>
              <a:rPr b="0" i="1" lang="en-US" sz="2000" spc="-1" strike="noStrike">
                <a:solidFill>
                  <a:srgbClr val="ffcc99"/>
                </a:solidFill>
                <a:latin typeface="Georgia"/>
              </a:rPr>
              <a:t>no son los de Dios, </a:t>
            </a:r>
            <a:br>
              <a:rPr sz="2000"/>
            </a:br>
            <a:r>
              <a:rPr b="0" i="1" lang="en-US" sz="2000" spc="-1" strike="noStrike">
                <a:solidFill>
                  <a:srgbClr val="ffcc99"/>
                </a:solidFill>
                <a:latin typeface="Georgia"/>
              </a:rPr>
              <a:t>sino los de los homb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50532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Pedro intenta “hacer razonar” a Jesús,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llevarle por otros caminos.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Jesús le invita a </a:t>
            </a:r>
            <a:r>
              <a:rPr b="0" i="1" lang="en-US" sz="1800" spc="-1" strike="noStrike">
                <a:solidFill>
                  <a:srgbClr val="336600"/>
                </a:solidFill>
                <a:latin typeface="Comic Sans MS"/>
              </a:rPr>
              <a:t>ponerse detrás de él</a:t>
            </a: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a adoptar la actitud del discípulo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que sigue a su maestro.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Hay una manera humana de concebir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la religión y la vida y hay una Palabra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que provoca nuevas actitudes, incompatibles casi siempre con los pensamientos, intereses y formas de actuar humanas.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En el camino hacia el Padre nadie precede a Jesús.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Él va delante para que le sigam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MINANTES%20DETRÁS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78520" cy="570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457200"/>
            <a:ext cx="4114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6600"/>
                </a:solidFill>
                <a:latin typeface="Georgia"/>
              </a:rPr>
              <a:t>34</a:t>
            </a:r>
            <a:r>
              <a:rPr b="0" lang="en-US" sz="2000" spc="-1" strike="noStrike">
                <a:solidFill>
                  <a:srgbClr val="006600"/>
                </a:solidFill>
                <a:latin typeface="Georgia"/>
              </a:rPr>
              <a:t> Después Jesús reunió a la gente y a sus discípulos, y les dijo: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006600"/>
                </a:solidFill>
                <a:latin typeface="Georgia"/>
              </a:rPr>
              <a:t>Si alguno quiere venir detrás de mí, que renuncie a sí mismo, que cargue con su cruz y que me sig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66688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Jesús pone el seguimiento al alcance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de toda persona que desee abrazarlo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No quiere el dolor por el dolor,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o la renuncia por masoquismo,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sino por amor, por coherencia,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por solidaridad con él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y con toda la humanidad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Es como la amistad y el amor,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que, para ser verdaderos,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exigen sacrificios y renuncias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que suponen alegría y liberación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Se nos pide todo y se nos da to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7:45:17Z</dcterms:created>
  <dc:creator> Asun Gutiérrez</dc:creator>
  <dc:description/>
  <dc:language>en-US</dc:language>
  <cp:lastModifiedBy>Usuario</cp:lastModifiedBy>
  <dcterms:modified xsi:type="dcterms:W3CDTF">2009-09-10T14:59:26Z</dcterms:modified>
  <cp:revision>14</cp:revision>
  <dc:subject>jeasam@gmail.com</dc:subject>
  <dc:title>24 Tiempo Ordinario -B-</dc:title>
</cp:coreProperties>
</file>