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MENDELSSOHN%20Concierto%20Viol%C3%ADn%20CD1%20-No10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EBE7-B415-48B3-AD39-4D4D3F033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8B9D-53C3-430C-BF95-E9531768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4BD9-2CD7-4A1A-AE5C-FDBFB0DE7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F798-462F-416E-9D73-D078624BB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A021-EFCB-4124-B067-016CE855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9B0F-34FC-478B-B0DD-F68F18FD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CF1E-9648-485E-805B-B09EB505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5ABD-88C0-497A-8F61-96D5BB7E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8661-AFD5-4A7D-994D-E5C92A30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63B2-D619-4643-823B-428FC8DB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E38B-1E17-4CEC-B419-F2D0200F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1A33-2F9A-464D-A10D-68F9A0B7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AA33-0C81-4D70-9B55-754D1025DB1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MENDELSSOHN%20Concierto%20Viol&#237;n%20CD1%20-No10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05120" y="0"/>
            <a:ext cx="6858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00"/>
                </a:solidFill>
                <a:latin typeface="Comic Sans MS"/>
              </a:rPr>
              <a:t>El Camino de Jesús es una senda</a:t>
            </a:r>
            <a:br>
              <a:rPr sz="2400"/>
            </a:br>
            <a:r>
              <a:rPr b="0" lang="es-ES" sz="2400" spc="-1" strike="noStrike">
                <a:solidFill>
                  <a:srgbClr val="336600"/>
                </a:solidFill>
                <a:latin typeface="Comic Sans MS"/>
              </a:rPr>
              <a:t>que nos conducirá a la libertad:</a:t>
            </a:r>
            <a:br>
              <a:rPr sz="2400"/>
            </a:br>
            <a:r>
              <a:rPr b="0" lang="es-ES" sz="2400" spc="-1" strike="noStrike">
                <a:solidFill>
                  <a:srgbClr val="336600"/>
                </a:solidFill>
                <a:latin typeface="Comic Sans MS"/>
              </a:rPr>
              <a:t>la libertad radical que nos permite participar</a:t>
            </a:r>
            <a:br>
              <a:rPr sz="2400"/>
            </a:br>
            <a:r>
              <a:rPr b="0" lang="es-ES" sz="2400" spc="-1" strike="noStrike">
                <a:solidFill>
                  <a:srgbClr val="336600"/>
                </a:solidFill>
                <a:latin typeface="Comic Sans MS"/>
              </a:rPr>
              <a:t>en la Gran Obra de Arte de Dios </a:t>
            </a:r>
            <a:br>
              <a:rPr sz="2400"/>
            </a:br>
            <a:r>
              <a:rPr b="0" lang="es-ES" sz="2400" spc="-1" strike="noStrike">
                <a:solidFill>
                  <a:srgbClr val="336600"/>
                </a:solidFill>
                <a:latin typeface="Comic Sans MS"/>
              </a:rPr>
              <a:t>de manera libre, espontánea y creativa...</a:t>
            </a:r>
            <a:br>
              <a:rPr sz="2400"/>
            </a:br>
            <a:r>
              <a:rPr b="0" lang="es-ES" sz="2400" spc="-1" strike="noStrike">
                <a:solidFill>
                  <a:srgbClr val="336600"/>
                </a:solidFill>
                <a:latin typeface="Comic Sans MS"/>
              </a:rPr>
              <a:t>y para todos juntos.</a:t>
            </a:r>
            <a:br>
              <a:rPr sz="2400"/>
            </a:br>
            <a:r>
              <a:rPr b="0" lang="es-ES" sz="2400" spc="-1" strike="noStrike">
                <a:solidFill>
                  <a:srgbClr val="336600"/>
                </a:solidFill>
                <a:latin typeface="Monotype Corsiva"/>
              </a:rPr>
              <a:t>Albert No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5715000"/>
            <a:ext cx="2438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arcos 8, 27-35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4 domingo –B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3 septiembr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MENDELSSOHN%20Concierto%20Viol%C3%ADn%20CD1%20-No10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63400" y="304920"/>
            <a:ext cx="801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30000">
                <a:solidFill>
                  <a:srgbClr val="000000"/>
                </a:solidFill>
                <a:latin typeface="Georgia"/>
              </a:rPr>
              <a:t>35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 Porque el que quiera salvar su vida, la perderá, pero el que pierda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su vida por mí y por la buena noticia, la salvará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03848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9900"/>
                </a:solidFill>
                <a:latin typeface="Comic Sans MS"/>
              </a:rPr>
              <a:t>“</a:t>
            </a:r>
            <a:r>
              <a:rPr b="0" lang="es-ES" sz="1800" spc="-1" strike="noStrike">
                <a:solidFill>
                  <a:srgbClr val="ff9900"/>
                </a:solidFill>
                <a:latin typeface="Comic Sans MS"/>
              </a:rPr>
              <a:t>Salvar la vida”, es ceder a la tentación de instalarse en el sistema. </a:t>
            </a:r>
            <a:br>
              <a:rPr sz="1800"/>
            </a:br>
            <a:r>
              <a:rPr b="0" lang="es-ES" sz="1800" spc="-1" strike="noStrike">
                <a:solidFill>
                  <a:srgbClr val="ff9900"/>
                </a:solidFill>
                <a:latin typeface="Comic Sans MS"/>
              </a:rPr>
              <a:t> “Perder la vida”, afirmarla en su verdadero sentido: la vida como don, como entrega. Es como si nos dijera: “A quien venga conmigo voy a llevarle a la </a:t>
            </a:r>
            <a:r>
              <a:rPr b="0" i="1" lang="es-ES" sz="1800" spc="-1" strike="noStrike">
                <a:solidFill>
                  <a:srgbClr val="ff9900"/>
                </a:solidFill>
                <a:latin typeface="Comic Sans MS"/>
              </a:rPr>
              <a:t>ganancia</a:t>
            </a:r>
            <a:r>
              <a:rPr b="0" lang="es-ES" sz="1800" spc="-1" strike="noStrike">
                <a:solidFill>
                  <a:srgbClr val="ff9900"/>
                </a:solidFill>
                <a:latin typeface="Comic Sans MS"/>
              </a:rPr>
              <a:t> por el</a:t>
            </a:r>
            <a:br>
              <a:rPr sz="1800"/>
            </a:br>
            <a:r>
              <a:rPr b="0" lang="es-ES" sz="1800" spc="-1" strike="noStrike">
                <a:solidFill>
                  <a:srgbClr val="ff9900"/>
                </a:solidFill>
                <a:latin typeface="Comic Sans MS"/>
              </a:rPr>
              <a:t>“extraño” camino de la </a:t>
            </a:r>
            <a:r>
              <a:rPr b="0" i="1" lang="es-ES" sz="1800" spc="-1" strike="noStrike">
                <a:solidFill>
                  <a:srgbClr val="ff9900"/>
                </a:solidFill>
                <a:latin typeface="Comic Sans MS"/>
              </a:rPr>
              <a:t>pérdida</a:t>
            </a:r>
            <a:r>
              <a:rPr b="0" lang="es-ES" sz="1800" spc="-1" strike="noStrike">
                <a:solidFill>
                  <a:srgbClr val="ff9900"/>
                </a:solidFill>
                <a:latin typeface="Comic Sans MS"/>
              </a:rPr>
              <a:t>, que es el camino mío y no conozco otro. </a:t>
            </a:r>
            <a:br>
              <a:rPr sz="1800"/>
            </a:br>
            <a:r>
              <a:rPr b="0" lang="es-ES" sz="1800" spc="-1" strike="noStrike">
                <a:solidFill>
                  <a:srgbClr val="ff9900"/>
                </a:solidFill>
                <a:latin typeface="Comic Sans MS"/>
              </a:rPr>
              <a:t>La única condición que pongo es estar dispuest@ a fiarse de mí y de mi manera de</a:t>
            </a:r>
            <a:br>
              <a:rPr sz="1800"/>
            </a:br>
            <a:r>
              <a:rPr b="0" lang="es-ES" sz="1800" spc="-1" strike="noStrike">
                <a:solidFill>
                  <a:srgbClr val="ff9900"/>
                </a:solidFill>
                <a:latin typeface="Comic Sans MS"/>
              </a:rPr>
              <a:t>salvar su vida, que sea capaz de confiármela, como yo la confío a Aquel de quien la recibo. La suya será siempre una vida sin garantía y sin pruebas, en el asombro siempre renovado de la plena confianza.</a:t>
            </a:r>
            <a:br>
              <a:rPr sz="1800"/>
            </a:br>
            <a:r>
              <a:rPr b="0" lang="es-ES" sz="1800" spc="-1" strike="noStrike">
                <a:solidFill>
                  <a:srgbClr val="ff9900"/>
                </a:solidFill>
                <a:latin typeface="Comic Sans MS"/>
              </a:rPr>
              <a:t> Por eso no pueda dar más motivos que el de: por la “Buena Noticia”, “por mi causa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AMINO%20capebryonlighthous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581280" y="152280"/>
            <a:ext cx="5562720" cy="6677640"/>
          </a:xfrm>
          <a:prstGeom prst="rect">
            <a:avLst/>
          </a:prstGeom>
          <a:solidFill>
            <a:srgbClr val="00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Cualquier día, en cualquier momento,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a tiempo o a destiempo, sin previo aviso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lanzas tu pregun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Y tú, ¿quién dices que soy y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Y yo me quedo a medio camino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entre lo correcto y lo que siento,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porque no me atrevo a correr riesgos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cuando tú me preguntas así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Enséñame como tú sab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Llévame a tu ritmo por los caminos del Padre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y por esas sendas marginales que tanto te atra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Corrígeme, cánsa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Y vuelve a explicarme tus proyectos y quereres,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y quién e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Cuando en tu vida toda encuentre el sentido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para los trozos de mi vida rota;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cuando en tu sufrimiento y en tu cruz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descubra el valor de todas las cruces;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cuando haga de tu causa mi causa,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cuando ya no busque salvarme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sino perderme en tus quereres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Entonces, Jesús, vuelve a preguntarm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Y tú, ¿quién dices que soy y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Monotype Corsiva"/>
              </a:rPr>
              <a:t>Ulibarri F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09480" y="609480"/>
            <a:ext cx="208620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99cc"/>
                    </a:gs>
                    <a:gs pos="100000">
                      <a:srgbClr val="336600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¿Quién eres,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99cc"/>
                  </a:gs>
                  <a:gs pos="100000">
                    <a:srgbClr val="336600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99cc"/>
                    </a:gs>
                    <a:gs pos="100000">
                      <a:srgbClr val="336600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Señor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99cc"/>
                  </a:gs>
                  <a:gs pos="100000">
                    <a:srgbClr val="336600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rot="21362400">
            <a:off x="4191120" y="1066320"/>
            <a:ext cx="472428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El texto nos sitúa en el centro</a:t>
            </a:r>
            <a:br>
              <a:rPr sz="1800"/>
            </a:b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del Evangelio de Marc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Está colocado entre las dos grandes</a:t>
            </a:r>
            <a:br>
              <a:rPr sz="1800"/>
            </a:b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etapas de la actividad de Jesús </a:t>
            </a:r>
            <a:br>
              <a:rPr sz="1800"/>
            </a:b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y en él aparece la pregunta que el</a:t>
            </a:r>
            <a:br>
              <a:rPr sz="1800"/>
            </a:b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evangelista quiere hacer a sus lector@s,</a:t>
            </a:r>
            <a:br>
              <a:rPr sz="1800"/>
            </a:b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la misma que él intenta responder relatando lo que Jesús dijo e hiz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800600" y="3809880"/>
            <a:ext cx="35434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c33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Y vosotros,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solidFill>
                <a:srgbClr val="cc33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c33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¿quién decís que soy yo?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solidFill>
                <a:srgbClr val="cc33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7" name="marcos%20evangelista" descr=""/>
          <p:cNvPicPr/>
          <p:nvPr/>
        </p:nvPicPr>
        <p:blipFill>
          <a:blip r:embed="rId2"/>
          <a:stretch/>
        </p:blipFill>
        <p:spPr>
          <a:xfrm>
            <a:off x="331920" y="1371600"/>
            <a:ext cx="3531960" cy="4267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8600" y="228600"/>
            <a:ext cx="814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27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Jesús salió con sus discípulos hacia las aldeas de Cesarea de Filipo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por el camino les preguntó:</a:t>
            </a:r>
            <a:br>
              <a:rPr sz="2000"/>
            </a:b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–¿Quién dice la gente que soy y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5181480"/>
            <a:ext cx="8001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Todo sucede “por el camino”, en la vida diaria. Ahí se juega todo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Jesús toma la iniciativa y pregunta por la idea que tienen de él quienes le han visto y oído. Se interesa por lo que la gente piensa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s discípulos acaban de regresar de su tarea evangelizadora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a cuestión también es: ¿qué testimonio habéis dado de mí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7000" y="457200"/>
            <a:ext cx="909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336600"/>
                </a:solidFill>
                <a:latin typeface="Arial"/>
              </a:rPr>
              <a:t>28</a:t>
            </a:r>
            <a:r>
              <a:rPr b="0" lang="en-US" sz="2000" spc="-1" strike="noStrike">
                <a:solidFill>
                  <a:srgbClr val="336600"/>
                </a:solidFill>
                <a:latin typeface="Arial"/>
              </a:rPr>
              <a:t> Ellos le contestaron: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Arial"/>
              </a:rPr>
              <a:t>–</a:t>
            </a:r>
            <a:r>
              <a:rPr b="0" i="1" lang="en-US" sz="2000" spc="-1" strike="noStrike">
                <a:solidFill>
                  <a:srgbClr val="336600"/>
                </a:solidFill>
                <a:latin typeface="Arial"/>
              </a:rPr>
              <a:t>Unos, que Juan el Bautista; otros, que Elías; y otros, que uno de los profetas</a:t>
            </a:r>
            <a:r>
              <a:rPr b="0" lang="en-US" sz="2000" spc="-1" strike="noStrike">
                <a:solidFill>
                  <a:srgbClr val="3366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541008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egún la respuesta, las personas vinculan a Jesús a la línea profética. Ninguna mención a un pretendido mesianismo político y poderoso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Para la gente Jesús está dentro de la tradición profética.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Es una percepción interes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924280" y="228600"/>
            <a:ext cx="329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29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El siguió preguntándoles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–</a:t>
            </a:r>
            <a:r>
              <a:rPr b="0" i="1" lang="en-US" sz="2000" spc="-1" strike="noStrike">
                <a:solidFill>
                  <a:srgbClr val="ffffff"/>
                </a:solidFill>
                <a:latin typeface="Georgia"/>
              </a:rPr>
              <a:t>Y vosotros, 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Georgia"/>
              </a:rPr>
              <a:t>¿quién decís que soy y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73392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sta segunda pregunta es la verdaderamente importante, la que ahora nos dirige Jesús a cada un@ de nosotr@s. Ya no se trata de saber cosas acerca de Él, sino de saber quién es Él.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ara mí es Camino seguro, Verdad auténtica, Vida verdadera. Es la persona en quien puedo conocer a Abbá. El que vive el más ambicioso de los sueños, el Reino. El que se fía de mí para que ayude a construirlo, el que me da talentos para que sirva mejor y me va liberando de mis “demonios”, de todo lo que me estorba para alcanzar la felicidad total, la de dentro, la indestructible. El que me enseña a ver a Dios en todas las cosas, en todas las personas y en todas las circunstancias , y que vivir como él es vivir de acuerdo con Dios, lo que supone una vida más auténtica,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más libre y más feliz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0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276720" y="0"/>
            <a:ext cx="606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Pedro le respondió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–Tú eres el Mesías</a:t>
            </a:r>
            <a:br>
              <a:rPr sz="2000"/>
            </a:br>
            <a:r>
              <a:rPr b="0" lang="en-US" sz="2000" spc="-1" strike="noStrike" baseline="30000">
                <a:solidFill>
                  <a:srgbClr val="ffff00"/>
                </a:solidFill>
                <a:latin typeface="Georgia"/>
              </a:rPr>
              <a:t>30</a:t>
            </a: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 Entonces Jesús les prohibió terminantemente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que hablaran a nadie acerca de él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724280"/>
            <a:ext cx="8763120" cy="22885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Comic Sans MS"/>
              </a:rPr>
              <a:t>Pedro contesta correctamente, pero su idea de mesianismo, político, poderoso y triunfador,  no coincide con la de Jesús, ni con lo que piensa Jesús de sí mismo ni con lo que Dios quiere de él.</a:t>
            </a:r>
            <a:br>
              <a:rPr sz="1800"/>
            </a:br>
            <a:r>
              <a:rPr b="0" lang="en-US" sz="1800" spc="-1" strike="noStrike">
                <a:solidFill>
                  <a:srgbClr val="663300"/>
                </a:solidFill>
                <a:latin typeface="Comic Sans MS"/>
              </a:rPr>
              <a:t>Pedro desea un líder político que se haga con el poder. Jesús ha descubierto y siente que los caminos de Dios van por otros derroteros.</a:t>
            </a:r>
            <a:br>
              <a:rPr sz="1800"/>
            </a:br>
            <a:r>
              <a:rPr b="0" lang="en-US" sz="1800" spc="-1" strike="noStrike">
                <a:solidFill>
                  <a:srgbClr val="663300"/>
                </a:solidFill>
                <a:latin typeface="Comic Sans MS"/>
              </a:rPr>
              <a:t>Una de las tentaciones que siempre han tenido los seres humanos es la de tratar </a:t>
            </a:r>
            <a:br>
              <a:rPr sz="1800"/>
            </a:br>
            <a:r>
              <a:rPr b="0" lang="en-US" sz="1800" spc="-1" strike="noStrike">
                <a:solidFill>
                  <a:srgbClr val="663300"/>
                </a:solidFill>
                <a:latin typeface="Comic Sans MS"/>
              </a:rPr>
              <a:t>de apropiarse el poder de Dios, marcarle la rut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07" descr="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" y="304920"/>
            <a:ext cx="6705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00"/>
                </a:solidFill>
                <a:latin typeface="Georgia"/>
              </a:rPr>
              <a:t>31</a:t>
            </a: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 Jesús empezó a enseñarles que el Hijo del hombre debía padecer mucho, que sería rechazado por los ancianos, los jefes de los sacerdotes y los maestros de la ley;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que lo matarían, y a los tres días resucitaría. </a:t>
            </a:r>
            <a:br>
              <a:rPr sz="2000"/>
            </a:br>
            <a:r>
              <a:rPr b="0" lang="en-US" sz="2000" spc="-1" strike="noStrike" baseline="30000">
                <a:solidFill>
                  <a:srgbClr val="ffff00"/>
                </a:solidFill>
                <a:latin typeface="Georgia"/>
              </a:rPr>
              <a:t>32</a:t>
            </a: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 Les hablaba con toda clar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4724280"/>
            <a:ext cx="883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omic Sans MS"/>
              </a:rPr>
              <a:t>El primer anuncio de la pasión y resurrección supone para los discípulos una enseñanza nueva. Jesús "empieza" a enseñarles la verdadera naturaleza de su mesianismo. </a:t>
            </a:r>
            <a:br>
              <a:rPr sz="2000"/>
            </a:br>
            <a:r>
              <a:rPr b="0" lang="en-US" sz="2000" spc="-1" strike="noStrike">
                <a:solidFill>
                  <a:srgbClr val="ff9900"/>
                </a:solidFill>
                <a:latin typeface="Comic Sans MS"/>
              </a:rPr>
              <a:t>Pretende incorporar a los discípulos no sólo a su misión, sino también a su destino, logrando que no caminemos hacia la muerte definitiva, sino hacia la plenitud de la vida. Como É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NIÑO%20DETRÁS%20PADRE%20daddy" descr=""/>
          <p:cNvPicPr/>
          <p:nvPr/>
        </p:nvPicPr>
        <p:blipFill>
          <a:blip r:embed="rId1"/>
          <a:stretch/>
        </p:blipFill>
        <p:spPr>
          <a:xfrm>
            <a:off x="4800600" y="152280"/>
            <a:ext cx="4064040" cy="5211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4920" y="304920"/>
            <a:ext cx="6553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Georgia"/>
              </a:rPr>
              <a:t>Entonces Pedro lo tomó aparte </a:t>
            </a:r>
            <a:br>
              <a:rPr sz="2000"/>
            </a:br>
            <a:r>
              <a:rPr b="0" lang="en-US" sz="2000" spc="-1" strike="noStrike">
                <a:solidFill>
                  <a:srgbClr val="ffcc99"/>
                </a:solidFill>
                <a:latin typeface="Georgia"/>
              </a:rPr>
              <a:t>y se puso a increparlo.</a:t>
            </a:r>
            <a:br>
              <a:rPr sz="2000"/>
            </a:br>
            <a:r>
              <a:rPr b="0" lang="en-US" sz="2000" spc="-1" strike="noStrike">
                <a:solidFill>
                  <a:srgbClr val="ffcc99"/>
                </a:solidFill>
                <a:latin typeface="Georgia"/>
              </a:rPr>
              <a:t> </a:t>
            </a:r>
            <a:r>
              <a:rPr b="0" lang="en-US" sz="2000" spc="-1" strike="noStrike" baseline="30000">
                <a:solidFill>
                  <a:srgbClr val="ffcc99"/>
                </a:solidFill>
                <a:latin typeface="Georgia"/>
              </a:rPr>
              <a:t>33</a:t>
            </a:r>
            <a:r>
              <a:rPr b="0" lang="en-US" sz="2000" spc="-1" strike="noStrike">
                <a:solidFill>
                  <a:srgbClr val="ffcc99"/>
                </a:solidFill>
                <a:latin typeface="Georgia"/>
              </a:rPr>
              <a:t> Pero Jesús se volvió y, </a:t>
            </a:r>
            <a:br>
              <a:rPr sz="2000"/>
            </a:br>
            <a:r>
              <a:rPr b="0" lang="en-US" sz="2000" spc="-1" strike="noStrike">
                <a:solidFill>
                  <a:srgbClr val="ffcc99"/>
                </a:solidFill>
                <a:latin typeface="Georgia"/>
              </a:rPr>
              <a:t>mirando a sus discípulos, </a:t>
            </a:r>
            <a:br>
              <a:rPr sz="2000"/>
            </a:br>
            <a:r>
              <a:rPr b="0" lang="en-US" sz="2000" spc="-1" strike="noStrike">
                <a:solidFill>
                  <a:srgbClr val="ffcc99"/>
                </a:solidFill>
                <a:latin typeface="Georgia"/>
              </a:rPr>
              <a:t>reprendió a Pedro, diciéndole:</a:t>
            </a:r>
            <a:br>
              <a:rPr sz="2000"/>
            </a:br>
            <a:r>
              <a:rPr b="0" i="1" lang="en-US" sz="2000" spc="-1" strike="noStrike">
                <a:solidFill>
                  <a:srgbClr val="ffcc99"/>
                </a:solidFill>
                <a:latin typeface="Georgia"/>
              </a:rPr>
              <a:t>–¡Ponte detrás de mí, Satanás!, </a:t>
            </a:r>
            <a:br>
              <a:rPr sz="2000"/>
            </a:br>
            <a:r>
              <a:rPr b="0" i="1" lang="en-US" sz="2000" spc="-1" strike="noStrike">
                <a:solidFill>
                  <a:srgbClr val="ffcc99"/>
                </a:solidFill>
                <a:latin typeface="Georgia"/>
              </a:rPr>
              <a:t>porque tus pensamientos </a:t>
            </a:r>
            <a:br>
              <a:rPr sz="2000"/>
            </a:br>
            <a:r>
              <a:rPr b="0" i="1" lang="en-US" sz="2000" spc="-1" strike="noStrike">
                <a:solidFill>
                  <a:srgbClr val="ffcc99"/>
                </a:solidFill>
                <a:latin typeface="Georgia"/>
              </a:rPr>
              <a:t>no son los de Dios, </a:t>
            </a:r>
            <a:br>
              <a:rPr sz="2000"/>
            </a:br>
            <a:r>
              <a:rPr b="0" i="1" lang="en-US" sz="2000" spc="-1" strike="noStrike">
                <a:solidFill>
                  <a:srgbClr val="ffcc99"/>
                </a:solidFill>
                <a:latin typeface="Georgia"/>
              </a:rPr>
              <a:t>sino los de los homb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3505320"/>
            <a:ext cx="8763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Comic Sans MS"/>
              </a:rPr>
              <a:t>Pedro intenta “hacer razonar” a Jesús,</a:t>
            </a:r>
            <a:br>
              <a:rPr sz="1800"/>
            </a:br>
            <a:r>
              <a:rPr b="0" lang="en-US" sz="1800" spc="-1" strike="noStrike">
                <a:solidFill>
                  <a:srgbClr val="336600"/>
                </a:solidFill>
                <a:latin typeface="Comic Sans MS"/>
              </a:rPr>
              <a:t>llevarle por otros caminos.</a:t>
            </a:r>
            <a:br>
              <a:rPr sz="1800"/>
            </a:br>
            <a:r>
              <a:rPr b="0" lang="en-US" sz="1800" spc="-1" strike="noStrike">
                <a:solidFill>
                  <a:srgbClr val="336600"/>
                </a:solidFill>
                <a:latin typeface="Comic Sans MS"/>
              </a:rPr>
              <a:t>Jesús le invita a </a:t>
            </a:r>
            <a:r>
              <a:rPr b="0" i="1" lang="en-US" sz="1800" spc="-1" strike="noStrike">
                <a:solidFill>
                  <a:srgbClr val="336600"/>
                </a:solidFill>
                <a:latin typeface="Comic Sans MS"/>
              </a:rPr>
              <a:t>ponerse detrás de él</a:t>
            </a:r>
            <a:r>
              <a:rPr b="0" lang="en-US" sz="1800" spc="-1" strike="noStrike">
                <a:solidFill>
                  <a:srgbClr val="336600"/>
                </a:solidFill>
                <a:latin typeface="Comic Sans MS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336600"/>
                </a:solidFill>
                <a:latin typeface="Comic Sans MS"/>
              </a:rPr>
              <a:t>a adoptar la actitud del discípulo </a:t>
            </a:r>
            <a:br>
              <a:rPr sz="1800"/>
            </a:br>
            <a:r>
              <a:rPr b="0" lang="en-US" sz="1800" spc="-1" strike="noStrike">
                <a:solidFill>
                  <a:srgbClr val="336600"/>
                </a:solidFill>
                <a:latin typeface="Comic Sans MS"/>
              </a:rPr>
              <a:t>que sigue a su maestro.</a:t>
            </a:r>
            <a:br>
              <a:rPr sz="1800"/>
            </a:br>
            <a:r>
              <a:rPr b="0" lang="en-US" sz="1800" spc="-1" strike="noStrike">
                <a:solidFill>
                  <a:srgbClr val="336600"/>
                </a:solidFill>
                <a:latin typeface="Comic Sans MS"/>
              </a:rPr>
              <a:t>Hay una manera humana de concebir </a:t>
            </a:r>
            <a:br>
              <a:rPr sz="1800"/>
            </a:br>
            <a:r>
              <a:rPr b="0" lang="en-US" sz="1800" spc="-1" strike="noStrike">
                <a:solidFill>
                  <a:srgbClr val="336600"/>
                </a:solidFill>
                <a:latin typeface="Comic Sans MS"/>
              </a:rPr>
              <a:t>la religión y la vida y hay una Palabra </a:t>
            </a:r>
            <a:br>
              <a:rPr sz="1800"/>
            </a:br>
            <a:r>
              <a:rPr b="0" lang="en-US" sz="1800" spc="-1" strike="noStrike">
                <a:solidFill>
                  <a:srgbClr val="336600"/>
                </a:solidFill>
                <a:latin typeface="Comic Sans MS"/>
              </a:rPr>
              <a:t>que provoca nuevas actitudes, incompatibles casi siempre con los pensamientos, intereses y formas de actuar humanas.</a:t>
            </a:r>
            <a:br>
              <a:rPr sz="1800"/>
            </a:br>
            <a:r>
              <a:rPr b="0" lang="en-US" sz="1800" spc="-1" strike="noStrike">
                <a:solidFill>
                  <a:srgbClr val="336600"/>
                </a:solidFill>
                <a:latin typeface="Comic Sans MS"/>
              </a:rPr>
              <a:t>En el camino hacia el Padre nadie precede a Jesús. </a:t>
            </a:r>
            <a:br>
              <a:rPr sz="1800"/>
            </a:br>
            <a:r>
              <a:rPr b="0" lang="en-US" sz="1800" spc="-1" strike="noStrike">
                <a:solidFill>
                  <a:srgbClr val="336600"/>
                </a:solidFill>
                <a:latin typeface="Comic Sans MS"/>
              </a:rPr>
              <a:t>Él va delante para que le sigam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AMINANTES%20DETRÁS" descr=""/>
          <p:cNvPicPr/>
          <p:nvPr/>
        </p:nvPicPr>
        <p:blipFill>
          <a:blip r:embed="rId1"/>
          <a:stretch/>
        </p:blipFill>
        <p:spPr>
          <a:xfrm>
            <a:off x="4724280" y="380880"/>
            <a:ext cx="4178520" cy="5702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57200" y="457200"/>
            <a:ext cx="4114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6600"/>
                </a:solidFill>
                <a:latin typeface="Georgia"/>
              </a:rPr>
              <a:t>34</a:t>
            </a:r>
            <a:r>
              <a:rPr b="0" lang="en-US" sz="2000" spc="-1" strike="noStrike">
                <a:solidFill>
                  <a:srgbClr val="006600"/>
                </a:solidFill>
                <a:latin typeface="Georgia"/>
              </a:rPr>
              <a:t> Después Jesús reunió a la gente y a sus discípulos, y les dijo: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Georgia"/>
              </a:rPr>
              <a:t>–</a:t>
            </a:r>
            <a:r>
              <a:rPr b="0" i="1" lang="en-US" sz="2000" spc="-1" strike="noStrike">
                <a:solidFill>
                  <a:srgbClr val="006600"/>
                </a:solidFill>
                <a:latin typeface="Georgia"/>
              </a:rPr>
              <a:t>Si alguno quiere venir detrás de mí, que renuncie a sí mismo, que cargue con su cruz y que me sig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666880"/>
            <a:ext cx="426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Jesús pone el seguimiento al alcance </a:t>
            </a:r>
            <a:br>
              <a:rPr sz="1800"/>
            </a:b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de toda persona que desee abrazarlo.</a:t>
            </a:r>
            <a:br>
              <a:rPr sz="1800"/>
            </a:b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No quiere el dolor por el dolor, </a:t>
            </a:r>
            <a:br>
              <a:rPr sz="1800"/>
            </a:b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o la renuncia por masoquismo,</a:t>
            </a:r>
            <a:br>
              <a:rPr sz="1800"/>
            </a:b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sino por amor, por coherencia,</a:t>
            </a:r>
            <a:br>
              <a:rPr sz="1800"/>
            </a:b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 por solidaridad con él </a:t>
            </a:r>
            <a:br>
              <a:rPr sz="1800"/>
            </a:b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y con toda la humanidad.</a:t>
            </a:r>
            <a:br>
              <a:rPr sz="1800"/>
            </a:b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 Es como la amistad y el amor,</a:t>
            </a:r>
            <a:br>
              <a:rPr sz="1800"/>
            </a:b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 que, para ser verdaderos,</a:t>
            </a:r>
            <a:br>
              <a:rPr sz="1800"/>
            </a:b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exigen sacrificios y renuncias</a:t>
            </a:r>
            <a:br>
              <a:rPr sz="1800"/>
            </a:b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 que suponen alegría y liberación.</a:t>
            </a:r>
            <a:br>
              <a:rPr sz="1800"/>
            </a:b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 Se nos pide todo y se nos da to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07:45:17Z</dcterms:created>
  <dc:creator> Asun Gutiérrez</dc:creator>
  <dc:description/>
  <dc:language>en-US</dc:language>
  <cp:lastModifiedBy>Usuario</cp:lastModifiedBy>
  <dcterms:modified xsi:type="dcterms:W3CDTF">2009-09-10T14:59:26Z</dcterms:modified>
  <cp:revision>14</cp:revision>
  <dc:subject>jeasam@gmail.com</dc:subject>
  <dc:title>24 Tiempo Ordinario -B-</dc:title>
</cp:coreProperties>
</file>