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ve%20generosaw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474-72A2-4EF4-9543-FCAEB39F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1265-DCE6-4809-A018-7ADBB453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979-50B5-4CAB-BCE0-E84F2A8A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DF5-DA98-456C-A5FE-7D283736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41B-159E-4567-A372-326554B0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E8FA-53F8-4AF4-974A-5C4F4B4A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EBA-09DA-46E6-93F4-35227C11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84F-D1FD-43A2-A67D-A758F25A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94B-DAAD-47C4-8C2E-4C6518D5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E20-8413-4898-80B2-817940FB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1FD-11E0-48CB-94CF-1A793300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21E3-1AC4-46BE-9CF7-00086991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1C66-45D9-419F-A498-519D33DBC1BB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ve%20generosa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6" descr="_x0008_33ww.jpg   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27"/>
          <p:cNvSpPr/>
          <p:nvPr/>
        </p:nvSpPr>
        <p:spPr>
          <a:xfrm>
            <a:off x="6526080" y="5830920"/>
            <a:ext cx="1862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a0eff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a0eff"/>
                </a:solidFill>
                <a:latin typeface="Comic Sans MS"/>
              </a:rPr>
              <a:t>Ciclo</a:t>
            </a:r>
            <a:r>
              <a:rPr b="1" lang="ca-ES" sz="3200" spc="-1" strike="noStrike">
                <a:solidFill>
                  <a:srgbClr val="0a0eff"/>
                </a:solidFill>
                <a:latin typeface="Comic Sans MS"/>
              </a:rPr>
              <a:t> A</a:t>
            </a:r>
            <a:r>
              <a:rPr b="1" lang="ca-ES" sz="3200" spc="-1" strike="noStrike">
                <a:solidFill>
                  <a:srgbClr val="0a0e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8"/>
          <p:cNvSpPr/>
          <p:nvPr/>
        </p:nvSpPr>
        <p:spPr>
          <a:xfrm>
            <a:off x="176040" y="2281320"/>
            <a:ext cx="8839440" cy="1282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600" spc="-1" strike="noStrike">
                <a:solidFill>
                  <a:srgbClr val="0a0eff"/>
                </a:solidFill>
                <a:latin typeface="Comic Sans MS"/>
              </a:rPr>
              <a:t>Trigésimosegundo doming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a0eff"/>
                </a:solidFill>
                <a:latin typeface="Comic Sans MS"/>
              </a:rPr>
              <a:t>tiempo ord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029"/>
          <p:cNvSpPr/>
          <p:nvPr/>
        </p:nvSpPr>
        <p:spPr>
          <a:xfrm>
            <a:off x="1092240" y="4286160"/>
            <a:ext cx="696564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0a0eff"/>
                </a:solidFill>
                <a:latin typeface="Comic Sans MS"/>
              </a:rPr>
              <a:t>6 de noviembre de 20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27"/>
          <p:cNvSpPr/>
          <p:nvPr/>
        </p:nvSpPr>
        <p:spPr>
          <a:xfrm>
            <a:off x="441360" y="631800"/>
            <a:ext cx="822168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a0eff"/>
                </a:solidFill>
                <a:latin typeface="Comic Sans MS"/>
              </a:rPr>
              <a:t> </a:t>
            </a:r>
            <a:r>
              <a:rPr b="1" i="1" lang="ca-ES" sz="2500" spc="-1" strike="noStrike">
                <a:solidFill>
                  <a:srgbClr val="0a0eff"/>
                </a:solidFill>
                <a:latin typeface="Comic Sans MS"/>
              </a:rPr>
              <a:t>Música: “Ave generosa” de Hildegarda de binghe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2" name="Ave%20generosa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&#9;Zionw.jpg                                                      0000001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28960" y="6324480"/>
            <a:ext cx="5301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Jerusalén. Puerta de Sión, cerca del Cenác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52280" y="152280"/>
            <a:ext cx="8839440" cy="4971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990409"/>
                </a:solidFill>
                <a:latin typeface="Comic Sans MS"/>
              </a:rPr>
              <a:t>( Del santo evangelio según san Mateo )    Mt 25: 1-13</a:t>
            </a:r>
            <a:r>
              <a:rPr b="1" i="1" lang="ca-E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</a:rPr>
              <a:t>Entonces el Reino de los Cielos será semejante a diez vírgenes, que, con su lámpara en la mano, salieron al encuentro del novio. Cinco de ellas eran necias, y cinco prudentes. Las necias, en efecto, al tomar sus lámparas, no se proveyeron de aceite; las prudentes, en cambio, junto con sus lámparas tomaron aceite en las alcuzas. Como el novio tardara, se adormilaron todas y se durmieron.  Mas a media noche se oyó un grito: `¡Ya está aquí el novio! ¡Salid a su encuentro!' Entonces todas aquellas vírgenes se levantaron y arreglaron sus lámparas. Y las necias dijeron a las prudentes: `Dadnos de vuestro aceite, que nuestras lámparas se apagan.' Pero las prudentes replicaron: `No, no sea que no alcance para nosotras y para vosotras; es mejor que vayáis donde los vendedores y os lo compréis.' Mientras iban a comprarlo, llegó el novio, y las que estaban preparadas entraron con él al banquete de boda, y se cerró la puerta. Más tarde llegaron las otras vírgenes diciendo: `¡Señor, señor, ábrenos!' Pero él respondió: `En verdad os digo que no os conozco.' Velad, pues, porque no sabéis ni el día ni la h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a0e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066680" y="47242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ffffff"/>
                </a:solidFill>
                <a:latin typeface="Comic Sans MS"/>
              </a:rPr>
              <a:t>Llegue hasta ti mi súplica; inclina tu oído a mi clamor, Señor.                                   </a:t>
            </a:r>
            <a:r>
              <a:rPr b="0" i="1" lang="ca-ES" sz="1600" spc="-1" strike="noStrike">
                <a:solidFill>
                  <a:srgbClr val="ffffff"/>
                </a:solidFill>
                <a:latin typeface="Comic Sans MS"/>
              </a:rPr>
              <a:t>Salmo  </a:t>
            </a:r>
            <a:r>
              <a:rPr b="0" i="1" lang="ca-ES" sz="1400" spc="-1" strike="noStrike">
                <a:solidFill>
                  <a:srgbClr val="ffffff"/>
                </a:solidFill>
                <a:latin typeface="Comic Sans MS"/>
              </a:rPr>
              <a:t>87: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1 CuadroTexto"/>
          <p:cNvSpPr/>
          <p:nvPr/>
        </p:nvSpPr>
        <p:spPr>
          <a:xfrm>
            <a:off x="584280" y="549360"/>
            <a:ext cx="7921440" cy="462024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 Rounded MT Bold"/>
                <a:ea typeface="SimSun-ExtB"/>
              </a:rPr>
              <a:t>Sab 6,12-16 La sabiduría es radiante e inmarcesible, la ven fácilmente los que la aman, y la encuentran los que la buscan; ella misma se da a conocer a los que la desean. Quien madruga por ella no se cansa: la encuentra sentada a la puerta. Meditar en ella es prudencia consumada, el que vela por ella pronto se ve libre de preocupaciones; ella misma va de un lado a otro buscando a los que la merecen; los aborda benigna por los caminos y les sale al paso en cada pensamient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2 Rectángulo"/>
          <p:cNvSpPr/>
          <p:nvPr/>
        </p:nvSpPr>
        <p:spPr>
          <a:xfrm>
            <a:off x="4872960" y="6165720"/>
            <a:ext cx="3609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  <a:ea typeface="SimSun-ExtB"/>
              </a:rPr>
              <a:t>La sabiduría es rad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2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_x0007_28w.jpg    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226440" y="76320"/>
            <a:ext cx="3087000" cy="916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5400" spc="-1" strike="noStrike">
                <a:solidFill>
                  <a:srgbClr val="ff0cff"/>
                </a:solidFill>
                <a:latin typeface="Comic Sans MS"/>
              </a:rPr>
              <a:t> </a:t>
            </a:r>
            <a:r>
              <a:rPr b="1" i="1" lang="ca-ES" sz="5400" spc="-1" strike="noStrike">
                <a:solidFill>
                  <a:srgbClr val="ffffff"/>
                </a:solidFill>
                <a:latin typeface="Comic Sans MS"/>
              </a:rPr>
              <a:t>Salmo </a:t>
            </a: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6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40000" y="1660680"/>
            <a:ext cx="5258520" cy="180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Dios, tú mi Dios, yo te busc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mi ser tiene sed de t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por ti languidece mi cuerp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como erial agotado, sin ag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457200" y="4876920"/>
            <a:ext cx="7315200" cy="520560"/>
          </a:xfrm>
          <a:prstGeom prst="rect">
            <a:avLst/>
          </a:prstGeom>
          <a:solidFill>
            <a:srgbClr val="0a0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omic Sans MS"/>
              </a:rPr>
              <a:t>Mi ser tiene sed de ti, Señor, Dios mí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_x0007_15w.jpg    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917640" y="1584360"/>
            <a:ext cx="6127200" cy="180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b0606"/>
                </a:solidFill>
                <a:latin typeface="Comic Sans MS"/>
              </a:rPr>
              <a:t>Así como te veía en el santuari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b0606"/>
                </a:solidFill>
                <a:latin typeface="Comic Sans MS"/>
              </a:rPr>
              <a:t>contemplando tu fuerza y tu glor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b0606"/>
                </a:solidFill>
                <a:latin typeface="Comic Sans MS"/>
              </a:rPr>
              <a:t>pues tu amor es mejor que la vid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b0606"/>
                </a:solidFill>
                <a:latin typeface="Comic Sans MS"/>
              </a:rPr>
              <a:t>por eso mis labios te al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164960" y="5127480"/>
            <a:ext cx="6569280" cy="520560"/>
          </a:xfrm>
          <a:prstGeom prst="rect">
            <a:avLst/>
          </a:prstGeom>
          <a:solidFill>
            <a:srgbClr val="ab0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omic Sans MS"/>
              </a:rPr>
              <a:t>Mi ser tiene sed de ti, Señor, Dios mí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_x0007_95w.jpg    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893520" y="1812960"/>
            <a:ext cx="63741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78f09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078f09"/>
                </a:solidFill>
                <a:latin typeface="Comic Sans MS"/>
              </a:rPr>
              <a:t>Así quiero bendecirte en mi vid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78f09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078f09"/>
                </a:solidFill>
                <a:latin typeface="Comic Sans MS"/>
              </a:rPr>
              <a:t>levantar mis manos en tu nombr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78f09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078f09"/>
                </a:solidFill>
                <a:latin typeface="Comic Sans MS"/>
              </a:rPr>
              <a:t>me saciaré como de grasa y médul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78f09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078f09"/>
                </a:solidFill>
                <a:latin typeface="Comic Sans MS"/>
              </a:rPr>
              <a:t>mis labios te alabarán jubilo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110960" y="4975200"/>
            <a:ext cx="6569280" cy="520560"/>
          </a:xfrm>
          <a:prstGeom prst="rect">
            <a:avLst/>
          </a:prstGeom>
          <a:solidFill>
            <a:srgbClr val="078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omic Sans MS"/>
              </a:rPr>
              <a:t>Mi ser tiene sed de ti, Señor, Dios mí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_x0007_20w.jpg    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901080" y="2041560"/>
            <a:ext cx="585288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703b7"/>
                </a:solidFill>
                <a:latin typeface="Comic Sans MS"/>
              </a:rPr>
              <a:t>Si acostado me vienes a la men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703b7"/>
                </a:solidFill>
                <a:latin typeface="Comic Sans MS"/>
              </a:rPr>
              <a:t>quedo en vela meditando en t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703b7"/>
                </a:solidFill>
                <a:latin typeface="Comic Sans MS"/>
              </a:rPr>
              <a:t>porque tú me sirves de auxi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703b7"/>
                </a:solidFill>
                <a:latin typeface="Comic Sans MS"/>
              </a:rPr>
              <a:t>y exulto a la sombra de tus a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083960" y="5257800"/>
            <a:ext cx="6569280" cy="520560"/>
          </a:xfrm>
          <a:prstGeom prst="rect">
            <a:avLst/>
          </a:prstGeom>
          <a:solidFill>
            <a:srgbClr val="ff05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omic Sans MS"/>
              </a:rPr>
              <a:t>Mi ser tiene sed de ti, Señor, Dios mí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67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3 Imagen" descr=""/>
          <p:cNvPicPr/>
          <p:nvPr/>
        </p:nvPicPr>
        <p:blipFill>
          <a:blip r:embed="rId1"/>
          <a:stretch/>
        </p:blipFill>
        <p:spPr>
          <a:xfrm>
            <a:off x="2340000" y="-47520"/>
            <a:ext cx="4464000" cy="6953040"/>
          </a:xfrm>
          <a:prstGeom prst="rect">
            <a:avLst/>
          </a:prstGeom>
          <a:ln w="0">
            <a:noFill/>
          </a:ln>
        </p:spPr>
      </p:pic>
      <p:sp>
        <p:nvSpPr>
          <p:cNvPr id="63" name="1 CuadroTexto"/>
          <p:cNvSpPr/>
          <p:nvPr/>
        </p:nvSpPr>
        <p:spPr>
          <a:xfrm>
            <a:off x="574560" y="189000"/>
            <a:ext cx="8137800" cy="5580360"/>
          </a:xfrm>
          <a:prstGeom prst="rect">
            <a:avLst/>
          </a:prstGeom>
          <a:solidFill>
            <a:srgbClr val="ffff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1Tes 4,13-18 Hermanos, no queremos que ignoréis la suerte de los difuntos para que no os aflijáis como los hombres sin esperanza. Pues si creemos que Jesús ha muerto y resucitado, del mismo modo, a los que han muerto, Dios, por medio de Jesús, los llevará con él. Esto es lo que os decimos como palabra del Señor: Nosotros, los que vivimos y quedamos para cuando venga el Señor, no aventajaremos a los difuntos. Pues él mismo, el Señor, cuando se dé la orden, a la voz del arcángel y al son de la trompeta divina, descenderá del cielo, y los muertos en Cristo resucitarán en primer lugar. Después nosotros, los que aún vivimos, seremos arrebatados con ellos en la nube, al encuentro del Señor, en el aire. Y así estaremos siempre con el Señor. Consolaos, pues, mutuamente con estas palab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2 Rectángulo"/>
          <p:cNvSpPr/>
          <p:nvPr/>
        </p:nvSpPr>
        <p:spPr>
          <a:xfrm>
            <a:off x="5367960" y="6273720"/>
            <a:ext cx="310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A la voz del arcán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_x0007_22w.jpg    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1983960" y="380880"/>
            <a:ext cx="68587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1600" spc="-1" strike="noStrike">
                <a:solidFill>
                  <a:srgbClr val="ab0606"/>
                </a:solidFill>
                <a:latin typeface="Comic Sans MS"/>
              </a:rPr>
              <a:t> </a:t>
            </a:r>
            <a:r>
              <a:rPr b="1" i="1" lang="es-ES" sz="1800" spc="-1" strike="noStrike">
                <a:solidFill>
                  <a:srgbClr val="800000"/>
                </a:solidFill>
                <a:latin typeface="Comic Sans MS"/>
              </a:rPr>
              <a:t>ALELUYA  Mt 24: 42a,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0a0eff"/>
                </a:solidFill>
                <a:latin typeface="Comic Sans MS"/>
              </a:rPr>
              <a:t>Aleluya,aleluy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Estad en vela y preparad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porque en el momento que no penséi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vendrá el Hijo del hombre. Aleluy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&#13;OilLamp3w.jpg                                                  0000001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07280" y="6335640"/>
            <a:ext cx="4333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Lámpara de aceite de aquella épo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7:03:34Z</dcterms:created>
  <dc:creator>JOAN RAMIREZ</dc:creator>
  <dc:description/>
  <dc:language>en-US</dc:language>
  <cp:lastModifiedBy>REGINA</cp:lastModifiedBy>
  <dcterms:modified xsi:type="dcterms:W3CDTF">2011-10-24T15:35:36Z</dcterms:modified>
  <cp:revision>18</cp:revision>
  <dc:subject/>
  <dc:title>Presentación de PowerPoint</dc:title>
</cp:coreProperties>
</file>