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ve%20generosaw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AE7-15AC-4433-9EED-92CCAF8A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7A8-EABE-4438-BFE8-968488D7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FB0-9C91-4CF9-B4F4-B2872983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F66-43EF-4F32-BCA0-BAC06B1E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B08-7151-43B8-A8E4-987DF066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638-A19F-4A53-B16D-809BC607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FB2-C4DE-4BA4-ADEC-996288FC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952-23C6-4C02-A5A2-0C6A3E61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7B7-94D3-485B-A99F-2974ECF5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646-01DF-4F00-B753-4FFD53A0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011-96F1-45B3-A331-83C599F9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E4D-6F69-4843-9A41-33ECED3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252D-5641-4C85-BFA9-11C4982DBA03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generosa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6" descr="_x0008_33ww.jpg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6526080" y="583092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a0ef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0a0eff"/>
                </a:solidFill>
                <a:latin typeface="Comic Sans MS"/>
              </a:rPr>
              <a:t> A</a:t>
            </a:r>
            <a:r>
              <a:rPr b="1" lang="ca-ES" sz="3200" spc="-1" strike="noStrike">
                <a:solidFill>
                  <a:srgbClr val="0a0e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8"/>
          <p:cNvSpPr/>
          <p:nvPr/>
        </p:nvSpPr>
        <p:spPr>
          <a:xfrm>
            <a:off x="176040" y="2281320"/>
            <a:ext cx="8839440" cy="128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600" spc="-1" strike="noStrike">
                <a:solidFill>
                  <a:srgbClr val="0a0eff"/>
                </a:solidFill>
                <a:latin typeface="Comic Sans MS"/>
              </a:rPr>
              <a:t>Trigésimosegundo doming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a0eff"/>
                </a:solidFill>
                <a:latin typeface="Comic Sans MS"/>
              </a:rPr>
              <a:t>tiempo 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29"/>
          <p:cNvSpPr/>
          <p:nvPr/>
        </p:nvSpPr>
        <p:spPr>
          <a:xfrm>
            <a:off x="1092240" y="4286160"/>
            <a:ext cx="696564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a0eff"/>
                </a:solidFill>
                <a:latin typeface="Comic Sans MS"/>
              </a:rPr>
              <a:t>6 de noviembre de 20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27"/>
          <p:cNvSpPr/>
          <p:nvPr/>
        </p:nvSpPr>
        <p:spPr>
          <a:xfrm>
            <a:off x="441360" y="631800"/>
            <a:ext cx="822168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ca-ES" sz="2500" spc="-1" strike="noStrike">
                <a:solidFill>
                  <a:srgbClr val="0a0eff"/>
                </a:solidFill>
                <a:latin typeface="Comic Sans MS"/>
              </a:rPr>
              <a:t>Música: “Ave generosa” de Hildegarda de binghe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2" name="Ave%20generos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&#9;Zionw.jpg    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28960" y="6324480"/>
            <a:ext cx="5301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Jerusalén. Puerta de Sión, cerca del Cenác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52280" y="152280"/>
            <a:ext cx="8839440" cy="4971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990409"/>
                </a:solidFill>
                <a:latin typeface="Comic Sans MS"/>
              </a:rPr>
              <a:t>( Del santo evangelio según san Mateo )    Mt 25: 1-13</a:t>
            </a:r>
            <a:r>
              <a:rPr b="1" i="1" lang="ca-E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Entonces el Reino de los Cielos será semejante a diez vírgenes, que, con su lámpara en la mano, salieron al encuentro del novio. Cinco de ellas eran necias, y cinco prudentes. Las necias, en efecto, al tomar sus lámparas, no se proveyeron de aceite; las prudentes, en cambio, junto con sus lámparas tomaron aceite en las alcuzas. Como el novio tardara, se adormilaron todas y se durmieron.  Mas a media noche se oyó un grito: `¡Ya está aquí el novio! ¡Salid a su encuentro!' Entonces todas aquellas vírgenes se levantaron y arreglaron sus lámparas. Y las necias dijeron a las prudentes: `Dadnos de vuestro aceite, que nuestras lámparas se apagan.' Pero las prudentes replicaron: `No, no sea que no alcance para nosotras y para vosotras; es mejor que vayáis donde los vendedores y os lo compréis.' Mientras iban a comprarlo, llegó el novio, y las que estaban preparadas entraron con él al banquete de boda, y se cerró la puerta. Más tarde llegaron las otras vírgenes diciendo: `¡Señor, señor, ábrenos!' Pero él respondió: `En verdad os digo que no os conozco.' Velad, pues, porque no sabéis ni el día ni la 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a0e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066680" y="47242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Llegue hasta ti mi súplica; inclina tu oído a mi clamor, Señor.                                   </a:t>
            </a:r>
            <a:r>
              <a:rPr b="0" i="1" lang="ca-ES" sz="1600" spc="-1" strike="noStrike">
                <a:solidFill>
                  <a:srgbClr val="ffffff"/>
                </a:solidFill>
                <a:latin typeface="Comic Sans MS"/>
              </a:rPr>
              <a:t>Salmo  </a:t>
            </a:r>
            <a:r>
              <a:rPr b="0" i="1" lang="ca-ES" sz="1400" spc="-1" strike="noStrike">
                <a:solidFill>
                  <a:srgbClr val="ffffff"/>
                </a:solidFill>
                <a:latin typeface="Comic Sans MS"/>
              </a:rPr>
              <a:t>87: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1 CuadroTexto"/>
          <p:cNvSpPr/>
          <p:nvPr/>
        </p:nvSpPr>
        <p:spPr>
          <a:xfrm>
            <a:off x="584280" y="549360"/>
            <a:ext cx="7921440" cy="462024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 Rounded MT Bold"/>
                <a:ea typeface="SimSun-ExtB"/>
              </a:rPr>
              <a:t>Sab 6,12-16 La sabiduría es radiante e inmarcesible, la ven fácilmente los que la aman, y la encuentran los que la buscan; ella misma se da a conocer a los que la desean. Quien madruga por ella no se cansa: la encuentra sentada a la puerta. Meditar en ella es prudencia consumada, el que vela por ella pronto se ve libre de preocupaciones; ella misma va de un lado a otro buscando a los que la merecen; los aborda benigna por los caminos y les sale al paso en cada pensamien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2 Rectángulo"/>
          <p:cNvSpPr/>
          <p:nvPr/>
        </p:nvSpPr>
        <p:spPr>
          <a:xfrm>
            <a:off x="4872960" y="6165720"/>
            <a:ext cx="3609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  <a:ea typeface="SimSun-ExtB"/>
              </a:rPr>
              <a:t>La sabiduría es ra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2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_x0007_28w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26440" y="76320"/>
            <a:ext cx="308700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ff0cff"/>
                </a:solidFill>
                <a:latin typeface="Comic Sans MS"/>
              </a:rPr>
              <a:t> </a:t>
            </a:r>
            <a:r>
              <a:rPr b="1" i="1" lang="ca-ES" sz="54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6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40000" y="1660680"/>
            <a:ext cx="525852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Dios, tú mi Dios, yo te busc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mi ser tiene sed de t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por ti languidece mi cuerp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como erial agotado, sin a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4876920"/>
            <a:ext cx="7315200" cy="520560"/>
          </a:xfrm>
          <a:prstGeom prst="rect">
            <a:avLst/>
          </a:prstGeom>
          <a:solidFill>
            <a:srgbClr val="0a0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Mi ser tiene sed de ti, Señor, Dios m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_x0007_15w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917640" y="1584360"/>
            <a:ext cx="612720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b0606"/>
                </a:solidFill>
                <a:latin typeface="Comic Sans MS"/>
              </a:rPr>
              <a:t>Así como te veía en el santuari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b0606"/>
                </a:solidFill>
                <a:latin typeface="Comic Sans MS"/>
              </a:rPr>
              <a:t>contemplando tu fuerza y tu glor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b0606"/>
                </a:solidFill>
                <a:latin typeface="Comic Sans MS"/>
              </a:rPr>
              <a:t>pues tu amor es mejor que la vi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ab0606"/>
                </a:solidFill>
                <a:latin typeface="Comic Sans MS"/>
              </a:rPr>
              <a:t>por eso mis labios te al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164960" y="5127480"/>
            <a:ext cx="6569280" cy="520560"/>
          </a:xfrm>
          <a:prstGeom prst="rect">
            <a:avLst/>
          </a:prstGeom>
          <a:solidFill>
            <a:srgbClr val="ab0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Mi ser tiene sed de ti, Señor, Dios m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_x0007_95w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893520" y="1812960"/>
            <a:ext cx="63741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Así quiero bendecirte en mi vi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levantar mis manos en tu nomb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me saciaré como de grasa y médul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78f09"/>
                </a:solidFill>
                <a:latin typeface="Comic Sans MS"/>
              </a:rPr>
              <a:t>mis labios te alabarán jubil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110960" y="4975200"/>
            <a:ext cx="6569280" cy="520560"/>
          </a:xfrm>
          <a:prstGeom prst="rect">
            <a:avLst/>
          </a:prstGeom>
          <a:solidFill>
            <a:srgbClr val="078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Mi ser tiene sed de ti, Señor, Dios m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_x0007_20w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901080" y="2041560"/>
            <a:ext cx="585288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703b7"/>
                </a:solidFill>
                <a:latin typeface="Comic Sans MS"/>
              </a:rPr>
              <a:t>Si acostado me vienes a la me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703b7"/>
                </a:solidFill>
                <a:latin typeface="Comic Sans MS"/>
              </a:rPr>
              <a:t>quedo en vela meditando en t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703b7"/>
                </a:solidFill>
                <a:latin typeface="Comic Sans MS"/>
              </a:rPr>
              <a:t>porque tú me sirves de auxi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703b7"/>
                </a:solidFill>
                <a:latin typeface="Comic Sans MS"/>
              </a:rPr>
              <a:t>y exulto a la sombra de tus a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083960" y="5257800"/>
            <a:ext cx="6569280" cy="520560"/>
          </a:xfrm>
          <a:prstGeom prst="rect">
            <a:avLst/>
          </a:prstGeom>
          <a:solidFill>
            <a:srgbClr val="ff0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Mi ser tiene sed de ti, Señor, Dios m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67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 Imagen" descr=""/>
          <p:cNvPicPr/>
          <p:nvPr/>
        </p:nvPicPr>
        <p:blipFill>
          <a:blip r:embed="rId1"/>
          <a:stretch/>
        </p:blipFill>
        <p:spPr>
          <a:xfrm>
            <a:off x="2340000" y="-47520"/>
            <a:ext cx="4464000" cy="6953040"/>
          </a:xfrm>
          <a:prstGeom prst="rect">
            <a:avLst/>
          </a:prstGeom>
          <a:ln w="0">
            <a:noFill/>
          </a:ln>
        </p:spPr>
      </p:pic>
      <p:sp>
        <p:nvSpPr>
          <p:cNvPr id="63" name="1 CuadroTexto"/>
          <p:cNvSpPr/>
          <p:nvPr/>
        </p:nvSpPr>
        <p:spPr>
          <a:xfrm>
            <a:off x="574560" y="189000"/>
            <a:ext cx="8137800" cy="558036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1Tes 4,13-18 Hermanos, no queremos que ignoréis la suerte de los difuntos para que no os aflijáis como los hombres sin esperanza. Pues si creemos que Jesús ha muerto y resucitado, del mismo modo, a los que han muerto, Dios, por medio de Jesús, los llevará con él. Esto es lo que os decimos como palabra del Señor: Nosotros, los que vivimos y quedamos para cuando venga el Señor, no aventajaremos a los difuntos. Pues él mismo, el Señor, cuando se dé la orden, a la voz del arcángel y al son de la trompeta divina, descenderá del cielo, y los muertos en Cristo resucitarán en primer lugar. Después nosotros, los que aún vivimos, seremos arrebatados con ellos en la nube, al encuentro del Señor, en el aire. Y así estaremos siempre con el Señor. Consolaos, pues, mutuamente con estas palab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2 Rectángulo"/>
          <p:cNvSpPr/>
          <p:nvPr/>
        </p:nvSpPr>
        <p:spPr>
          <a:xfrm>
            <a:off x="5367960" y="6273720"/>
            <a:ext cx="310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A la voz del arcán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_x0007_22w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983960" y="380880"/>
            <a:ext cx="6858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1600" spc="-1" strike="noStrike">
                <a:solidFill>
                  <a:srgbClr val="ab0606"/>
                </a:solidFill>
                <a:latin typeface="Comic Sans MS"/>
              </a:rPr>
              <a:t> </a:t>
            </a:r>
            <a:r>
              <a:rPr b="1" i="1" lang="es-ES" sz="1800" spc="-1" strike="noStrike">
                <a:solidFill>
                  <a:srgbClr val="800000"/>
                </a:solidFill>
                <a:latin typeface="Comic Sans MS"/>
              </a:rPr>
              <a:t>ALELUYA  Mt 24: 42a,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a0eff"/>
                </a:solidFill>
                <a:latin typeface="Comic Sans MS"/>
              </a:rPr>
              <a:t>Aleluya,aleluy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Estad en vela y preparad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porque en el momento que no penséi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0a0eff"/>
                </a:solidFill>
                <a:latin typeface="Comic Sans MS"/>
              </a:rPr>
              <a:t>vendrá el Hijo del hombre. Aleluy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&#13;OilLamp3w.jpg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07280" y="6335640"/>
            <a:ext cx="4333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Lámpara de aceite de aquella ép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7:03:34Z</dcterms:created>
  <dc:creator>JOAN RAMIREZ</dc:creator>
  <dc:description/>
  <dc:language>en-US</dc:language>
  <cp:lastModifiedBy>REGINA</cp:lastModifiedBy>
  <dcterms:modified xsi:type="dcterms:W3CDTF">2011-10-24T15:35:36Z</dcterms:modified>
  <cp:revision>18</cp:revision>
  <dc:subject/>
  <dc:title>Presentación de PowerPoint</dc:title>
</cp:coreProperties>
</file>