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GIUSEPE%20%20VERDI.WAV" ContentType="audio/x-wav"/>
  <Override PartName="/ppt/media/image2.gif" ContentType="image/gif"/>
  <Override PartName="/ppt/media/image7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281-6B0D-4F4F-A883-174328D4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DAD-F455-457C-B426-EC73E4BD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CCB3-D4E8-49E6-A125-E9EA52E5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D14D-3909-47C7-8597-F9B5A96F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ED9-860B-4A33-9530-CED47567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C189-9AA6-459C-A5C5-1BD71788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1F8-5876-4ACF-84C2-AFFA4B11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8C4-E965-4B19-8395-9190716F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A31-7845-4403-B970-0106D7CE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DD52-BBA4-40EE-86B6-101C4776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891-CD42-420B-8278-EF47111B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7FA-4394-4E16-885C-B51AE0A2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1C8A-2EED-4A45-93C6-B016976EB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GIUSEPE%20%20VERDI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16000" y="226800"/>
            <a:ext cx="7056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000000"/>
                </a:solidFill>
                <a:latin typeface="Monotype Corsiva"/>
              </a:rPr>
              <a:t>Estás  dispuesto(a)  A hacer Sinapsis con las neuronas de tu cerebro!!!</a:t>
            </a:r>
            <a:r>
              <a:rPr b="0" lang="es-ES" sz="7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random/>
    <p:sndAc>
      <p:stSnd>
        <p:snd r:embed="rId3" name="GIUSEPE%20%20VERD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1680480"/>
            <a:ext cx="38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Monotype Corsiva"/>
              </a:rPr>
              <a:t>Como aprecias a és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Monotype Corsiva"/>
              </a:rPr>
              <a:t>VACA RARA</a:t>
            </a:r>
            <a:r>
              <a:rPr b="0" lang="es-ES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643280" y="1413000"/>
            <a:ext cx="4105440" cy="4103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4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1328040"/>
            <a:ext cx="316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Monotype Corsiva"/>
              </a:rPr>
              <a:t>Puedes ver las 10 caras en el árbol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51280" y="787320"/>
            <a:ext cx="5156280" cy="52833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8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1550160"/>
            <a:ext cx="403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Monotype Corsiva"/>
              </a:rPr>
              <a:t>Aquí hay un rostro, puedes verlo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716360" y="1125360"/>
            <a:ext cx="3959280" cy="4526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7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1989360"/>
            <a:ext cx="352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000000"/>
                </a:solidFill>
                <a:latin typeface="Monotype Corsiva"/>
              </a:rPr>
              <a:t>Puedes ver al bebé ?</a:t>
            </a:r>
            <a:r>
              <a:rPr b="0" lang="es-ES" sz="7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240080" y="1947960"/>
            <a:ext cx="4724640" cy="33526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708840"/>
            <a:ext cx="381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Monotype Corsiva"/>
              </a:rPr>
              <a:t>Puedes ver a la pareja que se está besando 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884840" y="1057320"/>
            <a:ext cx="3647880" cy="4743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4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642240"/>
            <a:ext cx="374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000000"/>
                </a:solidFill>
                <a:latin typeface="Monotype Corsiva"/>
              </a:rPr>
              <a:t>Puedes distinguir a las 3 mujeres ?</a:t>
            </a:r>
            <a:r>
              <a:rPr b="0" lang="es-ES" sz="7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43280" y="1052640"/>
            <a:ext cx="424980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8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631800"/>
            <a:ext cx="439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Monotype Corsiva"/>
              </a:rPr>
              <a:t>Puedes decir la diferencia entre una rana y un caballo, observa con atención..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3456000" cy="367344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6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003640" y="619200"/>
            <a:ext cx="3311640" cy="244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003640" y="3500280"/>
            <a:ext cx="3313440" cy="2449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780000" y="573552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369720"/>
            <a:ext cx="4248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Si no puedes hacer funcionar tus Neuronas … Inténtalo de nue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3321000"/>
            <a:ext cx="453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onotype Corsiva"/>
              </a:rPr>
              <a:t>Si resolviste todo … Toma tu “Chela”  ya que tus Neuronas funciona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1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100"/>
                            </p:stCondLst>
                            <p:childTnLst>
                              <p:par>
                                <p:cTn id="1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6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6600"/>
                            </p:stCondLst>
                            <p:childTnLst>
                              <p:par>
                                <p:cTn id="15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15:42:33Z</dcterms:created>
  <dc:creator>JLVS</dc:creator>
  <dc:description/>
  <dc:language>en-US</dc:language>
  <cp:lastModifiedBy>UserXP</cp:lastModifiedBy>
  <dcterms:modified xsi:type="dcterms:W3CDTF">2009-08-04T16:57:22Z</dcterms:modified>
  <cp:revision>0</cp:revision>
  <dc:subject>A MOVER LAS NEURONAS</dc:subject>
  <dc:title>SINAPSIS__( CON  MUSICA_  Giusepe  Verdi.wav )</dc:title>
</cp:coreProperties>
</file>