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GIUSEPE%20%20VERDI.WAV" ContentType="audio/x-wav"/>
  <Override PartName="/ppt/media/image2.gif" ContentType="image/gif"/>
  <Override PartName="/ppt/media/image7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1C9-8378-4C31-B6B5-3978227C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DE3-A772-464C-8184-2339B11C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BFF-AD04-41B0-9820-AE2B1D84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A05-A770-4DA0-8B94-3017AFF3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179-A38E-4773-BFA8-1CFE4FB4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86A-179A-46C6-922C-94848A9A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0C8-C7FF-43C3-BF47-255D5633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CCF-2103-48B6-9449-87160A1E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844-F698-4E1A-A4E3-AEAB5383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B0F-2ACB-4599-AF62-E6ABE85B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95E-C9AD-4D08-8F62-D2A9E05D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34A-6F7E-4932-907C-3D53C8A9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723D-B0AD-4BC0-B4BF-A60527890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GIUSEPE%20%20VERDI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6000" y="226800"/>
            <a:ext cx="70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Monotype Corsiva"/>
              </a:rPr>
              <a:t>Estás  dispuesto(a)  A hacer Sinapsis con las neuronas de tu cerebro!!!</a:t>
            </a:r>
            <a:r>
              <a:rPr b="0" lang="es-ES" sz="7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/>
    <p:sndAc>
      <p:stSnd>
        <p:snd r:embed="rId3" name="GIUSEPE%20%20VERD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168048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Monotype Corsiva"/>
              </a:rPr>
              <a:t>Como aprecias a é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Monotype Corsiva"/>
              </a:rPr>
              <a:t>VACA RARA</a:t>
            </a:r>
            <a:r>
              <a:rPr b="0" lang="es-E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410544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4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1328040"/>
            <a:ext cx="316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Monotype Corsiva"/>
              </a:rPr>
              <a:t>Puedes ver las 10 caras en el árbol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51280" y="787320"/>
            <a:ext cx="5156280" cy="5283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8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550160"/>
            <a:ext cx="403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Monotype Corsiva"/>
              </a:rPr>
              <a:t>Aquí hay un rostro, puedes verlo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3959280" cy="4526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7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1989360"/>
            <a:ext cx="352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Monotype Corsiva"/>
              </a:rPr>
              <a:t>Puedes ver al bebé ?</a:t>
            </a:r>
            <a:r>
              <a:rPr b="0" lang="es-ES" sz="7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240080" y="1947960"/>
            <a:ext cx="4724640" cy="33526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708840"/>
            <a:ext cx="381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Monotype Corsiva"/>
              </a:rPr>
              <a:t>Puedes ver a la pareja que se está besando 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84840" y="1057320"/>
            <a:ext cx="3647880" cy="4743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4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642240"/>
            <a:ext cx="37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Monotype Corsiva"/>
              </a:rPr>
              <a:t>Puedes distinguir a las 3 mujeres ?</a:t>
            </a:r>
            <a:r>
              <a:rPr b="0" lang="es-ES" sz="7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43280" y="1052640"/>
            <a:ext cx="42498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631800"/>
            <a:ext cx="439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Monotype Corsiva"/>
              </a:rPr>
              <a:t>Puedes decir la diferencia entre una rana y un caballo, observa con atención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456000" cy="367344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6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03640" y="619200"/>
            <a:ext cx="3311640" cy="244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3313440" cy="244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80000" y="573552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69720"/>
            <a:ext cx="424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i no puedes hacer funcionar tus Neuronas … Inténtalo de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3321000"/>
            <a:ext cx="453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onotype Corsiva"/>
              </a:rPr>
              <a:t>Si resolviste todo … Toma tu “Chela”  ya que tus Neuronas funciona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1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100"/>
                            </p:stCondLst>
                            <p:childTnLst>
                              <p:par>
                                <p:cTn id="1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6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60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5:42:33Z</dcterms:created>
  <dc:creator>JLVS</dc:creator>
  <dc:description/>
  <dc:language>en-US</dc:language>
  <cp:lastModifiedBy>UserXP</cp:lastModifiedBy>
  <dcterms:modified xsi:type="dcterms:W3CDTF">2009-08-04T16:57:22Z</dcterms:modified>
  <cp:revision>0</cp:revision>
  <dc:subject>A MOVER LAS NEURONAS</dc:subject>
  <dc:title>SINAPSIS__( CON  MUSICA_  Giusepe  Verdi.wav )</dc:title>
</cp:coreProperties>
</file>