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Arabe-zero-b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CCC-5BB5-4E5B-9897-7DF22642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B75-2EE6-4823-9F4E-A6F3899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48D-5C20-4286-9F04-21D77998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AF1-BCDC-49AD-BE47-0F711A9F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F57-3E01-4E2F-8787-965829BB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95-C3AC-4126-B5C0-51B53CD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713-4AE9-40F8-9358-9ECE837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E7E-0D79-4AC4-91B5-02429A5D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16D-A397-4989-B12C-F98BA2C3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BB9-00C3-4C73-9B54-5DC435B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965-3D1B-4260-8016-850CD01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7C5-03BF-4F01-9173-4CE9B8B3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E6B1-53D0-4DED-BFFE-1AE3045C2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Arabe-zero-b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765000"/>
            <a:ext cx="4981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 E D U I N O S</a:t>
            </a:r>
            <a:endParaRPr b="0" lang="en-US" sz="4800" spc="1" strike="noStrike">
              <a:ln w="1908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5877000"/>
            <a:ext cx="47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ran los de antes...</a:t>
            </a:r>
            <a:endParaRPr b="0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740720" y="6093000"/>
            <a:ext cx="11905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4" name="Arabe-zero-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0862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924360" y="2948040"/>
            <a:ext cx="12952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IN</a:t>
            </a:r>
            <a:endParaRPr b="0" lang="en-US" sz="5400" spc="1" strike="noStrike">
              <a:ln w="1908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21:33:37Z</dcterms:created>
  <dc:creator>n</dc:creator>
  <dc:description/>
  <dc:language>en-US</dc:language>
  <cp:lastModifiedBy>n</cp:lastModifiedBy>
  <dcterms:modified xsi:type="dcterms:W3CDTF">2011-08-14T00:24:20Z</dcterms:modified>
  <cp:revision>4</cp:revision>
  <dc:subject/>
  <dc:title>Diapositiva 1</dc:title>
</cp:coreProperties>
</file>