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Arabe-zero-b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C0C-4CFD-49D7-8A3F-0A0264A7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4E9-7E9B-4836-998B-6A560985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9D4-75C7-4547-A904-47AA21F8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364-7AAF-4CED-82B0-E7A10BEA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CDC-90D9-4B8B-9E45-555628E4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3BE-79E2-4EC3-9869-E6143DFA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5B6-449A-44A3-AC7A-BD4F38C7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610-D7B9-4265-AD5D-1ACB0ADC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FE7-A017-419E-9C2B-53B7D209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D41-7BF5-455D-8BCC-1AE9E0A7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C90-F81D-49A1-966B-FED80E3D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F66-DEE7-41CD-BD91-937FC278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F094-141A-4959-BEA3-14F77279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audio" Target="../media/Arabe-zero-b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68360" y="765000"/>
            <a:ext cx="4981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 E D U I N O S</a:t>
            </a:r>
            <a:endParaRPr b="0" lang="en-US" sz="4800" spc="1" strike="noStrike">
              <a:ln w="19080">
                <a:solidFill>
                  <a:srgbClr val="339966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5877000"/>
            <a:ext cx="47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ran los de antes...</a:t>
            </a:r>
            <a:endParaRPr b="0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740720" y="6093000"/>
            <a:ext cx="11905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4" name="Arabe-zero-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30862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80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924360" y="2948040"/>
            <a:ext cx="1295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IN</a:t>
            </a:r>
            <a:endParaRPr b="0" lang="en-US" sz="5400" spc="1" strike="noStrike">
              <a:ln w="1908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21:33:37Z</dcterms:created>
  <dc:creator>n</dc:creator>
  <dc:description/>
  <dc:language>en-US</dc:language>
  <cp:lastModifiedBy>n</cp:lastModifiedBy>
  <dcterms:modified xsi:type="dcterms:W3CDTF">2011-08-14T00:24:20Z</dcterms:modified>
  <cp:revision>4</cp:revision>
  <dc:subject/>
  <dc:title>Diapositiva 1</dc:title>
</cp:coreProperties>
</file>