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Ernesto%20Cortazar%20Eternity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58B3-6ECE-4582-B06D-848826AD77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EBB5-B023-4B8A-A337-E2055E84082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C0A-5EA2-481D-9E0B-9C71AD11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8CF-3135-438A-B7C9-B827FFF5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6F3-3334-4ADF-B18C-B1D27DBD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5C3-2ACB-4B39-B5AC-AF567B05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885-1663-46EE-8621-2EB2B1B7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6E6-E17C-4984-82CC-FAA1CF6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0D3-4A60-47F8-AA78-E5C282C0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0B9-6D71-49F4-9A33-E724208A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194-95C7-4EDD-9FC4-52F0E243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C82-D5EC-425D-9EF6-8A47104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128-9910-41D2-BB06-C0FAA68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6BF-A329-4B5B-9382-0411B2D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3A76-C647-4BF6-9614-8804E4546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rnesto%20Cortazar%20Eternit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 Imagen" descr="JaponMenuInicio_r4_c5.jpg"/>
          <p:cNvPicPr/>
          <p:nvPr/>
        </p:nvPicPr>
        <p:blipFill>
          <a:blip r:embed="rId2"/>
          <a:stretch/>
        </p:blipFill>
        <p:spPr>
          <a:xfrm>
            <a:off x="684360" y="692280"/>
            <a:ext cx="7819920" cy="550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826920" y="2997360"/>
            <a:ext cx="4608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00b050"/>
                </a:solidFill>
                <a:latin typeface="Comic Sans MS"/>
              </a:rPr>
              <a:t>Sabiduri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400" spc="-1" strike="noStrike">
                <a:solidFill>
                  <a:srgbClr val="00b050"/>
                </a:solidFill>
                <a:latin typeface="Comic Sans MS"/>
              </a:rPr>
              <a:t>japones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3" name="Ernesto%20Cortazar%20Eternit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japon256%2018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39640" y="4869000"/>
            <a:ext cx="8136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te sientas en el camin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onte frente a lo que aun has de and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y de espaldas a lo and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kabuki0002w.jpg"/>
          <p:cNvPicPr/>
          <p:nvPr/>
        </p:nvPicPr>
        <p:blipFill>
          <a:blip r:embed="rId2"/>
          <a:stretch/>
        </p:blipFill>
        <p:spPr>
          <a:xfrm>
            <a:off x="500040" y="844560"/>
            <a:ext cx="3571920" cy="4870440"/>
          </a:xfrm>
          <a:prstGeom prst="rect">
            <a:avLst/>
          </a:prstGeom>
          <a:ln w="0">
            <a:noFill/>
          </a:ln>
        </p:spPr>
      </p:pic>
      <p:pic>
        <p:nvPicPr>
          <p:cNvPr id="70" name="2 Imagen" descr="kabuki.jpg"/>
          <p:cNvPicPr/>
          <p:nvPr/>
        </p:nvPicPr>
        <p:blipFill>
          <a:blip r:embed="rId3"/>
          <a:stretch/>
        </p:blipFill>
        <p:spPr>
          <a:xfrm>
            <a:off x="4403880" y="928800"/>
            <a:ext cx="4338360" cy="4714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71680" y="5618160"/>
            <a:ext cx="8143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eres paciente en un momento de ira, escaparás a cien días de tristez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montfuj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635280" y="2205000"/>
            <a:ext cx="2880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00"/>
                </a:solidFill>
                <a:latin typeface="Comic Sans MS"/>
              </a:rPr>
              <a:t>F I 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5 Imagen" descr="8899051_2136c57d86_m.jpg"/>
          <p:cNvPicPr/>
          <p:nvPr/>
        </p:nvPicPr>
        <p:blipFill>
          <a:blip r:embed="rId2"/>
          <a:stretch/>
        </p:blipFill>
        <p:spPr>
          <a:xfrm>
            <a:off x="666720" y="482760"/>
            <a:ext cx="7834320" cy="587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826920" y="3357720"/>
            <a:ext cx="74883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haces planes para un año, siembra arroz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los haces para dos lustros, planta árbole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los haces para toda la vida, educa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tus hi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6 Marcador de contenido" descr="samurai4.jpg"/>
          <p:cNvPicPr/>
          <p:nvPr/>
        </p:nvPicPr>
        <p:blipFill>
          <a:blip r:embed="rId2"/>
          <a:stretch/>
        </p:blipFill>
        <p:spPr>
          <a:xfrm>
            <a:off x="611280" y="1844640"/>
            <a:ext cx="3286080" cy="4587840"/>
          </a:xfrm>
          <a:prstGeom prst="rect">
            <a:avLst/>
          </a:prstGeom>
          <a:ln w="0">
            <a:noFill/>
          </a:ln>
        </p:spPr>
      </p:pic>
      <p:pic>
        <p:nvPicPr>
          <p:cNvPr id="53" name="7 Marcador de contenido" descr="samurai_03.jpg"/>
          <p:cNvPicPr/>
          <p:nvPr/>
        </p:nvPicPr>
        <p:blipFill>
          <a:blip r:embed="rId3"/>
          <a:stretch/>
        </p:blipFill>
        <p:spPr>
          <a:xfrm>
            <a:off x="4218120" y="2016000"/>
            <a:ext cx="4360680" cy="427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33336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uedo derrotarte físicamente con o sin razó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ero sólo puedo derrotar tu mente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con un razona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 Imagen" descr="310039820_14c2730f2f.jpg"/>
          <p:cNvPicPr/>
          <p:nvPr/>
        </p:nvPicPr>
        <p:blipFill>
          <a:blip r:embed="rId2"/>
          <a:stretch/>
        </p:blipFill>
        <p:spPr>
          <a:xfrm>
            <a:off x="666720" y="428760"/>
            <a:ext cx="7905960" cy="59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42960" y="4292640"/>
            <a:ext cx="81439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Me lamentaba de no tener mejores zapatos, hasta que vi un hombre que no tenia p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IMG_1692_pavillon_d_argent_kyoto_japon.jpg"/>
          <p:cNvPicPr/>
          <p:nvPr/>
        </p:nvPicPr>
        <p:blipFill>
          <a:blip r:embed="rId2"/>
          <a:stretch/>
        </p:blipFill>
        <p:spPr>
          <a:xfrm>
            <a:off x="809640" y="642960"/>
            <a:ext cx="7548480" cy="5661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971640" y="4653000"/>
            <a:ext cx="6377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 beso es como el agua sal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bebes y aumenta tu 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main.jpg"/>
          <p:cNvPicPr/>
          <p:nvPr/>
        </p:nvPicPr>
        <p:blipFill>
          <a:blip r:embed="rId2"/>
          <a:stretch/>
        </p:blipFill>
        <p:spPr>
          <a:xfrm>
            <a:off x="1258920" y="0"/>
            <a:ext cx="6842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763640" y="5445000"/>
            <a:ext cx="5585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uedes aplastar a un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con el peso de tu lengu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asakusa_temple1_1280x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042920" y="3860640"/>
            <a:ext cx="7128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Jamás desesperes en medio de las más  sombrías aflicciones de tu vid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pues de las nubes mas neg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cae agua limpia y fecunda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Japon%20Edit%20404A.jpg"/>
          <p:cNvPicPr/>
          <p:nvPr/>
        </p:nvPicPr>
        <p:blipFill>
          <a:blip r:embed="rId2"/>
          <a:stretch/>
        </p:blipFill>
        <p:spPr>
          <a:xfrm>
            <a:off x="666720" y="534960"/>
            <a:ext cx="7763040" cy="582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71640" y="3429000"/>
            <a:ext cx="70563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Si quieres conocer el pas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mira el presente ,que es su resultado. Si quieres conocer el futur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mira el presente que es su ca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Calendar%5CApr03bvv.jpg"/>
          <p:cNvPicPr/>
          <p:nvPr/>
        </p:nvPicPr>
        <p:blipFill>
          <a:blip r:embed="rId2"/>
          <a:stretch/>
        </p:blipFill>
        <p:spPr>
          <a:xfrm>
            <a:off x="2214720" y="428760"/>
            <a:ext cx="4905360" cy="6000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4203720"/>
            <a:ext cx="8424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 libro abierto es un cerebro que habl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o cerrado un amigo que esper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o olvidado un alma que perdon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Comic Sans MS"/>
              </a:rPr>
              <a:t>uno destruido un corazón que ll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1:32:25Z</dcterms:created>
  <dc:creator>VIRGINIA GALDOS DEL CARPIO</dc:creator>
  <dc:description/>
  <dc:language>en-US</dc:language>
  <cp:lastModifiedBy>Usuario</cp:lastModifiedBy>
  <dcterms:modified xsi:type="dcterms:W3CDTF">2008-02-23T01:05:10Z</dcterms:modified>
  <cp:revision>31</cp:revision>
  <dc:subject/>
  <dc:title>Una y otra vez</dc:title>
</cp:coreProperties>
</file>