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Ernesto%20Cortazar%20Eternity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315B-44FB-4480-B2BA-8771BBF631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91C0-5380-44AF-8950-68BFBD5122C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41FC-2CA1-454A-8CD5-E4D31FC8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7395-4E3F-44E5-9C90-77CFD66E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B4B-94C0-4A45-9B88-C70B2FD3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2AB9-8559-4D12-AD2F-34CA1225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B6B2-98AD-4B89-8962-5C4F88D6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0D8-B887-4517-A944-85D04F1D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9854-0C26-4BCF-8696-D5941BC7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1879-351D-4FA7-8B70-39DB2FA7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76A-A240-438E-8313-1AE95D26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C67-5D57-41C3-9E9C-B5B57DD0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8629-B5FB-4300-8AEB-0D4203E0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377-94B6-477B-8206-5DE95EDB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9A96-BC10-48CC-9306-6825E8F0E8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Ernesto%20Cortazar%20Eternit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5 Imagen" descr="JaponMenuInicio_r4_c5.jpg"/>
          <p:cNvPicPr/>
          <p:nvPr/>
        </p:nvPicPr>
        <p:blipFill>
          <a:blip r:embed="rId2"/>
          <a:stretch/>
        </p:blipFill>
        <p:spPr>
          <a:xfrm>
            <a:off x="684360" y="692280"/>
            <a:ext cx="7819920" cy="5500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28"/>
          <p:cNvSpPr/>
          <p:nvPr/>
        </p:nvSpPr>
        <p:spPr>
          <a:xfrm>
            <a:off x="826920" y="2997360"/>
            <a:ext cx="46087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00b050"/>
                </a:solidFill>
                <a:latin typeface="Comic Sans MS"/>
              </a:rPr>
              <a:t>Sabiduri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00b050"/>
                </a:solidFill>
                <a:latin typeface="Comic Sans MS"/>
              </a:rPr>
              <a:t>japones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3" name="Ernesto%20Cortazar%20Eternit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 Imagen" descr="japon256%2018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539640" y="4869000"/>
            <a:ext cx="8136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Si te sientas en el camino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ponte frente a lo que aun has de and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y de espaldas a lo and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 Imagen" descr="kabuki0002w.jpg"/>
          <p:cNvPicPr/>
          <p:nvPr/>
        </p:nvPicPr>
        <p:blipFill>
          <a:blip r:embed="rId2"/>
          <a:stretch/>
        </p:blipFill>
        <p:spPr>
          <a:xfrm>
            <a:off x="500040" y="844560"/>
            <a:ext cx="3571920" cy="4870440"/>
          </a:xfrm>
          <a:prstGeom prst="rect">
            <a:avLst/>
          </a:prstGeom>
          <a:ln w="0">
            <a:noFill/>
          </a:ln>
        </p:spPr>
      </p:pic>
      <p:pic>
        <p:nvPicPr>
          <p:cNvPr id="70" name="2 Imagen" descr="kabuki.jpg"/>
          <p:cNvPicPr/>
          <p:nvPr/>
        </p:nvPicPr>
        <p:blipFill>
          <a:blip r:embed="rId3"/>
          <a:stretch/>
        </p:blipFill>
        <p:spPr>
          <a:xfrm>
            <a:off x="4403880" y="928800"/>
            <a:ext cx="4338360" cy="4714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571680" y="5618160"/>
            <a:ext cx="81435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Si eres paciente en un momento de ira, escaparás a cien días de tristez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 Imagen" descr="montfuji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3635280" y="2205000"/>
            <a:ext cx="288000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600" spc="-1" strike="noStrike">
                <a:solidFill>
                  <a:srgbClr val="ffff00"/>
                </a:solidFill>
                <a:latin typeface="Comic Sans MS"/>
              </a:rPr>
              <a:t>F I N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5 Imagen" descr="8899051_2136c57d86_m.jpg"/>
          <p:cNvPicPr/>
          <p:nvPr/>
        </p:nvPicPr>
        <p:blipFill>
          <a:blip r:embed="rId2"/>
          <a:stretch/>
        </p:blipFill>
        <p:spPr>
          <a:xfrm>
            <a:off x="666720" y="482760"/>
            <a:ext cx="7834320" cy="5875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826920" y="3357720"/>
            <a:ext cx="748836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si haces planes para un año, siembra arroz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si los haces para dos lustros, planta árboles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si los haces para toda la vida, educa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tus hij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6 Marcador de contenido" descr="samurai4.jpg"/>
          <p:cNvPicPr/>
          <p:nvPr/>
        </p:nvPicPr>
        <p:blipFill>
          <a:blip r:embed="rId2"/>
          <a:stretch/>
        </p:blipFill>
        <p:spPr>
          <a:xfrm>
            <a:off x="611280" y="1844640"/>
            <a:ext cx="3286080" cy="4587840"/>
          </a:xfrm>
          <a:prstGeom prst="rect">
            <a:avLst/>
          </a:prstGeom>
          <a:ln w="0">
            <a:noFill/>
          </a:ln>
        </p:spPr>
      </p:pic>
      <p:pic>
        <p:nvPicPr>
          <p:cNvPr id="53" name="7 Marcador de contenido" descr="samurai_03.jpg"/>
          <p:cNvPicPr/>
          <p:nvPr/>
        </p:nvPicPr>
        <p:blipFill>
          <a:blip r:embed="rId3"/>
          <a:stretch/>
        </p:blipFill>
        <p:spPr>
          <a:xfrm>
            <a:off x="4218120" y="2016000"/>
            <a:ext cx="4360680" cy="4270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0" y="333360"/>
            <a:ext cx="914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Puedo derrotarte físicamente con o sin razó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pero sólo puedo derrotar tu mente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con un razona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8 Imagen" descr="310039820_14c2730f2f.jpg"/>
          <p:cNvPicPr/>
          <p:nvPr/>
        </p:nvPicPr>
        <p:blipFill>
          <a:blip r:embed="rId2"/>
          <a:stretch/>
        </p:blipFill>
        <p:spPr>
          <a:xfrm>
            <a:off x="666720" y="428760"/>
            <a:ext cx="7905960" cy="5929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642960" y="4292640"/>
            <a:ext cx="81439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Me lamentaba de no tener mejores zapatos, hasta que vi un hombre que no tenia p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IMG_1692_pavillon_d_argent_kyoto_japon.jpg"/>
          <p:cNvPicPr/>
          <p:nvPr/>
        </p:nvPicPr>
        <p:blipFill>
          <a:blip r:embed="rId2"/>
          <a:stretch/>
        </p:blipFill>
        <p:spPr>
          <a:xfrm>
            <a:off x="809640" y="642960"/>
            <a:ext cx="7548480" cy="5661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971640" y="4653000"/>
            <a:ext cx="63770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Un beso es como el agua sal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bebes y aumenta tu 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main.jpg"/>
          <p:cNvPicPr/>
          <p:nvPr/>
        </p:nvPicPr>
        <p:blipFill>
          <a:blip r:embed="rId2"/>
          <a:stretch/>
        </p:blipFill>
        <p:spPr>
          <a:xfrm>
            <a:off x="1258920" y="0"/>
            <a:ext cx="6842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763640" y="5445000"/>
            <a:ext cx="55850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Puedes aplastar a una pers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con el peso de tu lengu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asakusa_temple1_1280x10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1042920" y="3860640"/>
            <a:ext cx="71280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Jamás desesperes en medio de las más  sombrías aflicciones de tu vid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pues de las nubes mas negr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cae agua limpia y fecunda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Japon%20Edit%20404A.jpg"/>
          <p:cNvPicPr/>
          <p:nvPr/>
        </p:nvPicPr>
        <p:blipFill>
          <a:blip r:embed="rId2"/>
          <a:stretch/>
        </p:blipFill>
        <p:spPr>
          <a:xfrm>
            <a:off x="666720" y="534960"/>
            <a:ext cx="7763040" cy="5823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971640" y="3429000"/>
            <a:ext cx="70563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Si quieres conocer el pasa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mira el presente ,que es su resultado. Si quieres conocer el futuro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mira el presente que es su cau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Calendar%5CApr03bvv.jpg"/>
          <p:cNvPicPr/>
          <p:nvPr/>
        </p:nvPicPr>
        <p:blipFill>
          <a:blip r:embed="rId2"/>
          <a:stretch/>
        </p:blipFill>
        <p:spPr>
          <a:xfrm>
            <a:off x="2214720" y="428760"/>
            <a:ext cx="4905360" cy="6000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68360" y="4203720"/>
            <a:ext cx="8424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Un libro abierto es un cerebro que habla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uno cerrado un amigo que espera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uno olvidado un alma que perdona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uno destruido un corazón que llo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21:32:25Z</dcterms:created>
  <dc:creator>VIRGINIA GALDOS DEL CARPIO</dc:creator>
  <dc:description/>
  <dc:language>en-US</dc:language>
  <cp:lastModifiedBy>Usuario</cp:lastModifiedBy>
  <dcterms:modified xsi:type="dcterms:W3CDTF">2008-02-23T01:05:10Z</dcterms:modified>
  <cp:revision>31</cp:revision>
  <dc:subject/>
  <dc:title>Una y otra vez</dc:title>
</cp:coreProperties>
</file>