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housefly.wav" ContentType="audio/x-wav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D6E-3121-48A6-BEF4-33100A1D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4EF-E21B-459F-9D5D-8CB3298A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BB7-D407-4D42-BF0E-E9131499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F56-93A5-412B-BBB5-A83E20EA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6E8-761B-4073-B44B-0BDCD1FE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DE6-95D3-47A3-8E2A-57DD71C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8F9-CDAB-43E0-8613-B01AC9D5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F07-6520-4108-AE9A-81327B6A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44B-3454-4199-A280-F63087D7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4E2-7472-4EBF-9C6B-16099986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37A-2FC1-4825-80D5-77C46F2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9BB-9578-4D1C-8081-7DD6325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AD35-B1DE-40A5-ADD3-24BBC94D93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usefly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ousefly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ousefly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ousefly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audio" Target="../media/housefly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usefly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housefl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Como se distingue el sexo de las moscas ???</a:t>
            </a:r>
            <a:r>
              <a:rPr b="1" lang="fr-FR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001" descr=""/>
          <p:cNvPicPr/>
          <p:nvPr/>
        </p:nvPicPr>
        <p:blipFill>
          <a:blip r:embed="rId1"/>
          <a:srcRect l="6337" t="6568" r="6599" b="3646"/>
          <a:stretch/>
        </p:blipFill>
        <p:spPr>
          <a:xfrm>
            <a:off x="2438280" y="2819520"/>
            <a:ext cx="4191120" cy="31240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ousefl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205740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ahoma"/>
              </a:rPr>
              <a:t>Una mujer llega a casa y se encuentra al marido con un matamoscas en la mano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housefl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3124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ahoma"/>
                <a:ea typeface="Arial Unicode MS"/>
              </a:rPr>
              <a:t>« ¿Qué haces ? 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1" name="housefl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El contesta:</a:t>
            </a:r>
            <a:br>
              <a:rPr sz="3200"/>
            </a:br>
            <a:r>
              <a:rPr b="0" lang="fr-FR" sz="4400" spc="-1" strike="noStrike">
                <a:solidFill>
                  <a:srgbClr val="0000ff"/>
                </a:solidFill>
                <a:latin typeface="Tahoma"/>
                <a:ea typeface="Arial Unicode MS"/>
              </a:rPr>
              <a:t> « Matar moscas …  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002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657600" cy="343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ousefl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ahoma"/>
                <a:ea typeface="Arial Unicode MS"/>
              </a:rPr>
              <a:t>« ¿Y has matado alguna ? »</a:t>
            </a:r>
            <a:r>
              <a:rPr b="0" lang="fr-FR" sz="44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ff"/>
                </a:solidFill>
                <a:latin typeface="Tahoma"/>
                <a:ea typeface="Arial Unicode MS"/>
              </a:rPr>
              <a:t>« Si, 3 machos y  2 hembras ! 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ly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934320" y="4800600"/>
            <a:ext cx="600120" cy="650880"/>
          </a:xfrm>
          <a:prstGeom prst="rect">
            <a:avLst/>
          </a:prstGeom>
          <a:ln w="0">
            <a:noFill/>
          </a:ln>
        </p:spPr>
      </p:pic>
      <p:pic>
        <p:nvPicPr>
          <p:cNvPr id="49" name="fly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7772400" y="4267080"/>
            <a:ext cx="388800" cy="422280"/>
          </a:xfrm>
          <a:prstGeom prst="rect">
            <a:avLst/>
          </a:prstGeom>
          <a:ln w="0">
            <a:noFill/>
          </a:ln>
        </p:spPr>
      </p:pic>
      <p:pic>
        <p:nvPicPr>
          <p:cNvPr id="50" name="fly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1752480" y="2819520"/>
            <a:ext cx="600120" cy="650880"/>
          </a:xfrm>
          <a:prstGeom prst="rect">
            <a:avLst/>
          </a:prstGeom>
          <a:ln w="0">
            <a:noFill/>
          </a:ln>
        </p:spPr>
      </p:pic>
      <p:pic>
        <p:nvPicPr>
          <p:cNvPr id="51" name="fly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6400800" y="2514600"/>
            <a:ext cx="388800" cy="422280"/>
          </a:xfrm>
          <a:prstGeom prst="rect">
            <a:avLst/>
          </a:prstGeom>
          <a:ln w="0">
            <a:noFill/>
          </a:ln>
        </p:spPr>
      </p:pic>
      <p:pic>
        <p:nvPicPr>
          <p:cNvPr id="52" name="fly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362320" y="4800600"/>
            <a:ext cx="388800" cy="4222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6" name="housefl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Intrigada ella le pregu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  <a:ea typeface="Arial Unicode MS"/>
              </a:rPr>
              <a:t>« ¿Cómo sabes si son machos o hembras ?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001" descr=""/>
          <p:cNvPicPr/>
          <p:nvPr/>
        </p:nvPicPr>
        <p:blipFill>
          <a:blip r:embed="rId1"/>
          <a:srcRect l="4442" t="6144" r="4442" b="1598"/>
          <a:stretch/>
        </p:blipFill>
        <p:spPr>
          <a:xfrm>
            <a:off x="2971800" y="3657600"/>
            <a:ext cx="312408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ousefl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El contes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Tahoma"/>
                <a:ea typeface="Arial Unicode MS"/>
              </a:rPr>
              <a:t>« 3 estaban posadas en el vaso de cerveza y 2 en el teléfono ! 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age00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14600" y="2895480"/>
            <a:ext cx="4068720" cy="30942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ousefl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2:55:29Z</dcterms:created>
  <dc:creator/>
  <dc:description>www.spass24.com</dc:description>
  <dc:language>en-US</dc:language>
  <cp:lastModifiedBy>WILLKE</cp:lastModifiedBy>
  <dcterms:modified xsi:type="dcterms:W3CDTF">2003-10-09T08:23:06Z</dcterms:modified>
  <cp:revision>9</cp:revision>
  <dc:subject/>
  <dc:title>Fliegen</dc:title>
</cp:coreProperties>
</file>