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El%20m%C3%A1s%20grande%20amor,%20piano-34seg-34kb.wav" ContentType="audio/x-wav"/>
  <Override PartName="/ppt/media/image3.gif" ContentType="image/gif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199-FFBB-48A2-A34E-DB44A06A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F4B-B95D-4F9A-841A-E901F203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5DA-4F36-4BD2-A1DC-5C310879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FA9-DEB8-4BAD-A6EA-2BE9E314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ECB9-B009-4D94-A79E-F99B9D97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A315-8AA2-4270-993C-23BFCC6B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1B77-587B-413B-AD05-6763ED0A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0D0D-337F-4194-A63C-40AB9504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BB71-D3FB-427A-9FDA-6B31B099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F043-3CC9-4C2C-A808-3599C0D9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D45A-6529-48AD-AB5F-F68C996F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07D-925C-466E-BA78-67A33C96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2262-8D58-4097-8FF5-96834EC0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5749-5254-42F2-B9CF-9B09204E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93DD-35B0-44DE-9393-635F26EE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F506-EBAE-4EC7-81CD-BB9A2E73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D624-A68D-4035-858F-8788B74B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19E-6557-424D-B829-94413236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05D-3FD3-4E57-8DAA-08DDFF41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FC9-B9DC-47F1-BA05-FB4075CB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1D2-48DD-4662-8CF1-F12A4F64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70E-5275-4DA8-9665-961064CF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5FF-0782-486D-B188-A9F8CCFD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007-F34C-4409-BB24-9341AE5E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9A07-3D6D-4F53-8D84-F17E7837711C}" type="slidenum">
              <a:rPr b="0" lang="es-C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7FC1-1631-495B-914C-BB3A45831A22}" type="slidenum">
              <a:rPr b="0" lang="es-C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El%20m&#225;s%20grande%20amor,%20piano-34seg-34kb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Garamond"/>
              </a:rPr>
              <a:t>Una viejita de mas de 80 años,  muy coqueta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s-CL" sz="4400" spc="-1" strike="noStrike">
                <a:solidFill>
                  <a:srgbClr val="ffffff"/>
                </a:solidFill>
                <a:latin typeface="Garamond"/>
              </a:rPr>
              <a:t>entra a una farmacia.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1438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r favor tiene anestésico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 señor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 tiene antirreumático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 señor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 tienen Viagra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 señor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n crema contra las arruga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 señor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n también. pomada para las hemorroide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 señor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 por casualidad tienen somnífero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 señoooora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productos para la memoria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 señoraaaaaaaaaaaaaaaaa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n Uds..... 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r favor señora, esta es una farmacia y aquí tenemos todos los productos que UD. pide, Cual es su problema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e6b"/>
                </a:solidFill>
                <a:latin typeface="Garamond"/>
              </a:rPr>
              <a:t>Mire, lo que pasa es que yo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e6b"/>
                </a:solidFill>
                <a:latin typeface="Garamond"/>
              </a:rPr>
              <a:t>me voy a casar con mi amigo Celestino, que va a cumplir 95 años a final de me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1596960" cy="187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797360"/>
            <a:ext cx="122868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y queremos saber si podemos dejar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quí nuestra Lista de Regal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80000" y="2708280"/>
            <a:ext cx="1789200" cy="178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8:11:23Z</dcterms:created>
  <dc:creator>Maria Eugenia Duijvesteijn C</dc:creator>
  <dc:description/>
  <dc:language>en-US</dc:language>
  <cp:lastModifiedBy>ALBERTO CORDERO-LECCA</cp:lastModifiedBy>
  <dcterms:modified xsi:type="dcterms:W3CDTF">2009-09-20T18:45:43Z</dcterms:modified>
  <cp:revision>4</cp:revision>
  <dc:subject/>
  <dc:title>Diapositiva 1</dc:title>
</cp:coreProperties>
</file>