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El%20m%C3%A1s%20grande%20amor,%20piano-34seg-34kb.wav" ContentType="audio/x-wav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6DA-AB23-47AA-9677-B149FFE0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0CD-F258-4288-86BE-789366E2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0E2-2AA1-4FF8-972B-A036241C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282-5D53-4C3E-8193-8CF5DE08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262C-A375-4812-B562-F67DCFBB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867D-F7B8-4EB3-B01A-C05623A1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26AF-E745-4D6F-9AF3-9E6C03A9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A16A-4DB4-4667-B9AE-D3035CB8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CE6-E1C2-42AE-B026-D4EC94A3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CBC9-8F6C-4DB2-BA64-4CB070A0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CBD-ED39-4961-92C7-82D16F5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BCC-F558-4CF4-AF2F-936A460E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2B92-24A3-4693-A7CE-AD00CCC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BB82-5B3E-40C2-B836-33EE385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DCE-B196-435B-BEE8-95568B86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DA8F-F478-4C1E-A312-E6F48C9D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1568-E8F5-4994-BCDA-4869B186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6FD-B963-4713-92BC-4E1C5E61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5AA-DC9B-4766-A9B3-9D4EC786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573-8DFC-4BA6-BA49-15515882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539-EA79-4764-B3D3-CB98D854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13A-AF41-45DD-B500-25363CFB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00E-6821-42E1-A4B3-885EADA6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B11-5BE0-474D-B8F2-DBADA62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FFE9-978D-4797-8D8D-02589109BDCC}" type="slidenum">
              <a:rPr b="0" lang="es-C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234-E7D6-43B7-A58F-567D7A43697F}" type="slidenum">
              <a:rPr b="0" lang="es-C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El%20m&#225;s%20grande%20amor,%20piano-34seg-34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Garamond"/>
              </a:rPr>
              <a:t>Una viejita de mas de 80 años,  muy coqueta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s-CL" sz="4400" spc="-1" strike="noStrike">
                <a:solidFill>
                  <a:srgbClr val="ffffff"/>
                </a:solidFill>
                <a:latin typeface="Garamond"/>
              </a:rPr>
              <a:t>entra a una farmacia.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1438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 favor tiene anestésico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tiene antirreumátic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tienen Viagra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n crema contra las arruga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n también. pomada para las hemorroide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 por casualidad tienen somnífero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ooora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productos para la memoria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 señoraaaaaaaaaaaaaaaaa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n Uds..... 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 favor señora, esta es una farmacia y aquí tenemos todos los productos que UD. pide, Cual es su problema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e6b"/>
                </a:solidFill>
                <a:latin typeface="Garamond"/>
              </a:rPr>
              <a:t>Mire, lo que pasa es que yo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e6b"/>
                </a:solidFill>
                <a:latin typeface="Garamond"/>
              </a:rPr>
              <a:t>me voy a casar con mi amigo Celestino, que va a cumplir 95 años a final de me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159696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797360"/>
            <a:ext cx="12286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y queremos saber si podemos dejar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quí nuestra Lista de Regal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1789200" cy="178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8:11:23Z</dcterms:created>
  <dc:creator>Maria Eugenia Duijvesteijn C</dc:creator>
  <dc:description/>
  <dc:language>en-US</dc:language>
  <cp:lastModifiedBy>ALBERTO CORDERO-LECCA</cp:lastModifiedBy>
  <dcterms:modified xsi:type="dcterms:W3CDTF">2009-09-20T18:45:43Z</dcterms:modified>
  <cp:revision>4</cp:revision>
  <dc:subject/>
  <dc:title>Diapositiva 1</dc:title>
</cp:coreProperties>
</file>