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Zamfir%20-%20Aranjuez%20mon%20amour.wav" ContentType="audio/x-wav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DF88-2AB1-454C-8F5C-15D614F3113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41D4-E30E-4D22-9EAC-57543F889E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43F1-51B2-4866-B58E-627E3DA09F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26A9-F69A-4BAD-8F9D-7F207A33BB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A1ED-0061-43C8-B2F2-712F6E2BDB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8212-610B-4775-A0DF-DCF2C8D5B2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4CB2-A888-4982-ABC8-FA9CC86B76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E0F0-36DA-46C4-9FA0-A97A9CF104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FFAA-27E1-4EE2-9CAB-665BFA9440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AADD-D66B-4EEC-9421-0095CBD74F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938B-B062-414A-976B-FA7D8779CE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EE45-CA40-4DC4-8F98-3715A47ED1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CE4F-1BF1-4647-9036-F2052A47B3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9B0-A0B9-49F1-8CAE-43092588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F1BD-7C95-488B-ABD2-EC63B498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D3C-4870-4120-87EB-08DF8A2E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426C-7C45-4469-966C-73099628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C22F-93EC-404D-B861-2D91D640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898A-A336-47FD-8730-D61A706A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0E43-76A2-49F9-8F69-FABC8F5A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AE1B-D3E7-4BB9-822F-FED4ACDB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DDE6-4541-406D-B264-D0D5D243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6E45-2402-46AF-8CB6-0EFADA5F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F500-535A-4137-B8D0-8A193BF9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39E9-CC6E-4E59-AD05-F412837A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4E3E-CEF1-4924-B6F6-5DEDA28D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B438-9BB7-4547-92BB-8AFA3E98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9573-DCDA-4C55-A568-D6D5EA0D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5201-F4A6-4431-973B-100D2289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0E96-A1DE-4D2D-80F3-5B5F6958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874-9561-48B7-AD70-E94F237A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8F4-5EFA-4EC9-9685-F09AAE90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5AA-EE4B-4DE2-A11A-F4D9AAAE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D6CD-E530-4F38-B6D0-27357E89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9D61-8789-40FF-AC7C-85D9656F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62D3-254B-4258-B0DB-72C68394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5B0B-40D6-4D41-99F7-C7D51BE1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6780-4ADB-47F5-9E8A-A547FF12A7D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ED31-1748-4BA9-A98C-7C218EDF3B6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audio" Target="../media/Zamfir%20-%20Aranjuez%20mon%20amour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4360" y="189000"/>
            <a:ext cx="7272360" cy="22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ill Sans Ultra Bold"/>
              </a:rPr>
              <a:t> </a:t>
            </a:r>
            <a:r>
              <a:rPr b="0" lang="en-US" sz="1800" spc="1" strike="noStrike">
                <a:ln w="19080">
                  <a:solidFill>
                    <a:srgbClr val="eaeaea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ill Sans Ultra Bold"/>
              </a:rPr>
              <a:t>ESTATUAS   INSOLITAS</a:t>
            </a:r>
            <a:endParaRPr b="0" lang="en-US" sz="1800" spc="1" strike="noStrike">
              <a:ln w="19080">
                <a:solidFill>
                  <a:srgbClr val="eaeaea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ill Sans Ultra Bold"/>
              <a:ea typeface="Gill Sans Ultra Bol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rcRect l="21650" t="9050" r="12205" b="24793"/>
          <a:stretch/>
        </p:blipFill>
        <p:spPr>
          <a:xfrm>
            <a:off x="1332000" y="2060640"/>
            <a:ext cx="6048360" cy="4537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7596360" y="3357720"/>
            <a:ext cx="865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aeaea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ill Sans Ultra Bold"/>
              </a:rPr>
              <a:t>1</a:t>
            </a:r>
            <a:endParaRPr b="0" lang="en-US" sz="1800" spc="1" strike="noStrike">
              <a:ln w="19080">
                <a:solidFill>
                  <a:srgbClr val="eaeaea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ill Sans Ultra Bold"/>
              <a:ea typeface="Gill Sans Ultra 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20602" t="15003" r="14307" b="19197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20602" t="24819" r="21646" b="248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57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1229379172_b272b0f2b0[1]"/>
          <p:cNvPicPr/>
          <p:nvPr/>
        </p:nvPicPr>
        <p:blipFill>
          <a:blip r:embed="rId1"/>
          <a:srcRect l="0" t="11392" r="0" b="5904"/>
          <a:stretch/>
        </p:blipFill>
        <p:spPr>
          <a:xfrm>
            <a:off x="1332000" y="0"/>
            <a:ext cx="62197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Espace réservé du contenu 3" descr="3456613.jpg"/>
          <p:cNvPicPr/>
          <p:nvPr/>
        </p:nvPicPr>
        <p:blipFill>
          <a:blip r:embed="rId1"/>
          <a:srcRect l="1247" t="1854" r="41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 spd="med" advTm="7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0" b="76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0" r="0" b="98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 1" descr="DSCN17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310310831_99106f58bc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18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9534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0" t="0" r="0" b="52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0" r="487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</p:spTree>
  </p:cSld>
  <p:transition spd="med" advTm="7000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907" t="1355" r="1771" b="548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</p:spTree>
  </p:cSld>
  <p:transition spd="med" advTm="7000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 1" descr="DSCN1723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0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1:04:40Z</dcterms:created>
  <dc:creator>miś</dc:creator>
  <dc:description/>
  <dc:language>en-US</dc:language>
  <cp:lastModifiedBy>WinuE</cp:lastModifiedBy>
  <dcterms:modified xsi:type="dcterms:W3CDTF">2009-05-24T15:13:37Z</dcterms:modified>
  <cp:revision>3</cp:revision>
  <dc:subject/>
  <dc:title>pomniki</dc:title>
</cp:coreProperties>
</file>