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Zamfir%20-%20Aranjuez%20mon%20amour.wav" ContentType="audio/x-wav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0358-C8A2-4F63-94AA-7EC22B4CEF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121A-A8CC-43EF-AA56-32497A84A6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7CA-AA4A-4C95-BEF2-23CF952807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A1E-205A-4686-88F9-61417BDF45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1F0B-60C2-43D7-AABD-14AC07B7B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5C06-8CA2-4096-BB22-9C153217DD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2A33-6EA5-4EF7-B664-9DA1D7F970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9834-E173-4D4D-81ED-8AC5486FEF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BA0-1427-4DFC-A3F9-2F2950C202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2CF-244E-4DEE-9A44-05EACD4DB8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632-1B7C-493C-AD95-7B6F1DE5B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EB54-CAA1-42A8-8915-59ED48DB44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E82B-6210-48FE-9873-C53A480D58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A7C-42DC-45C9-8BE4-7E2E0510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AC9-9FC0-43BC-89D4-9A74C19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283-E110-4AA5-9E05-8FC81266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AFF-677A-479B-A30E-5F85E2E8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291-035E-4A24-8C49-E460A20D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D18-91ED-4478-88DA-2A6006D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5781-AD28-4011-A5A9-6E45EF2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0FAB-9EFD-4CDC-801B-FD3A4D47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4D0-D5DB-4849-BADC-92F3534A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A14-A2B9-45F6-9481-A720FF4F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EA0-B352-444B-9269-7D6371E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725-972F-4C32-B58F-05AAD9A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0FA0-EC56-448A-BA66-7B52BB5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64A2-08EB-413C-B914-8354596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EF5-F351-4F24-A468-AF77B9A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A34-B2CD-4010-A08A-76E89409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5CE0-D311-48ED-A85B-0965A126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3B9-FD37-4E14-B5E8-0EDE0862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71F-E094-44C7-AF96-C1672C4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381-066E-489F-8CC5-D6F1136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8AE-EE20-42D1-BC53-8777864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A04-745D-46FA-8343-95F2CB8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8AE-716F-414B-A597-0827D3C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79C-2816-46A4-AECB-F1F6CA0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496-2057-4037-957B-7EAE515A7A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C956-0F19-4D09-BAAA-2E9048F73B3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audio" Target="../media/Zamfir%20-%20Aranjuez%20mon%20amour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189000"/>
            <a:ext cx="7272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 </a:t>
            </a: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ESTATUAS   INSOLITAS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21650" t="9050" r="12205" b="24793"/>
          <a:stretch/>
        </p:blipFill>
        <p:spPr>
          <a:xfrm>
            <a:off x="1332000" y="206064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596360" y="3357720"/>
            <a:ext cx="86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1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20602" t="15003" r="14307" b="19197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0602" t="24819" r="21646" b="24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7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29379172_b272b0f2b0[1]"/>
          <p:cNvPicPr/>
          <p:nvPr/>
        </p:nvPicPr>
        <p:blipFill>
          <a:blip r:embed="rId1"/>
          <a:srcRect l="0" t="11392" r="0" b="5904"/>
          <a:stretch/>
        </p:blipFill>
        <p:spPr>
          <a:xfrm>
            <a:off x="1332000" y="0"/>
            <a:ext cx="6219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Espace réservé du contenu 3" descr="3456613.jpg"/>
          <p:cNvPicPr/>
          <p:nvPr/>
        </p:nvPicPr>
        <p:blipFill>
          <a:blip r:embed="rId1"/>
          <a:srcRect l="1247" t="1854" r="41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 spd="med" advTm="7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7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DSCN1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310310831_99106f58b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18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5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48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  <p:transition spd="med" advTm="7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07" t="1355" r="1771" b="54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  <p:transition spd="med" advTm="7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DSCN1723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1:04:40Z</dcterms:created>
  <dc:creator>miś</dc:creator>
  <dc:description/>
  <dc:language>en-US</dc:language>
  <cp:lastModifiedBy>WinuE</cp:lastModifiedBy>
  <dcterms:modified xsi:type="dcterms:W3CDTF">2009-05-24T15:13:37Z</dcterms:modified>
  <cp:revision>3</cp:revision>
  <dc:subject/>
  <dc:title>pomniki</dc:title>
</cp:coreProperties>
</file>