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The%20Way%20%20You%20Look%20Tonight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912-837A-4C56-9706-2AF51A4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A84-92AF-41F1-BB6B-E42B5C6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D64-7D5D-4CC7-A2BD-BB145BE2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C31-D442-4C6F-A980-D458BC82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586-CD06-427B-9492-FBFE82E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D1B-531A-475D-9B5F-A79477C4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428-EB4D-46BD-896C-EBBA83EB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66D-EB6F-40B7-A68F-B92C8BE6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496-BC35-4BEF-9891-5415E8FA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C70-4526-45A3-8644-2C6DDC2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773-D492-418C-8081-85BE49E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F8C-9AFE-4935-A06C-61C66A3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14B4-DF9D-4511-A7E0-65DCFE077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he%20Way%20%20You%20Look%20Tonight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43000" y="1600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lightD"/>
                <a:ea typeface="Times New Roman"/>
              </a:rPr>
              <a:t>¿A QUIÉN LLEVARÍAS?</a:t>
            </a:r>
            <a:r>
              <a:rPr b="1" lang="en-US" sz="4400" spc="-1" strike="noStrike">
                <a:solidFill>
                  <a:srgbClr val="ffffff"/>
                </a:solidFill>
                <a:latin typeface="Blacklight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9559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ás conduciendo tu automóvil deportivo de dos plazas en una noche de tormenta terrible. Pasas por una parada de autobús donde se encuentran tres personas esperand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04800" y="4327560"/>
            <a:ext cx="6134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a anciana enferma a punto de mor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viejo amigo que alguna vez te salvó 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La mujer de tus sueños, o tu hombr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762120"/>
            <a:ext cx="6934320" cy="182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6934320" cy="356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01680" y="914400"/>
            <a:ext cx="65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A quién llevarías en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tu automóv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, sabiendo que sólo tienes sitio para u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sajer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67816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iensa muy bien tu respuesta antes de seguir leyendo..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Éste es un dilema ético y moral utilizado en entrevistas de trabajo. 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drías llevar a la anciana, porque va a morir y por lo tanto deberías salvarla primero; o podrías llevar al amigo, ya que él te salvó la vida y estas en deuda con él. Sin embargo, posiblemente nunca vuelvas a encontrar a la mujer de tus sueños, o tu hombre id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Un aspirante en una entrevista fue contratado, de entre 200 concursantes, por su magnífica respuesta ¿Quie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saber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qué respondió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mente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6934320" cy="524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38080"/>
            <a:ext cx="68580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Le daría las llaves del coche a mi amigo, y le pediría que llevara a la anciana al hospital; mientras tanto, yo me quedaría esperando el autobús con la mujer de mis sueños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¿Te gustó la historia? Pues así es la vida, por ello deb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tener siempre muy presente aquella trillada fras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"Un problema planteado correctamente es un problema prácticamente resuelto"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Moraleja: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Prestemos más atención a lo que hacemos o decimos”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Courier New"/>
              </a:rPr>
              <a:t>Espero que te haya agradado, mejor aún, que te sea de utilidad... si así lo crees y te gustó, compártelo con otras personas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06:25:24Z</dcterms:created>
  <dc:creator>Enrique Ruiz Bohórquez</dc:creator>
  <dc:description/>
  <dc:language>en-US</dc:language>
  <cp:lastModifiedBy>JAIME</cp:lastModifiedBy>
  <dcterms:modified xsi:type="dcterms:W3CDTF">2006-03-27T04:42:58Z</dcterms:modified>
  <cp:revision>4</cp:revision>
  <dc:subject/>
  <dc:title>Presentación de PowerPoint</dc:title>
</cp:coreProperties>
</file>