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The%20Way%20%20You%20Look%20Tonight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5B4-BCD3-4043-86CC-14EB0B19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FAE-A440-4B20-BC6F-0110E42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3E7-16C0-44A8-A3A0-F11EE37A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2C9-EED9-4A68-A34B-00D088CB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A10-EEFA-40BF-A1B9-3F0F4A72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067-2371-4AC3-B6C3-5A80429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16E-CF47-44AE-8DAA-B47E457D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892-20FD-4C4D-B2CE-19227E9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D8A-6CF6-4EEF-B087-4DF6EBA8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6C4-01D9-4339-8C5B-998CD75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7B6-F4CB-4023-A1C4-3851F3F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086-7C2F-4A1A-9FB6-338194F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E13-6497-4E5B-BF11-2151B701F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he%20Way%20%20You%20Look%20Tonight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600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lightD"/>
                <a:ea typeface="Times New Roman"/>
              </a:rPr>
              <a:t>¿A QUIÉN LLEVARÍAS?</a:t>
            </a:r>
            <a:r>
              <a:rPr b="1" lang="en-US" sz="4400" spc="-1" strike="noStrike">
                <a:solidFill>
                  <a:srgbClr val="ffffff"/>
                </a:solidFill>
                <a:latin typeface="Blacklight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9559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ás conduciendo tu automóvil deportivo de dos plazas en una noche de tormenta terrible. Pasas por una parada de autobús donde se encuentran tres personas esperan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4800" y="4327560"/>
            <a:ext cx="6134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a anciana enferma a punto de mor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viejo amigo que alguna vez te salvó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La mujer de tus sueños, o tu hombr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762120"/>
            <a:ext cx="693432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6934320" cy="356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1680" y="914400"/>
            <a:ext cx="65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A quién llevarías en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tu automóv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, sabiendo que sólo tienes sitio para u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sajer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67816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iensa muy bien tu respuesta antes de seguir leyendo..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Éste es un dilema ético y moral utilizado en entrevistas de trabajo. 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drías llevar a la anciana, porque va a morir y por lo tanto deberías salvarla primero; o podrías llevar al amigo, ya que él te salvó la vida y estas en deuda con él. Sin embargo, posiblemente nunca vuelvas a encontrar a la mujer de tus sueños, o tu hombre i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aspirante en una entrevista fue contratado, de entre 200 concursantes, por su magnífica respuesta ¿Quie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saber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qué respondió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mente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24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38080"/>
            <a:ext cx="6858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Le daría las llaves del coche a mi amigo, y le pediría que llevara a la anciana al hospital; mientras tanto, yo me quedaría esperando el autobús con la mujer de mis sueños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Te gustó la historia? Pues así es la vida, por ello deb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tener siempre muy presente aquella trillada fras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Un problema planteado correctamente es un problema prácticamente resuelto"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Moraleja: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restemos más atención a lo que hacemos o decimos”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Espero que te haya agradado, mejor aún, que te sea de utilidad... si así lo crees y te gustó, compártelo con otras persona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6:25:24Z</dcterms:created>
  <dc:creator>Enrique Ruiz Bohórquez</dc:creator>
  <dc:description/>
  <dc:language>en-US</dc:language>
  <cp:lastModifiedBy>JAIME</cp:lastModifiedBy>
  <dcterms:modified xsi:type="dcterms:W3CDTF">2006-03-27T04:42:58Z</dcterms:modified>
  <cp:revision>4</cp:revision>
  <dc:subject/>
  <dc:title>Presentación de PowerPoint</dc:title>
</cp:coreProperties>
</file>