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4EC3-60C9-438A-9E38-4235D8FD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96E-35AD-4922-86A4-17C09EE1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E16A-039F-49B1-B530-29299E0F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1A25-0361-4696-8CE4-24275F79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265C-5DEC-4680-866F-E9DED3D5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0B04-ADD8-4D57-AF42-3635C110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FEF0-2BC4-47DA-A559-22C9CDC2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5815-6D35-429C-8823-F423CE22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C09D-76B5-4BA4-B170-F4ADF15D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DF11-740A-4C1F-A852-1EC8FE12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D0E6-FBEF-47D0-B2B2-C4FB71EF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F8BC-A4D6-4D64-8656-165D2949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F3E8-8CDA-400D-B58E-54323540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99F9-56AA-48DC-B152-36FBB558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C418-5B4F-45C3-BD48-6643421C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FCA2-FDCA-4986-BCE6-FF354220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A9D5-DD8E-4086-91D1-F17DCBF1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42D-8B6A-4B7D-BD5D-A32E7A64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372-5F63-4571-8940-76193DA0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1E2-6E35-4BAA-B029-76F820C6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FE14-0547-40BB-A0B0-4DE7470D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A02-0181-46D7-B771-D694D03F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D0BC-1240-4138-8C84-DCECFE3C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2931-511C-4DCF-B6A2-3AB481AF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F57D-67B0-4C6E-8B06-1B2711FB6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BA68-0ADF-4903-B8CD-A350BEBD4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20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b7e7ff"/>
                </a:solidFill>
                <a:latin typeface="Arial"/>
              </a:rPr>
              <a:t>Lamentablemente, Jose Antonio había nacido </a:t>
            </a:r>
            <a:br>
              <a:rPr sz="4800"/>
            </a:br>
            <a:r>
              <a:rPr b="0" lang="ca-ES" sz="4800" spc="-1" strike="noStrike">
                <a:solidFill>
                  <a:srgbClr val="b7e7ff"/>
                </a:solidFill>
                <a:latin typeface="Arial"/>
              </a:rPr>
              <a:t>sin orejas, 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79423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Aunque había</a:t>
            </a:r>
            <a:br>
              <a:rPr sz="3200"/>
            </a:b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tenido mucho éxito en los negocio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ese problema le molestaba muchísimo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b7e7ff"/>
                </a:solidFill>
                <a:latin typeface="Arial"/>
              </a:rPr>
              <a:t>Un día, necesitaba contratar un nuevo gerente para su compañía, y tenia</a:t>
            </a:r>
            <a:br>
              <a:rPr sz="4000"/>
            </a:br>
            <a:r>
              <a:rPr b="0" lang="ca-ES" sz="4000" spc="-1" strike="noStrike">
                <a:solidFill>
                  <a:srgbClr val="b7e7ff"/>
                </a:solidFill>
                <a:latin typeface="Arial"/>
              </a:rPr>
              <a:t>tres personas para entrevistar: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1125360"/>
            <a:ext cx="823104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cc00"/>
                </a:solidFill>
                <a:latin typeface="Arial"/>
              </a:rPr>
              <a:t>El primero estaba muy bien. Conocía todo</a:t>
            </a:r>
            <a:br>
              <a:rPr sz="2400"/>
            </a:br>
            <a:r>
              <a:rPr b="1" lang="ca-ES" sz="2400" spc="-1" strike="noStrike">
                <a:solidFill>
                  <a:srgbClr val="ffcc00"/>
                </a:solidFill>
                <a:latin typeface="Arial"/>
              </a:rPr>
              <a:t>lo necesario para desempeñar su trabajo y era una persona muyi nteresan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cc00"/>
                </a:solidFill>
                <a:latin typeface="Arial"/>
              </a:rPr>
              <a:t>Pero, al final de la entrevista, Jose Antonio le preguntó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cc00"/>
                </a:solidFill>
                <a:latin typeface="Arial"/>
              </a:rPr>
              <a:t>"¿Ha notado usted algo especial en mi persona?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ca-ES" sz="2400" spc="-1" strike="noStrike">
                <a:solidFill>
                  <a:srgbClr val="ffcc00"/>
                </a:solidFill>
                <a:latin typeface="Arial"/>
              </a:rPr>
              <a:t>Oh si, claro. No pude evitar fijarme en que usted no tiene orejas", fue la respues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cc00"/>
                </a:solidFill>
                <a:latin typeface="Arial"/>
              </a:rPr>
              <a:t>A Jose Antonio no le gusto en absoluto esa demostración de franqueza, y echo al candidato de su oficina.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2803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99"/>
                </a:solidFill>
                <a:latin typeface="Arial"/>
              </a:rPr>
              <a:t>La segunda entrevista era con una mujer, y ella era mucho mejor que el primer candidato. Pero luego Jose Antonio le hizo la misma pregu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99"/>
                </a:solidFill>
                <a:latin typeface="Arial"/>
              </a:rPr>
              <a:t>"¿Que ve usted de diferente en mi?". "Bueno", contesto ella, tartamudeando, "a usted le... faltan las orejas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99"/>
                </a:solidFill>
                <a:latin typeface="Arial"/>
              </a:rPr>
              <a:t>Jose Antonio se enojó mucho y la saco a gritos de su ofic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96000" cy="59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7e7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a4"/>
                </a:solidFill>
                <a:latin typeface="Arial"/>
              </a:rPr>
              <a:t>El tercero y último de los entrevistados era el mejor.</a:t>
            </a:r>
            <a:br>
              <a:rPr sz="2400"/>
            </a:br>
            <a:r>
              <a:rPr b="0" lang="ca-ES" sz="2400" spc="-1" strike="noStrike">
                <a:solidFill>
                  <a:srgbClr val="0000a4"/>
                </a:solidFill>
                <a:latin typeface="Arial"/>
              </a:rPr>
              <a:t>-Era un joven que hacia poco había obtenido su Master. </a:t>
            </a:r>
            <a:br>
              <a:rPr sz="2400"/>
            </a:br>
            <a:r>
              <a:rPr b="0" lang="ca-ES" sz="2400" spc="-1" strike="noStrike">
                <a:solidFill>
                  <a:srgbClr val="0000a4"/>
                </a:solidFill>
                <a:latin typeface="Arial"/>
              </a:rPr>
              <a:t>-Era muy inteligente. </a:t>
            </a:r>
            <a:br>
              <a:rPr sz="2400"/>
            </a:br>
            <a:r>
              <a:rPr b="0" lang="ca-ES" sz="2400" spc="-1" strike="noStrike">
                <a:solidFill>
                  <a:srgbClr val="0000a4"/>
                </a:solidFill>
                <a:latin typeface="Arial"/>
              </a:rPr>
              <a:t>-Tenia excelente presencia y parecía ser un mejor hombre de negocios que los dos anteriores juntos. </a:t>
            </a:r>
            <a:br>
              <a:rPr sz="2400"/>
            </a:br>
            <a:br>
              <a:rPr sz="2400"/>
            </a:br>
            <a:r>
              <a:rPr b="0" lang="ca-ES" sz="2400" spc="-1" strike="noStrike">
                <a:solidFill>
                  <a:srgbClr val="0000a4"/>
                </a:solidFill>
                <a:latin typeface="Arial"/>
              </a:rPr>
              <a:t>Jose Antonio estaba ansioso, pero igualmente continuó con la rutina y le hizo la misma pregunta:</a:t>
            </a:r>
            <a:br>
              <a:rPr sz="2400"/>
            </a:br>
            <a:br>
              <a:rPr sz="2400"/>
            </a:br>
            <a:r>
              <a:rPr b="0" lang="ca-ES" sz="2400" spc="-1" strike="noStrike">
                <a:solidFill>
                  <a:srgbClr val="0000a4"/>
                </a:solidFill>
                <a:latin typeface="Arial"/>
              </a:rPr>
              <a:t> "¿Tengo algo de diferente respecto a los demás?“... Para sorpresa de Jose Antonio, el joven le contestó:</a:t>
            </a:r>
            <a:br>
              <a:rPr sz="2400"/>
            </a:br>
            <a:r>
              <a:rPr b="0" lang="ca-ES" sz="2400" spc="-1" strike="noStrike">
                <a:solidFill>
                  <a:srgbClr val="0000a4"/>
                </a:solidFill>
                <a:latin typeface="Arial"/>
              </a:rPr>
              <a:t> "Por supuesto que si, Usted usa lentes de contacto, ¿verdad?". </a:t>
            </a:r>
            <a:br>
              <a:rPr sz="2400"/>
            </a:br>
            <a:br>
              <a:rPr sz="2400"/>
            </a:br>
            <a:r>
              <a:rPr b="0" lang="ca-ES" sz="2400" spc="-1" strike="noStrike">
                <a:solidFill>
                  <a:srgbClr val="0000a4"/>
                </a:solidFill>
                <a:latin typeface="Arial"/>
              </a:rPr>
              <a:t>Jose Antonio quedo asombrado y se dio cuenta que estaba frente a una persona increíblemente observadora...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3640" y="1628640"/>
            <a:ext cx="8135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00"/>
                </a:solidFill>
                <a:latin typeface="Arial"/>
              </a:rPr>
              <a:t>"¿Como pudo usted saberlo?", le pregunt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00"/>
                </a:solidFill>
                <a:latin typeface="Arial"/>
              </a:rPr>
              <a:t>El joven se empezó a reír y le contestó: 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1320" y="1676160"/>
            <a:ext cx="8373960" cy="442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0000a4"/>
                </a:solidFill>
                <a:latin typeface="Arial"/>
              </a:rPr>
              <a:t>...¡¡ Obvio !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ca-ES" sz="4800" spc="-1" strike="noStrike">
                <a:solidFill>
                  <a:srgbClr val="0000a4"/>
                </a:solidFill>
                <a:latin typeface="Arial"/>
              </a:rPr>
              <a:t>¿Donde mierda se va a colgar los lentes si no tiene orejas?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4:15:16Z</dcterms:created>
  <dc:creator/>
  <dc:description/>
  <dc:language>en-US</dc:language>
  <cp:lastModifiedBy>Enrique Briceño</cp:lastModifiedBy>
  <dcterms:modified xsi:type="dcterms:W3CDTF">2006-04-01T04:07:41Z</dcterms:modified>
  <cp:revision>7</cp:revision>
  <dc:subject/>
  <dc:title>Lamentablemente, Jose Antonio había nacido  sin orejas, </dc:title>
</cp:coreProperties>
</file>