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1DB-403F-4CE0-82B6-716C2488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D79-3E3C-4901-9A42-5790FCD6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0C6-64B6-4E54-A904-2107462A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5F3-FD4D-4FA1-9586-FA1D9E71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C233-0B38-4066-8A2C-D9CF42AE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9995-DB95-4D69-B62A-DD0C535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E372-FC96-48A8-A7D0-097CF8D6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FFCC-472A-4424-944A-0F25522E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641F-8460-4898-8A84-BBE04415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4726-9502-4F5C-AE32-8518E39A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76C1-4D27-4957-A8EE-775360FA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134-FFEC-4885-88E4-799DD7ED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0DF0-B304-4812-82D6-6BC41DED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EAE2-5F41-4D5A-9D7D-4E75ED7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32EA-9F5C-46E6-B046-D1F8BDC7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CA1F-AEF1-4FDC-A3A3-8283A66F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41CD-A881-4806-93FA-DAAE3F0F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FAC-5159-4D1D-B6CD-3A33A935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9B4-2F0F-4816-AE8D-60BA1163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D11-F951-4469-BFBE-86B5075D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CCF-C129-462B-81DF-5BC3627D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C40-7826-4649-B825-5221E21B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5AB-5F46-4CDF-BEB6-69A0772A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9C9-746F-477B-9DBE-30B7A823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70E6-56DC-4A00-8B60-8ADD0291C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D425-ECA0-49C0-AFAD-CEDA2D3A2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20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b7e7ff"/>
                </a:solidFill>
                <a:latin typeface="Arial"/>
              </a:rPr>
              <a:t>Lamentablemente, Jose Antonio había nacido </a:t>
            </a:r>
            <a:br>
              <a:rPr sz="4800"/>
            </a:br>
            <a:r>
              <a:rPr b="0" lang="ca-ES" sz="4800" spc="-1" strike="noStrike">
                <a:solidFill>
                  <a:srgbClr val="b7e7ff"/>
                </a:solidFill>
                <a:latin typeface="Arial"/>
              </a:rPr>
              <a:t>sin orejas,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7942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Aunque había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tenido mucho éxito en los negocio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ese problema le molestaba muchísimo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b7e7ff"/>
                </a:solidFill>
                <a:latin typeface="Arial"/>
              </a:rPr>
              <a:t>Un día, necesitaba contratar un nuevo gerente para su compañía, y tenia</a:t>
            </a:r>
            <a:br>
              <a:rPr sz="4000"/>
            </a:br>
            <a:r>
              <a:rPr b="0" lang="ca-ES" sz="4000" spc="-1" strike="noStrike">
                <a:solidFill>
                  <a:srgbClr val="b7e7ff"/>
                </a:solidFill>
                <a:latin typeface="Arial"/>
              </a:rPr>
              <a:t>tres personas para entrevistar: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125360"/>
            <a:ext cx="82310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El primero estaba muy bien. Conocía todo</a:t>
            </a:r>
            <a:br>
              <a:rPr sz="2400"/>
            </a:b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lo necesario para desempeñar su trabajo y era una persona muyi nteresa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Pero, al final de la entrevista, Jose Antonio le preguntó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"¿Ha notado usted algo especial en mi persona?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Oh si, claro. No pude evitar fijarme en que usted no tiene orejas", fue la respues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cc00"/>
                </a:solidFill>
                <a:latin typeface="Arial"/>
              </a:rPr>
              <a:t>A Jose Antonio no le gusto en absoluto esa demostración de franqueza, y echo al candidato de su oficina.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280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99"/>
                </a:solidFill>
                <a:latin typeface="Arial"/>
              </a:rPr>
              <a:t>La segunda entrevista era con una mujer, y ella era mucho mejor que el primer candidato. Pero luego Jose Antonio le hizo la misma pregu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99"/>
                </a:solidFill>
                <a:latin typeface="Arial"/>
              </a:rPr>
              <a:t>"¿Que ve usted de diferente en mi?". "Bueno", contesto ella, tartamudeando, "a usted le... faltan las orejas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99"/>
                </a:solidFill>
                <a:latin typeface="Arial"/>
              </a:rPr>
              <a:t>Jose Antonio se enojó mucho y la saco a gritos de su ofic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7e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El tercero y último de los entrevistados era el mejor.</a:t>
            </a: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-Era un joven que hacia poco había obtenido su Master. </a:t>
            </a: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-Era muy inteligente. </a:t>
            </a: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-Tenia excelente presencia y parecía ser un mejor hombre de negocios que los dos anteriores juntos. </a:t>
            </a:r>
            <a:br>
              <a:rPr sz="2400"/>
            </a:b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Jose Antonio estaba ansioso, pero igualmente continuó con la rutina y le hizo la misma pregunta:</a:t>
            </a:r>
            <a:br>
              <a:rPr sz="2400"/>
            </a:b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 "¿Tengo algo de diferente respecto a los demás?“... Para sorpresa de Jose Antonio, el joven le contestó:</a:t>
            </a: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 "Por supuesto que si, Usted usa lentes de contacto, ¿verdad?". </a:t>
            </a:r>
            <a:br>
              <a:rPr sz="2400"/>
            </a:br>
            <a:br>
              <a:rPr sz="2400"/>
            </a:br>
            <a:r>
              <a:rPr b="0" lang="ca-ES" sz="2400" spc="-1" strike="noStrike">
                <a:solidFill>
                  <a:srgbClr val="0000a4"/>
                </a:solidFill>
                <a:latin typeface="Arial"/>
              </a:rPr>
              <a:t>Jose Antonio quedo asombrado y se dio cuenta que estaba frente a una persona increíblemente observadora...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8135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00"/>
                </a:solidFill>
                <a:latin typeface="Arial"/>
              </a:rPr>
              <a:t>"¿Como pudo usted saberlo?", le pregunt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00"/>
                </a:solidFill>
                <a:latin typeface="Arial"/>
              </a:rPr>
              <a:t>El joven se empezó a reír y le contestó: 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1320" y="1676160"/>
            <a:ext cx="837396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00a4"/>
                </a:solidFill>
                <a:latin typeface="Arial"/>
              </a:rPr>
              <a:t>...¡¡ Obvio 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ca-ES" sz="4800" spc="-1" strike="noStrike">
                <a:solidFill>
                  <a:srgbClr val="0000a4"/>
                </a:solidFill>
                <a:latin typeface="Arial"/>
              </a:rPr>
              <a:t>¿Donde mierda se va a colgar los lentes si no tiene orejas?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4:15:16Z</dcterms:created>
  <dc:creator/>
  <dc:description/>
  <dc:language>en-US</dc:language>
  <cp:lastModifiedBy>Enrique Briceño</cp:lastModifiedBy>
  <dcterms:modified xsi:type="dcterms:W3CDTF">2006-04-01T04:07:41Z</dcterms:modified>
  <cp:revision>7</cp:revision>
  <dc:subject/>
  <dc:title>Lamentablemente, Jose Antonio había nacido  sin orejas, </dc:title>
</cp:coreProperties>
</file>