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enya%20-%20only%20time.wav" ContentType="audio/x-wav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1D7-441C-46C3-9C85-DA0F3AA0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7DA-488C-42C2-BA6A-99FED024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E63-878F-4B75-8DF0-11ACA472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812-E025-4910-86CC-1BCF6EF3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011-2B4E-42A9-B938-C7226EFF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E29-9CC0-4956-90A9-F7F2997A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F51-691F-47D2-8812-419675B1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37B-16B3-44CD-B0F4-78A9A898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4F3-6F50-477B-BB66-13CF9566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CB7-9F1A-4E8B-AE40-4E51A0E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BFE-4A82-4D89-A910-871F610C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69B-450E-4846-8C9D-5999F9AA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1638-C2B4-4A8F-B607-40E22071E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enya%20-%20only%20time.wav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43200" y="2362320"/>
            <a:ext cx="3048120" cy="2361240"/>
            <a:chOff x="2743200" y="2362320"/>
            <a:chExt cx="3048120" cy="2361240"/>
          </a:xfrm>
        </p:grpSpPr>
        <p:sp>
          <p:nvSpPr>
            <p:cNvPr id="42" name=""/>
            <p:cNvSpPr txBox="1"/>
            <p:nvPr/>
          </p:nvSpPr>
          <p:spPr>
            <a:xfrm>
              <a:off x="2895480" y="2530800"/>
              <a:ext cx="2667240" cy="21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670191"/>
                  <a:gd name="adj2" fmla="val 375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Times New Roman"/>
                </a:rPr>
                <a:t>CHAMPION</a:t>
              </a: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2743200" y="2362320"/>
              <a:ext cx="3048120" cy="2361240"/>
              <a:chOff x="2743200" y="2362320"/>
              <a:chExt cx="3048120" cy="2361240"/>
            </a:xfrm>
          </p:grpSpPr>
          <p:pic>
            <p:nvPicPr>
              <p:cNvPr id="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3920" y="2791080"/>
                <a:ext cx="1066680" cy="10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2819520" y="3642840"/>
                <a:ext cx="297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3300"/>
                    </a:solidFill>
                    <a:latin typeface="Times New Roman"/>
                  </a:rPr>
                  <a:t>PRODUCCION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43200" y="2362320"/>
                <a:ext cx="2971800" cy="2361240"/>
              </a:xfrm>
              <a:prstGeom prst="blockArc">
                <a:avLst>
                  <a:gd name="adj1" fmla="val 10538686"/>
                  <a:gd name="adj2" fmla="val 261314"/>
                  <a:gd name="adj3" fmla="val 2269"/>
                </a:avLst>
              </a:prstGeom>
              <a:solidFill>
                <a:srgbClr val="ffffff"/>
              </a:solidFill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4343040"/>
            <a:ext cx="1676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Presen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63244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66ff"/>
                </a:solidFill>
                <a:latin typeface="Verdana"/>
              </a:rPr>
              <a:t>Avanza solo, enciende los parlantes y dis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5029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ff"/>
                </a:solidFill>
                <a:latin typeface="Times New Roman"/>
              </a:rPr>
              <a:t>El baile de l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59878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ff"/>
                </a:solidFill>
                <a:latin typeface="Verdana"/>
              </a:rPr>
              <a:t>Tema musical: Only time por Eny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 thruBlk="true"/>
    <p:sndAc>
      <p:stSnd>
        <p:snd r:embed="rId4" name="enya%20-%20only%20ti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675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8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3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325"/>
                            </p:stCondLst>
                            <p:childTnLst>
                              <p:par>
                                <p:cTn id="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762120" y="31680"/>
            <a:ext cx="10680840" cy="6902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-53388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Vivir en la Tierra es caro pero ello incluye un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viaje gratis alrededor del sol cada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nó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5790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a vida consiste no en tener buenas cartas, sino en jugar bien las que uno tien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Josh Bi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291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5257800"/>
            <a:ext cx="8839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vida es tan corta y el oficio de vivir tan difícil, que cuando uno empieza a aprenderlo, ya hay que morirs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6338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Ernesto Sáb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76320" y="-2514600"/>
            <a:ext cx="7315200" cy="9448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00800" y="26665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i quieres que algo se haga, encárgaselo a una persona ocupada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39625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-739800"/>
            <a:ext cx="5837400" cy="10798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52578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r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baja como si no necesitaras diner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ma como si nunca te hubieran herido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y baila como si nadie te estuviera mir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a vida es como una leyenda: no importa que sea larga, sino que esté bien narrada.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6248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Lucio Anneo Sén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-685800"/>
            <a:ext cx="5257800" cy="788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579132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Todos los hombres estamos hechos del mismo barro pero no del mismo molde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6338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Mex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7074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9920" y="289548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as mentes grandes discuten ideas; las medianas, cosas; y las pequeñas, persona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44956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C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113600">
            <a:off x="7009920" y="5334120"/>
            <a:ext cx="160020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84" y="2004"/>
                  <a:pt x="11168" y="5080"/>
                  <a:pt x="11168" y="10800"/>
                </a:cubicBezTo>
                <a:cubicBezTo>
                  <a:pt x="11168" y="16520"/>
                  <a:pt x="16384" y="195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303200">
            <a:off x="-914040" y="4568400"/>
            <a:ext cx="2011320" cy="25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84" y="2004"/>
                  <a:pt x="11168" y="5080"/>
                  <a:pt x="11168" y="10800"/>
                </a:cubicBezTo>
                <a:cubicBezTo>
                  <a:pt x="11168" y="16520"/>
                  <a:pt x="16384" y="195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y que subir la montaña como viejo para llegar como jov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6324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c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32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838080"/>
            <a:ext cx="3124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a unión en el rebaño obliga al león a acostarse con hambre.</a:t>
            </a:r>
            <a:br>
              <a:rPr sz="24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981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Times New Roman"/>
              </a:rPr>
              <a:t>Proverbio Afric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33200" y="-457200"/>
            <a:ext cx="5716440" cy="7543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86040" y="609480"/>
            <a:ext cx="342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Cuando la vida te presente razones para llorar, demuéstrale que tienes mil y una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razones para reír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4343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nó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21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57913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tiempo que uno pasa riendo es tiempo que pasa con los di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3300"/>
                </a:solidFill>
                <a:latin typeface="Times New Roman"/>
              </a:rPr>
              <a:t>Proverbio c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5880" y="6248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ital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Una vez terminado el juego, el rey y el peón vuelven a la misma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2030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cuerda que el día en que naciste todos reían y tu llorabas; vive de tal manera que cuando mueras, todos lloren y tu ría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6338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p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791320"/>
            <a:ext cx="79185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jalá vivas todos los días de tu vida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6248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Jonathan Sw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ff"/>
                </a:solidFill>
                <a:latin typeface="Times New Roman"/>
              </a:rPr>
              <a:t>Con este mensaje te mando un gran abr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50"/>
                            </p:stCondLst>
                            <p:childTnLst>
                              <p:par>
                                <p:cTn id="217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90800" y="-76320"/>
            <a:ext cx="5658120" cy="7162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La vida es aquello que te va sucediendo mientras te empeñas en hacer otros planes. 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809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John Len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11240"/>
            <a:ext cx="9296280" cy="6969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4266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vida es un juego del que nadie puede retirarse, llevándose las ganancias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626256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ndré Maur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30840" cy="7162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09720" y="609480"/>
            <a:ext cx="3429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Es curioso que la vida, cuanto más vacía, más pesa.</a:t>
            </a:r>
            <a:br>
              <a:rPr sz="24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22096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León Da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914400" y="-203040"/>
            <a:ext cx="10625040" cy="7061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38880" y="6248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Confu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4864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¿Me preguntas por que compro arroz y flores? Compro arroz para vivir y flores para tener algo por lo que viv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2120" y="4680"/>
            <a:ext cx="10439640" cy="692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29400" y="62625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lbert Ei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396720" y="615960"/>
            <a:ext cx="8474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54864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ay dos maneras de vivir la vida: una como si nada es un milagro, y la otra es como si todo es un milag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80060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 mejor es salir de la vida como de una fiesta, ni sediento ni bebid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ristót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4357800" cy="5257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562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Todos somos aficionados. La vida es tan corta que no da para má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6248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Charles Chap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495680"/>
            <a:ext cx="502920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55:51Z</dcterms:created>
  <dc:creator>Administrador</dc:creator>
  <dc:description/>
  <dc:language>en-US</dc:language>
  <cp:lastModifiedBy>windows</cp:lastModifiedBy>
  <dcterms:modified xsi:type="dcterms:W3CDTF">2010-06-02T16:39:36Z</dcterms:modified>
  <cp:revision>22</cp:revision>
  <dc:subject/>
  <dc:title>FELICIDAD</dc:title>
</cp:coreProperties>
</file>