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sorriso_wave.wav" ContentType="audio/x-wav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5C7-938C-4827-B4AD-FDCFD07F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709-B56A-4FB8-9E54-66AA2A17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2C36-6321-4CF1-AC07-437EC8DE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1EF-D040-442F-9313-6F0AD5DB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E907-435C-4B72-A1E0-A1094DFD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0BB-5321-4F43-B068-E2D6239A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2942-5937-4F5C-B439-DCC243C4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98F-C8FB-4ED9-9691-CFDF27D8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414-0202-4D12-B55E-87F2925D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61AA-CECD-432A-80DA-F93D93E6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394-74AC-46DB-AC3A-F631AB98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BA6-F04D-423D-A973-1D5C34C7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A20B-9211-4284-9883-7A93F7849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sorriso_wave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290664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l Milagro d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dición Dig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80920" y="12384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13744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137440" cy="5816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81640" y="12384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73280" y="12384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509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50990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74000" y="12384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571720" y="12384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51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5165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572440" y="12384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72080" y="12384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478944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571000" y="12384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espu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74600"/>
            <a:ext cx="9144000" cy="7032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457200"/>
            <a:ext cx="3200400" cy="203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981000"/>
            <a:ext cx="55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Sonríe!  Es faci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0062200">
            <a:off x="5967720" y="604440"/>
            <a:ext cx="33717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nvialo a tus ami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Todos necesitamos sonreir un poc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sorriso_wav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5286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80920" y="12384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9840" cy="1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5284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81640" y="12384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165280" y="12384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45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4528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40440" y="12384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9608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668560" y="12384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9608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53440" y="1159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36306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68560" y="12384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36306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69280" y="12384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3:56:11Z</dcterms:created>
  <dc:creator>FREIRMA</dc:creator>
  <dc:description/>
  <dc:language>en-US</dc:language>
  <cp:lastModifiedBy>Usuario</cp:lastModifiedBy>
  <dcterms:modified xsi:type="dcterms:W3CDTF">2009-05-05T16:25:51Z</dcterms:modified>
  <cp:revision>5</cp:revision>
  <dc:subject/>
  <dc:title>Slide 1</dc:title>
</cp:coreProperties>
</file>