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488-FD78-4E27-917A-5D8BC0A1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361-4985-4880-845B-05BB6EA1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973-0530-4338-834D-54279CE4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401-4C0E-4198-908C-1A156AA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6D4-4DB1-4639-ACF3-9971BFD3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2B4-640D-4F36-836C-D239171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945-BD1E-4B9C-9380-BEA7BED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2EE-B4AA-451C-949F-BEC1C1E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7FC-A0A3-48DA-92AC-50EE48B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6CC-D3E6-4C95-A7C1-2A792F81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31C-97AB-406F-B6C6-22A9293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559-AEF7-4C56-B5DD-6A8E3B2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153-C061-416E-8185-CFDB4947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9066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 Milagr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dición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809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816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328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400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717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724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571000" y="123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spu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55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onríe!  Es faci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062200">
            <a:off x="5967720" y="604440"/>
            <a:ext cx="3371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vialo a tus 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odos necesitamos sonreir un poc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809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816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6528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04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6856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3440" y="115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856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6928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56:11Z</dcterms:created>
  <dc:creator>FREIRMA</dc:creator>
  <dc:description/>
  <dc:language>en-US</dc:language>
  <cp:lastModifiedBy>Usuario</cp:lastModifiedBy>
  <dcterms:modified xsi:type="dcterms:W3CDTF">2009-05-05T16:25:51Z</dcterms:modified>
  <cp:revision>5</cp:revision>
  <dc:subject/>
  <dc:title>Slide 1</dc:title>
</cp:coreProperties>
</file>